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3D5-08F3-40E6-905E-07F2DF84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7FE-CD20-4ECC-937C-9AECE5A4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4EF-FC8C-4557-A213-4E09F6368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38A-373B-4EDE-81E2-7F1F850B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D82F-F070-48B7-9A52-502F412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481-AED9-452F-BD49-DA208938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2FE3-833D-45D7-8E25-00B50E16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D59-71E0-42D0-B489-F5C9AE3B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8ADD-A841-4F6A-97EA-14F4B8159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EFE8-7E2E-47E4-8251-FDC3F6F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0086-ADF2-4544-AB74-C95B0E1F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9D8-3E25-4E10-A0AE-A943ACF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10C1-013A-412A-9E16-A39DB8917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os de intervención : 1. Espaci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Homogenizar al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lidad ejemp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spec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manualmente, con operarios especiali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dimiento primer clareo : 6 a 10 jornadas por hect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odic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depende de velocidad de crecimiento de la regen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Pino o rebrote de cepa de Eucalipto --------&gt; 2 a 3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Raulí, Roble o Coihue ------------------------&gt; 5 a 6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t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lareos : Pino o Eucalipto ------------&gt; 2 a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ulí, Roble o Coihue --------------&gt; 3 a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etapas de repoblado, monte bravo bajo o al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regeneración que se desea manejar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rta de Lib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:    - Flor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námica vege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 de proceder : - Corta de los ejemplares mad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ill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limpia o clare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 en la etapa de latizal o inicios de fus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ment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bosques anteriormente sin mane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eliminar competencia vertical producida por grandes árboles de especie distinta a la objeto de manej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rta de Mejor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 de la situación y forma de intervenir similar a caso anter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ón puede coincidir con necesidad de ral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14400" y="317520"/>
          <a:ext cx="7391520" cy="615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317520"/>
                    <a:ext cx="739152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imes New Roman"/>
              </a:rPr>
              <a:t>Corta Sanitaria o de Salv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eventuales, no establecidas en programa silvicul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inadas a controlar propagación de plagas y enfermedades o bien, aprovechar madera en árboles mue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ciones silviculturales que se aplican al rodal una vez finalizado el proceso de regeneración (natural o artificial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longan hasta el término de la rotación, cuando nuevamente se cosecha y regenera el rod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tivo fundament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-----&gt; mejorar condiciones de desarrollo de los ejemplares seleccionados para la entrega de los productos fin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mentariamente con la regeneración, conforman el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icultural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ecido en el respectivo plan de orden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ortas Intermed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bosques nativos anteriormente sin manejo, según estado actual de la vegetación, pueden constituir la primera intervención para iniciar el mane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general, se extraen ejemplares de calidad inferior que los rema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tapas de desarrollo de un rod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ur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)     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.A.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cm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Repoblado (brinzal)         &lt; 1   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onte bravo bajo             1 - 3                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Monte bravo alto             &gt; 3                &lt; 10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Latizal                                --                10 - 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Fustal                                --                 &gt;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Clasificación de las cortas intermed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imp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lar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rta de lib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Corta de mejor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Cortas sanitarias y de salv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Ral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o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s de repoblado y de monte bravo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eneración compite con hierbas, arbustos y retoños de toc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vertical producida por la maleza que afecta crecimiento y, eventualmente, elimina re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Limp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pias se aplican en forma manual o con herbic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nguir limpias de preparación del sitio con las de cortas intermed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cio y periodicidad de limpias depende de la agresividad de la maleza y de la velocidad de crecimiento de la regeneración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r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realizan en etapa de monte bravo alto. Gran número de ejempl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esidad de controlar competencia horizontal producida entre ejemplares de regen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01:38Z</dcterms:created>
  <dc:creator>Administrador</dc:creator>
  <dc:description/>
  <dc:language>en-US</dc:language>
  <cp:lastModifiedBy>Administrador</cp:lastModifiedBy>
  <dcterms:modified xsi:type="dcterms:W3CDTF">2007-10-28T16:07:36Z</dcterms:modified>
  <cp:revision>5</cp:revision>
  <dc:subject/>
  <dc:title>Cortas Intermedias</dc:title>
</cp:coreProperties>
</file>