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C42-0C87-4880-90EF-53478DE7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D38-D480-4A1E-8210-9D8E0A56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E10-C593-4F02-B034-AE7B83DF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A89-9541-4283-AE2D-15A1FA0A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800-57A4-45AE-9A95-A656AE0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115-E095-4C8C-B027-8D17074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CD8-0DD2-499D-B7C9-55B49605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9D8-D7DB-4ACF-B743-ADFDDB6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B01-6CCB-4E84-A47A-3E1E6B9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5AA-9559-4A9F-AA1F-8A757626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4AD-5066-4C51-8DDA-ACB9C4B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520-A941-4475-AB1E-E06554D5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6BF-89B8-4C80-B217-6CDC4D44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 de intervención : 1. Espa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omogenizar a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lidad ejemp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manualmente, con operarios especi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imiento primer clareo : 6 a 10 jornadas por hect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depende de velocidad de crecimiento de la regen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ino o rebrote de cepa de Eucalipto --------&gt; 2 a 3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aulí, Roble o Coihue ------------------------&gt; 5 a 6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: Pino o Eucalipto ------------&gt; 2 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ulí, Roble o Coihue --------------&gt; 3 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etapas de repoblado, monte bravo bajo 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regeneración que se desea manej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:    - Flo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námica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proceder : - Corta de los ejemplares mad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i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limpia o clare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la etapa de latizal o inicios de fu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objeto de mane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y forma de intervenir similar a caso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ra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14400" y="317520"/>
          <a:ext cx="739152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17520"/>
                    <a:ext cx="73915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orta Sanitaria o de Salv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eventuales, no establecidas en programa silvi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das a controlar propagación de plagas y enfermedades o bien, aprovechar madera en árboles mu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silviculturales que se aplican al rodal una vez finalizado el proceso de regeneración (natural o artifici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longan hasta el término de la rotación, cuando nuevamente se cosecha y regenera el rod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 fundament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------&gt; mejorar condiciones de desarrollo de los ejemplares seleccionados para la entrega de los productos f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iamente con la regeneración, conforman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icultur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ido en el respectivo plan de orde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osques nativos anteriormente sin manejo, según estado actual de la vegetación, pueden constituir la primera intervención para iniciar 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extraen ejemplares de calidad inferior que los rema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tapas de desarrollo de un ro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)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.A.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cm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poblado (brinzal)         &lt; 1   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onte bravo bajo             1 - 3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nte bravo alto             &gt; 3                &lt; 10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Latizal                                --                10 - 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Fustal                                --                 &g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lasificación de las cortas intermed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im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rta de 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rta de mejo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ortas sanitarias y de sal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Ral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o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s de repoblado y de monte bravo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ción compite con hierbas, arbustos y retoños de toc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vertical producida por la maleza que afecta crecimiento y, eventualmente, elimina re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pias se aplican en forma manual o con herbi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ir limpias de preparación del sitio con las de cortas interme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o y periodicidad de limpias depende de la agresividad de la maleza y de la velocidad de crecimiento de la regener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 de monte bravo alto. Gran número de ejemp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horizontal producida entre ejemplares de re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01:38Z</dcterms:created>
  <dc:creator>Administrador</dc:creator>
  <dc:description/>
  <dc:language>en-US</dc:language>
  <cp:lastModifiedBy>Administrador</cp:lastModifiedBy>
  <dcterms:modified xsi:type="dcterms:W3CDTF">2007-10-28T16:07:36Z</dcterms:modified>
  <cp:revision>5</cp:revision>
  <dc:subject/>
  <dc:title>Cortas Intermedias</dc:title>
</cp:coreProperties>
</file>