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9B5B-E782-482D-AB9C-C240278F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25B9-0F58-4643-995B-2643B5B8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3AC3-6823-4C7A-803E-A04C4287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9F29-AB8F-4C23-A770-EC255489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513F-2FBB-4C99-BBAD-966DEC35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E3EF-4D1B-4563-8A0B-A60A321E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D485-26DC-42EE-8F9C-A80E7DC9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7C3B-BB25-4EEA-B2E4-21E0CC74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C91C-EFD4-44CF-AAE9-7FAF3AFB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DCA5-F393-42F8-AD24-760617FE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57B7-4570-4BA6-BB8C-DEDB02AD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D15-D89A-4268-A5A3-71D0EEF5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572D-985E-4460-9C23-FC0F61B7B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rtas Interme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ener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re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erios de intervención : 1. Espaci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Homogenizar al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alidad ejemp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Espec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aliza manualmente, con operarios especializ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imiento primer clareo : 6 a 10 jornadas por hect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lar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odicida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clareos depende de velocidad de crecimiento de la regen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Pino o rebrote de cepa de Eucalipto --------&gt; 2 a 3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Raulí, Roble o Coihue ------------------------&gt; 5 a 6 añ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tida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clareos : Pino o Eucalipto ------------&gt; 2 a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ulí, Roble o Coihue --------------&gt; 3 a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rta de Libe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aliza en etapas de repoblado, monte bravo bajo o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am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bosques anteriormente sin mane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idad de eliminar competencia vertical producida por grandes árboles de especie distinta a la regeneración que se desea manejar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rta de Lib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en de la situación :    - Flo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inámica vege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 de proceder : - Corta de los ejemplares madu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nill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ción puede coincidir con necesidad de limpia o clare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orta de Mejor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aliza en la etapa de latizal o inicios de fus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am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bosques anteriormente sin mane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idad de eliminar competencia vertical producida por grandes árboles de especie distinta a la objeto de manej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orta de Mejor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en de la situación y forma de intervenir similar a caso ant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ción puede coincidir con necesidad de ra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914400" y="317520"/>
          <a:ext cx="7391520" cy="615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317520"/>
                    <a:ext cx="739152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Corta Sanitaria o de Salvam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ciones eventuales, no establecidas en programa silvicul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adas a controlar propagación de plagas y enfermedades o bien, aprovechar madera en árboles mue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rtas Interme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ciones silviculturales que se aplican al rodal una vez finalizado el proceso de regeneración (natural o artificial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olongan hasta el término de la rotación, cuando nuevamente se cosecha y regenera el rod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rtas Interme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ivo fundament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------&gt; mejorar condiciones de desarrollo de los ejemplares seleccionados para la entrega de los productos fin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mentariamente con la regeneración, conforman el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vicultur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ecido en el respectivo plan de orden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rtas Interme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bosques nativos anteriormente sin manejo, según estado actual de la vegetación, pueden constituir la primera intervención para iniciar el mane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general, se extraen ejemplares de calidad inferior que los reman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tapas de desarrollo de un rod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tur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)     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.A.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cm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Repoblado (brinzal)         &lt; 1                   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Monte bravo bajo             1 - 3                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Monte bravo alto             &gt; 3                &lt; 10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Latizal                                --                10 - 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Fustal                                --                 &gt;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Clasificación de las cortas intermed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Limp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lar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orta de lib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Corta de mejor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Cortas sanitarias y de salv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Ral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Po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Limp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alizan en etapas de repoblado y de monte bravo 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eneración compite con hierbas, arbustos y retoños de toc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idad de controlar competencia vertical producida por la maleza que afecta crecimiento y, eventualmente, elimina regen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imp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pias se aplican en forma manual o con herbic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inguir limpias de preparación del sitio con las de cortas intermed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cio y periodicidad de limpias depende de la agresividad de la maleza y de la velocidad de crecimiento de la regeneració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re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alizan en etapa de monte bravo alto. Gran número de ejemp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idad de controlar competencia horizontal producida entre ejemplares de regen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16:01:38Z</dcterms:created>
  <dc:creator>Administrador</dc:creator>
  <dc:description/>
  <dc:language>en-US</dc:language>
  <cp:lastModifiedBy>Administrador</cp:lastModifiedBy>
  <dcterms:modified xsi:type="dcterms:W3CDTF">2007-10-28T16:07:36Z</dcterms:modified>
  <cp:revision>5</cp:revision>
  <dc:subject/>
  <dc:title>Cortas Intermedias</dc:title>
</cp:coreProperties>
</file>