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3C54-F4A7-4643-B52D-EEB7F46BF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DAAE-BBFA-4256-A5A2-94F1EFCD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2972-3FE3-4255-B99A-36C5492E0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3376-3870-4F2E-A474-2D73E507A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ABA6-A5A2-4FA4-88AF-1BC285FF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56FC-AA49-4E85-8C07-4E5F76FF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226D-B4CA-4561-B798-F633FE46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AE4B-B2AB-41CD-A317-02F139E2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A740-2B59-4FE1-B7C6-50CC7DE5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5EE7-C367-4D13-A349-6D3CCACA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CDC8-F2A9-44C8-A46F-D720D40D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F055-1BE4-4D79-AAB2-1D58FEB3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EF7E-D61F-482C-8BBE-FD134961A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ortas Intermed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Genera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lare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terios de intervención : 1. Espaci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Homogenizar al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Calidad ejemp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Espec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realiza manualmente, con operarios especializ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dimiento primer clareo : 6 a 10 jornadas por hectá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lare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odicida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clareos depende de velocidad de crecimiento de la regene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Pino o rebrote de cepa de Eucalipto --------&gt; 2 a 3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Raulí, Roble o Coihue ------------------------&gt; 5 a 6 añ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tida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clareos : Pino o Eucalipto ------------&gt; 2 a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ulí, Roble o Coihue --------------&gt; 3 a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orta de Libe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realiza en etapas de repoblado, monte bravo bajo o al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ament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bosques anteriormente sin mane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esidad de eliminar competencia vertical producida por grandes árboles de especie distinta a la regeneración que se desea manejar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orta de Lib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en de la situación :    - Flor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inámica vege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 de proceder : - Corta de los ejemplares madu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nill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ención puede coincidir con necesidad de limpia o clare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Corta de Mejor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realiza en la etapa de latizal o inicios de fus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ament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bosques anteriormente sin mane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esidad de eliminar competencia vertical producida por grandes árboles de especie distinta a la objeto de manej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Corta de Mejor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en de la situación y forma de intervenir similar a caso anter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ención puede coincidir con necesidad de ral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914400" y="317520"/>
          <a:ext cx="7391520" cy="615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317520"/>
                    <a:ext cx="7391520" cy="61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Corta Sanitaria o de Salvam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enciones eventuales, no establecidas en programa silvicul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inadas a controlar propagación de plagas y enfermedades o bien, aprovechar madera en árboles muer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ortas Intermed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enciones silviculturales que se aplican al rodal una vez finalizado el proceso de regeneración (natural o artificial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rolongan hasta el término de la rotación, cuando nuevamente se cosecha y regenera el rod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ortas Intermed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tivo fundament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-------&gt; mejorar condiciones de desarrollo de los ejemplares seleccionados para la entrega de los productos fin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mentariamente con la regeneración, conforman el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lvicultur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ablecido en el respectivo plan de orden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ortas Intermed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bosques nativos anteriormente sin manejo, según estado actual de la vegetación, pueden constituir la primera intervención para iniciar el mane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general, se extraen ejemplares de calidad inferior que los reman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Etapas de desarrollo de un rod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ltur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)     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.A.P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(cm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Repoblado (brinzal)         &lt; 1                   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Monte bravo bajo             1 - 3                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Monte bravo alto             &gt; 3                &lt; 10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Latizal                                --                10 - 3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Fustal                                --                 &gt; 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Clasificación de las cortas intermed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Limp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lare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Corta de libe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Corta de mejor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Cortas sanitarias y de salv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Rale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Po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Limp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realizan en etapas de repoblado y de monte bravo 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eneración compite con hierbas, arbustos y retoños de toc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esidad de controlar competencia vertical producida por la maleza que afecta crecimiento y, eventualmente, elimina regen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Limp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pias se aplican en forma manual o con herbic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inguir limpias de preparación del sitio con las de cortas intermed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cio y periodicidad de limpias depende de la agresividad de la maleza y de la velocidad de crecimiento de la regeneració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lare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realizan en etapa de monte bravo alto. Gran número de ejempl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esidad de controlar competencia horizontal producida entre ejemplares de regene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16:01:38Z</dcterms:created>
  <dc:creator>Administrador</dc:creator>
  <dc:description/>
  <dc:language>en-US</dc:language>
  <cp:lastModifiedBy>Administrador</cp:lastModifiedBy>
  <dcterms:modified xsi:type="dcterms:W3CDTF">2007-10-28T16:07:36Z</dcterms:modified>
  <cp:revision>5</cp:revision>
  <dc:subject/>
  <dc:title>Cortas Intermedias</dc:title>
</cp:coreProperties>
</file>