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6F8-741B-4135-8A6E-2E50A74E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D7E-B98A-4361-966E-722A9460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48C1-A484-45A8-A45A-832C4E73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4B3-03DA-429F-BCE1-E9F36C51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184-AF45-4BF2-A97A-28E11115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38C-2959-4222-AB7A-A1E14E58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8C77-EFB3-4131-A652-4F66E74A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2F1-6C68-4F50-85AD-CD579757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E9B-3435-4B1A-9C85-80D052E5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6A7F-ED62-42A3-8655-813EE3FF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F0D-7711-4FDC-BFDA-A19513E6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540-5F48-43EC-A6B2-42156D9F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4ED8-3ABB-462B-A307-42E65370C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caflor de Juan Fernánd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446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ephanoides fernanden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démico de la isla Robinson Cruz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abita arbustos y matorrales de la i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cho de color rojizo y hembra de color verde bril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2520720" cy="172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651640" y="321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m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51640" y="3933720"/>
            <a:ext cx="2592360" cy="1876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65164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476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557360"/>
            <a:ext cx="3743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inoderma Darwi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osques de la selva Valdiviana y sus alre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 supera los 4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entre de color blanco y ne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cie preincipalmente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ubación  de tipo neome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Vaqu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038480" cy="303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4788000" y="5013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620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d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700280"/>
            <a:ext cx="3600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- Pudu Pu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ervo más pequeño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Hervívoro rum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hembra da una única c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Machos son monóg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248000" cy="31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500720" y="486900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ía de un Pud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47628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413000"/>
            <a:ext cx="36003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uma c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elino má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ango de distribución mas amplio que cualquier otro mamífero de Améric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posible encontrarlo9 en estepas, y zonas con predominio de quila y maq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mamíferos, como liebres, conejos, vizcach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eloces corredores y habiles trep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puma no ruge, sino ronro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319640" cy="2878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572000" y="4365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549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cu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13000"/>
            <a:ext cx="331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Vicugna vicu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pecie más pequeña de los camélidos sudameric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distribuye desde el ecuador hasta el norte de chile y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abita las altiplan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on hervíboros solve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loración de la lana de la vicu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311360" cy="26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500720" y="393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uñas descans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47628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zca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57360"/>
            <a:ext cx="381636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desde arica hasta Ultima esperanza desde los 600 a los 5.000 mts. de a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laje largo y tup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erpo pequeño y enorme cola con pelos lar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 color amarillento en la zona norte y de color grisáceo en la zona 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cido a una liebre, salvo por la 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3503520" cy="518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4859280" y="5950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620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Zorro de Culp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628640"/>
            <a:ext cx="3816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culpa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zona de matorrales deser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zorro ma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tiliza muchos tipos de há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en regiones altas a lo largo de los an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za por el valor de su p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roedores, liebres, a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3961080" cy="297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4788000" y="4724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rro Culp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476280"/>
            <a:ext cx="88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Zorro de Darwin o de Chilo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628640"/>
            <a:ext cx="41054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la isla de Chilo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mas pequeño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los bosques densos y los mator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 de ratoncitos, lagartijas, pájaros, insectos y lar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cola es larga y pelu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do de conservación: vuln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981600" cy="264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4932360" y="479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484280"/>
            <a:ext cx="36720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Nothoprocta perdi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démico. Desde el sur de Atacama hasta Ñ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campos de pastizales, matorrales, arbustos bajos y cultiv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lumaje de color caf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mbra de mayor tamaño que el ma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n de semillas e inse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ecie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3888000" cy="3368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859280" y="537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40464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rsupiales presentes en Chi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700280"/>
            <a:ext cx="4608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presentados por cuatro e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- thylamys elegan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hylamys pallidior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 de la Pu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yncholestes raphanuru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omadrejita trompu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romiciops gliroi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Monito del mo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2521080" cy="2374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796000" y="3933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l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71640" y="4365720"/>
            <a:ext cx="2089440" cy="1655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627280" y="6093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ito del m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5:58:31Z</dcterms:created>
  <dc:creator>Familia Melo Urra</dc:creator>
  <dc:description/>
  <dc:language>en-US</dc:language>
  <cp:lastModifiedBy>Jessica</cp:lastModifiedBy>
  <dcterms:modified xsi:type="dcterms:W3CDTF">2007-11-11T19:14:01Z</dcterms:modified>
  <cp:revision>4</cp:revision>
  <dc:subject/>
  <dc:title>Diapositiva 1</dc:title>
</cp:coreProperties>
</file>