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2FA-C717-4B47-9E47-61CC0289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85C-C316-48BE-B6BA-90368A3C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907-E990-468B-B287-3DC3AB16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903-D8B4-4BE4-A0D6-F6949B6D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1D5-320D-478F-8CF3-AB31A1B3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116E-5F60-4A05-8D34-B8E02CB5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6AB-CF3C-489E-9903-6D777D1C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1DA-6AF0-46C9-B018-6F866EC8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F5E-5B86-469D-91BA-3212EBA3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B66-747F-4AF9-9C1A-AE930791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836-CBAC-4624-8971-54726341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8FA-6FAD-4B6D-9FA6-BF2E391E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C6F0-C07E-44A6-8C1E-1AA420CBA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caflor de Juan Fernánd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446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ephanoides fernanden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démico de la isla Robinson Cruz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abita arbustos y matorrales de la i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cho de color rojizo y hembra de color verde bril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2520720" cy="172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651640" y="32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51640" y="3933720"/>
            <a:ext cx="2592360" cy="1876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65164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476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557360"/>
            <a:ext cx="3743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inoderma Darwi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osques de la selva Valdiviana y sus alre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 supera los 4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entre de color blanco y 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cie preincipalmente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ubación  de tipo neome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Vaqu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038480" cy="303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4788000" y="5013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620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d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700280"/>
            <a:ext cx="3600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- Pudu Pu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ervo más pequeño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Hervívoro rum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hembra da una única c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Machos son monóg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248000" cy="31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500720" y="486900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ía de un Pud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7628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413000"/>
            <a:ext cx="3600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uma c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elino má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ango de distribución mas amplio que cualquier otro mamífero de Améric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posible encontrarlo9 en estepas, y zonas con predominio de quila y maq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mamíferos, como liebres, conejos, vizcach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eloces corredores y habiles trep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puma no ruge, sino ronro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319640" cy="287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572000" y="4365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549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cu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13000"/>
            <a:ext cx="331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Vicugna vicu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pecie más pequeña de los camélidos sudameric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distribuye desde el ecuador hasta el norte de chile y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abita las altiplan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on hervíboros solve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oración de la lana de la vicu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311360" cy="26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500720" y="393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uñas descans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47628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zca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57360"/>
            <a:ext cx="381636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desde arica hasta Ultima esperanza desde los 600 a los 5.000 mts. de a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laje largo y tup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erpo pequeño y enorme cola con pelos lar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 color amarillento en la zona norte y de color grisáceo en la zona 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cido a una liebre, salvo por la 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3503520" cy="518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4859280" y="5950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620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Zorro de Culp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628640"/>
            <a:ext cx="3816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culpa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zona de matorrales deser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zorro ma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tiliza muchos tipos de há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en regiones altas a lo largo de los an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za por el valor de su p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roedores, liebres, a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961080" cy="297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788000" y="4724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rro Cul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476280"/>
            <a:ext cx="88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Zorro de Darwin o de Chilo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628640"/>
            <a:ext cx="41054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la isla de Chilo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mas pequeñ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los bosques densos y los mator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 de ratoncitos, lagartijas, pájaros, insectos y lar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cola es larga y pelu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do de conservación: vuln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981600" cy="264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932360" y="479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484280"/>
            <a:ext cx="36720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Nothoprocta perd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démico. Desde el sur de Atacama hasta Ñ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campos de pastizales, matorrales, arbustos bajos y cultiv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lumaje de color 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bra de mayor tamaño que el ma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n de semillas e inse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ecie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3888000" cy="3368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859280" y="537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40464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rsupiales presentes en Ch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700280"/>
            <a:ext cx="4608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presentados por cuatro e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- thylamys elegan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hylamys pallidior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 de la Pu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yncholestes raphanuru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omadrejita trompu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romiciops gliroi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Monito del mo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2521080" cy="2374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796000" y="3933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l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71640" y="4365720"/>
            <a:ext cx="2089440" cy="165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627280" y="6093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to del m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5:58:31Z</dcterms:created>
  <dc:creator>Familia Melo Urra</dc:creator>
  <dc:description/>
  <dc:language>en-US</dc:language>
  <cp:lastModifiedBy>Jessica</cp:lastModifiedBy>
  <dcterms:modified xsi:type="dcterms:W3CDTF">2007-11-11T19:14:01Z</dcterms:modified>
  <cp:revision>4</cp:revision>
  <dc:subject/>
  <dc:title>Diapositiva 1</dc:title>
</cp:coreProperties>
</file>