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E629-E4CE-4EC6-8488-9B7673245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380E-5D71-45F0-B8C5-3ABDBFB04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C682-EDDF-4307-B0C4-C54B0B36D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086F-5247-4CE8-86A6-69CAE83D4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A285-D4C7-45B2-8DAE-3AD09BCBC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332E-08F6-4258-B834-3070C001D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5138-F563-4AC9-953E-33E366631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F112-8813-420A-8916-D1B13C74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BE21-2A25-497C-AC6D-530413DE6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006E-6EB5-4252-940A-65C56B1E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7687-0E81-47C4-A54E-E6CEB244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0464-642E-4AB3-9733-33217F77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F0CB6-CC78-4396-B646-0C54317DD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47628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icaflor de Juan Fernánde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1484280"/>
            <a:ext cx="44640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Sephanoides fernanden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ndémico de la isla Robinson Cruz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Habita arbustos y matorrales de la is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Macho de color rojizo y hembra de color verde brill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n peligro de exti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651640" y="1341360"/>
            <a:ext cx="2520720" cy="1727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5651640" y="32130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m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651640" y="3933720"/>
            <a:ext cx="2592360" cy="1876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5651640" y="6093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24000" y="47628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apito de Darw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8360" y="1557360"/>
            <a:ext cx="37432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Rhinoderma Darwin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Bosques de la selva Valdiviana y sus alred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No supera los 4 c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Vientre de color blanco y neg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spcie preincipalmente chil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ncubación  de tipo neomel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apito Vaqu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788000" y="1700280"/>
            <a:ext cx="4038480" cy="3033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4788000" y="501336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apito de darw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11280" y="620640"/>
            <a:ext cx="63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ud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628640"/>
            <a:ext cx="39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1700280"/>
            <a:ext cx="360036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- Pudu Pu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iervo más pequeño del mu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Hervívoro rumi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La hembra da una única cr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Machos son monóga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Peligro de exti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427640" y="1413000"/>
            <a:ext cx="4248000" cy="3186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4500720" y="4869000"/>
            <a:ext cx="41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ía de un Pud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68360" y="476280"/>
            <a:ext cx="59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uma Chile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1413000"/>
            <a:ext cx="3600360" cy="50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Puma con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Felino más grande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ango de distribución mas amplio que cualquier otro mamífero de América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s posible encontrarlo9 en estepas, y zonas con predominio de quila y maqu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reda sobre mamíferos, como liebres, conejos, vizcacha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Veloces corredores y habiles trep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l puma no ruge, sino ronron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427640" y="1197000"/>
            <a:ext cx="4319640" cy="2878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4572000" y="436572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ma chil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9640" y="54936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Vicuñ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1413000"/>
            <a:ext cx="3311640" cy="49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Vicugna vicug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specie más pequeña de los camélidos sudamerica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Se distribuye desde el ecuador hasta el norte de chile y argen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Habita las altiplani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Son hervíboros solvest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Valoración de la lana de la vicuñ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00720" y="907920"/>
            <a:ext cx="4311360" cy="2691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4500720" y="393372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cuñas descans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26920" y="476280"/>
            <a:ext cx="58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Vizcach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1557360"/>
            <a:ext cx="3816360" cy="49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Lagidium visca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distribuye desde arica hasta Ultima esperanza desde los 600 a los 5.000 mts. de altu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elaje largo y tup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uerpo pequeño y enorme cola con pelos larg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e color amarillento en la zona norte y de color grisáceo en la zona s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arecido a una liebre, salvo por la co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859280" y="476280"/>
            <a:ext cx="3503520" cy="5184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4859280" y="595008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Lagidium visca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9640" y="620640"/>
            <a:ext cx="73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Zorro de Culpe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9640" y="1628640"/>
            <a:ext cx="38163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Dusicyon culpa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abita en zona de matorrales deser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s el zorro mas grande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Utiliza muchos tipos de hábit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distribuye en regiones altas a lo largo de los an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aza por el valor de su pi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reda sobre roedores, liebres, a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643280" y="1484280"/>
            <a:ext cx="3961080" cy="2971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4788000" y="472428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orro Culp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24000" y="476280"/>
            <a:ext cx="8820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Zorro de Darwin o de Chilo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1628640"/>
            <a:ext cx="4105440" cy="39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Dusicyon fulvi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abita en la isla de Chilo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s el mas pequeño del paí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abita los bosques densos y los matorr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alimenta de ratoncitos, lagartijas, pájaros, insectos y larv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u cola es larga y pelu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stado de conservación: vulner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716360" y="1844640"/>
            <a:ext cx="3981600" cy="2648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4932360" y="479736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Dusicyon fulvi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55640" y="47628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erdiz Chile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1484280"/>
            <a:ext cx="3672000" cy="46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Nothoprocta perdic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ndémico. Desde el sur de Atacama hasta Ñu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abita campos de pastizales, matorrales, arbustos bajos y cultiv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lumaje de color caf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embra de mayor tamaño que el mach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alimentan de semillas e insec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specie proteg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859280" y="1773360"/>
            <a:ext cx="3888000" cy="3368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4859280" y="53737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rdiz chil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11280" y="404640"/>
            <a:ext cx="82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arsupiales presentes en Chi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700280"/>
            <a:ext cx="460872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epresentados por cuatro espec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- thylamys elegans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(lla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Thylamys pallidior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(llaca de la Pu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Rhyncholestes raphanurus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(comadrejita trompu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Dromiciops gliroid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(Monito del mo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580000" y="1341360"/>
            <a:ext cx="2521080" cy="2374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5796000" y="393372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la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771640" y="4365720"/>
            <a:ext cx="2089440" cy="16556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627280" y="609300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nito del mo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05:58:31Z</dcterms:created>
  <dc:creator>Familia Melo Urra</dc:creator>
  <dc:description/>
  <dc:language>en-US</dc:language>
  <cp:lastModifiedBy>Jessica</cp:lastModifiedBy>
  <dcterms:modified xsi:type="dcterms:W3CDTF">2007-11-11T19:14:01Z</dcterms:modified>
  <cp:revision>4</cp:revision>
  <dc:subject/>
  <dc:title>Diapositiva 1</dc:title>
</cp:coreProperties>
</file>