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00F8-B544-4BFB-8447-E633CDBC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F17-37E6-40CC-9FCD-2BDACD0D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824-9C6D-4951-9A94-4164ED37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EBB4-61E2-4D28-9170-43AC77AD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D4E8-F59E-4D28-817B-7F869D8D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F55-2203-4729-85F4-E2DEF732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61DE-62E2-425F-9110-EC6DE0B2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953E-BE47-480F-BE7F-F810000E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3679-80A2-4C7A-BD04-55E129F9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8E64-E1EA-47DE-9DD4-23A0762E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0CC2-E593-423D-B7A1-9BA77B45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D202-E259-47BA-ADA0-40D39E39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AC86-DE4A-4D17-80C0-AF775D2B1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caflor de Juan Fernánd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1484280"/>
            <a:ext cx="44640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ephanoides fernanden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démico de la isla Robinson Cruz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Habita arbustos y matorrales de la is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cho de color rojizo y hembra de color verde bril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n 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51640" y="1341360"/>
            <a:ext cx="2520720" cy="1727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5651640" y="3213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651640" y="3933720"/>
            <a:ext cx="2592360" cy="1876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565164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47628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1557360"/>
            <a:ext cx="3743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inoderma Darwi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osques de la selva Valdiviana y sus alred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 supera los 4 c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entre de color blanco y neg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cie preincipalmente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cubación  de tipo neomel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Vaqu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038480" cy="3033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4788000" y="501336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apito de dar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11280" y="62064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d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360036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- Pudu Pu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iervo más pequeño d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Hervívoro rum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La hembra da una única c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Machos son monóg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Peligro de exti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427640" y="1413000"/>
            <a:ext cx="4248000" cy="31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4500720" y="4869000"/>
            <a:ext cx="41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ía de un Pud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47628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413000"/>
            <a:ext cx="360036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uma con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elino má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ango de distribución mas amplio que cualquier otro mamífero de América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posible encontrarlo9 en estepas, y zonas con predominio de quila y maqu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mamíferos, como liebres, conejos, vizcacha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eloces corredores y habiles trep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puma no ruge, sino ronron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27640" y="1197000"/>
            <a:ext cx="4319640" cy="2878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4572000" y="4365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ma chi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549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cuñ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1413000"/>
            <a:ext cx="331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Vicugna vicu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pecie más pequeña de los camélidos sudameric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e distribuye desde el ecuador hasta el norte de chile y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abita las altiplan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Son hervíboros solvest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loración de la lana de la vicuñ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00720" y="907920"/>
            <a:ext cx="4311360" cy="2691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4500720" y="393372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cuñas descans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26920" y="47628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izca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57360"/>
            <a:ext cx="381636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desde arica hasta Ultima esperanza desde los 600 a los 5.000 mts. de altu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elaje largo y tup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uerpo pequeño y enorme cola con pelos lar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color amarillento en la zona norte y de color grisáceo en la zona s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ecido a una liebre, salvo por la 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859280" y="476280"/>
            <a:ext cx="3503520" cy="5184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485928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agidium visca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62064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Zorro de Culp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628640"/>
            <a:ext cx="3816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culpa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zona de matorrales deser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zorro mas grande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tiliza muchos tipos de hábi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distribuye en regiones altas a lo largo de los an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za por el valor de su p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da sobre roedores, liebres, a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43280" y="1484280"/>
            <a:ext cx="3961080" cy="2971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788000" y="47242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rro Culp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476280"/>
            <a:ext cx="88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Zorro de Darwin o de Chilo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1628640"/>
            <a:ext cx="410544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en la isla de Chilo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 el mas pequeño del paí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los bosques densos y los mator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 de ratoncitos, lagartijas, pájaros, insectos y lar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u cola es larga y pelu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ado de conservación: vulner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981600" cy="2648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4932360" y="479736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usicyon fulv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55640" y="4762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1484280"/>
            <a:ext cx="36720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Nothoprocta perdic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démico. Desde el sur de Atacama hasta Ñu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ta campos de pastizales, matorrales, arbustos bajos y cultiv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umaje de color caf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bra de mayor tamaño que el mac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alimentan de semillas e inse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ecie prote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859280" y="1773360"/>
            <a:ext cx="3888000" cy="3368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859280" y="537372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diz chi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100000">
              <a:srgbClr val="99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11280" y="40464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rsupiales presentes en Chi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700280"/>
            <a:ext cx="460872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presentados por cuatro espe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- thylamys elegan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Thylamys pallidior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llaca de la Pu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hyncholestes raphanurus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omadrejita trompu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romiciops gliroi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Monito del mo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2521080" cy="23749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5796000" y="393372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la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771640" y="4365720"/>
            <a:ext cx="2089440" cy="1655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627280" y="60930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nito del m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5:58:31Z</dcterms:created>
  <dc:creator>Familia Melo Urra</dc:creator>
  <dc:description/>
  <dc:language>en-US</dc:language>
  <cp:lastModifiedBy>Jessica</cp:lastModifiedBy>
  <dcterms:modified xsi:type="dcterms:W3CDTF">2007-11-11T19:14:01Z</dcterms:modified>
  <cp:revision>4</cp:revision>
  <dc:subject/>
  <dc:title>Diapositiva 1</dc:title>
</cp:coreProperties>
</file>