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02F-882A-4B02-A170-F4A2B0B3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312-9BD1-430E-829B-C6D9ADCF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BCF-DF9B-493B-B785-EAB0A597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6B6-95C7-4793-AEC8-B60F85B5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DA1-B027-4E39-AF0C-534A67B6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86D-DDA0-4876-AACF-7222CFAE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1D0-B300-47FE-9E85-7674E0ED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4A5-0CF4-4E74-A35B-E1DC2D08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EFC-73CF-4CD4-8B46-F7246F8A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F08-3238-41A8-A65D-8DE5C52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665-D0CE-4601-B5F9-39098368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BAD-26DA-4561-97FD-587C3B68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37FC-D4AC-4848-9B3A-F3A31042D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caflor de Jua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446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ephanoides fernanden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démico de la isla Robinson Cruz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bita arbustos y matorrales de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cho de color rojizo y hembra de color verde bril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520720" cy="17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651640" y="32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592360" cy="18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65164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476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37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inoderma Darwi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sques de la selva Valdiviana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 supera los 4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entre de color blanco y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cie preincipalmente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ubación  de tipo neome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Vaq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30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88000" y="5013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360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- Pudu P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ervo más pequeño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Hervívoro rum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hembra da una única c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achos son monó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24800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00720" y="4869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ía de un Pud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6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413000"/>
            <a:ext cx="360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uma c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elino má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ango de distribución mas amplio que cualquier otro mamífero de Améric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posible encontrarlo9 en estepas, y zonas con predominio de quila y m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mamíferos, como liebres, conejos, vizcach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loces corredores y habiles trep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uma no ruge, sino ronro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319640" cy="287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365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49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cu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13000"/>
            <a:ext cx="331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Vicugna vicu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e más pequeña de los camélidos sudamer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distribuye desde el ecuador hasta el norte de chile y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abita las altiplan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on hervíboros solve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ación de la lana de la vi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311360" cy="26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00720" y="393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uñas descans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4762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zca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57360"/>
            <a:ext cx="381636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desde arica hasta Ultima esperanza desde los 600 a los 5.000 mts. de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laje largo y tu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erpo pequeño y enorme cola con pelos lar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color amarillento en la zona norte y de color grisáceo en la zona 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cido a una liebre, salvo por l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503520" cy="51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85928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620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orro de Culp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628640"/>
            <a:ext cx="3816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culpa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zona de matorrales dese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zorro ma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tiliza muchos tipos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en regiones altas a lo largo de los 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za por el valor de su p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roedores, liebres,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96108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788000" y="47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rro Cul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Zorro de Darwin o de Chilo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628640"/>
            <a:ext cx="410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la isla de Chilo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mas pequeñ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los bosques densos y los mator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 de ratoncitos, lagartijas, pájaros, insectos y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ola es larga y pelu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do de conservación: vuln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981600" cy="264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932360" y="479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484280"/>
            <a:ext cx="3672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Nothoprocta perd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démico. Desde el sur de Atacama hasta Ñ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campos de pastizales, matorrales, arbustos bajos y cult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umaje de color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bra de mayor tamaño que el ma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n de semillas e ins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ecie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88000" cy="336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859280" y="537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4046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supiales presentes en Ch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700280"/>
            <a:ext cx="4608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dos por cuatro e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- thylamys elegan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hylamys pallidior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 de la Pu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yncholestes raphanuru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omadrejita tromp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romiciops glir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Monito del m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521080" cy="237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796000" y="3933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208944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27280" y="6093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 del 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58:31Z</dcterms:created>
  <dc:creator>Familia Melo Urra</dc:creator>
  <dc:description/>
  <dc:language>en-US</dc:language>
  <cp:lastModifiedBy>Jessica</cp:lastModifiedBy>
  <dcterms:modified xsi:type="dcterms:W3CDTF">2007-11-11T19:14:01Z</dcterms:modified>
  <cp:revision>4</cp:revision>
  <dc:subject/>
  <dc:title>Diapositiva 1</dc:title>
</cp:coreProperties>
</file>