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47311-461D-46C2-A719-508700C8F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8BA75-353D-45D5-A2B8-F8AFEB191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BEFB9-8822-4308-BFB8-D5DB8B6D2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52445-3CD9-41C1-A4C5-426E65968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3F105-1C08-4F77-A452-A352EFC63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092FB-F7B1-4A83-A0D3-6A93AC2EC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E2796-F6EA-4157-9E71-43F52C04B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5708A-215F-49F2-9AEB-C305556F0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D6BEC-1F6B-439D-A5CB-6A0F36314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8A637-5FC6-48C0-853D-44BE8858D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4DAE4-383A-4A38-9E36-AAA629277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522DC-0F1D-4F4A-8F26-4A672600A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8577A-96EA-470E-A792-06F9FD3446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logía Forest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ificación de espec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ificación de especi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lasificación de la flora y la fauna silvestre permite evaluar el estado de conservación de nuestra diversidad biológica. De paso, contribuye a evitar su extinción, permitiendo priorizar recursos y esfuerzos en aquellas especies con mayores problem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Reglamento para la Clasificación de Especies Silvestres (D.S. Nº 75/ 2005), establece un procedimiento para identificar aquellas plantas y animales que presentan problemas de conservación y que habitan en el país en estado natural. Las categorías definidas para su clasificación son: extinta, en peligro de extinción, vulnerable, rara, insuficientemente conocida y fuera de pelig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enes Clasifican?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lasificación en categorías de conservación la realizará el Comité de Clasificación, el que posteriormente, deberá proponerla al Consejo Directivo de la Comisión Nacional de Medio Ambiente (CONAMA). Es esta última instancia quien debe aprobar o rechazar la propuesta de clasificación, pero no puede cambiar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mité de Clasificación está constituido por 12 miembros: El Director Ejecutivo de CONAMA - quien la preside -, un experto de la Corporación Nacional Forestal (CONAF), uno del Servicio Agrícola y Ganadero (SAG), uno del Servicio Nacional de Pesca (SERNAPESCA), uno de la Subsecretaría de Pesca (SUBPESCA), uno del Museo Nacional de Historia Natural, tres expertos de la Academia Chilena de Ciencias y tres del Consejo de Rectores de las Universidades Chilen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ías de Clasificació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Arial"/>
              </a:rPr>
              <a:t>Extinta:</a:t>
            </a:r>
            <a:r>
              <a:rPr b="0" lang="es-ES" sz="2400" spc="-1" strike="noStrike">
                <a:solidFill>
                  <a:srgbClr val="000000"/>
                </a:solidFill>
                <a:latin typeface="Arial"/>
              </a:rPr>
              <a:t> cuando prospecciones exhaustivas en su hábitat conocido y/o esperado, efectuadas en las oportunidades apropiadas y en su área de distribución histórica, no hayan detectado algún individuo en estado silvestre.</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Arial"/>
              </a:rPr>
              <a:t>En Peligro de Extinción</a:t>
            </a:r>
            <a:r>
              <a:rPr b="0" lang="es-ES" sz="2400" spc="-1" strike="noStrike">
                <a:solidFill>
                  <a:srgbClr val="000000"/>
                </a:solidFill>
                <a:latin typeface="Arial"/>
              </a:rPr>
              <a:t>: cuando enfrente un riesgo muy alto de extinción.</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Arial"/>
              </a:rPr>
              <a:t>Vulnerable:</a:t>
            </a:r>
            <a:r>
              <a:rPr b="0" lang="es-ES" sz="2400" spc="-1" strike="noStrike">
                <a:solidFill>
                  <a:srgbClr val="000000"/>
                </a:solidFill>
                <a:latin typeface="Arial"/>
              </a:rPr>
              <a:t> cuando, no pudiendo ser clasificada en la categoría “En Peligro de Extinción”, enfrente un riesgo alto de extinción.</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Arial"/>
              </a:rPr>
              <a:t>Insuficientemente Conocida</a:t>
            </a:r>
            <a:r>
              <a:rPr b="0" lang="es-ES" sz="2400" spc="-1" strike="noStrike">
                <a:solidFill>
                  <a:srgbClr val="000000"/>
                </a:solidFill>
                <a:latin typeface="Arial"/>
              </a:rPr>
              <a:t>: cuando existiendo presunciones fundadas de riesgo, no haya información suficiente para asignarla a una de las categorías de conservación anteri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9640" y="476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Arial"/>
              </a:rPr>
              <a:t>Fuera de Peligro</a:t>
            </a:r>
            <a:r>
              <a:rPr b="0" lang="es-ES" sz="2400" spc="-1" strike="noStrike">
                <a:solidFill>
                  <a:srgbClr val="000000"/>
                </a:solidFill>
                <a:latin typeface="Arial"/>
              </a:rPr>
              <a:t>: cuando haya estado incluida en alguna de las categorías señaladas anteriormente y, en la actualidad, se la considere relativamente segura por la adopción de medidas efectivas de conservación o en consideración a que la amenaza que existía ha cesado.</a:t>
            </a: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Arial"/>
              </a:rPr>
              <a:t>Rara</a:t>
            </a:r>
            <a:r>
              <a:rPr b="0" lang="es-ES" sz="2400" spc="-1" strike="noStrike">
                <a:solidFill>
                  <a:srgbClr val="000000"/>
                </a:solidFill>
                <a:latin typeface="Arial"/>
              </a:rPr>
              <a:t>: cuando sus poblaciones ocupen un área geográfica pequeña, o estén restringidas a un hábitat muy específico que, en sí, sea escaso en la naturaleza. También se considerará “Rara” aquella especie que en forma natural presente muy bajas densidades poblacionales, aunque ocupe un área geográfica may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50" name=""/>
          <p:cNvSpPr/>
          <p:nvPr/>
        </p:nvSpPr>
        <p:spPr>
          <a:xfrm>
            <a:off x="3063960" y="5516640"/>
            <a:ext cx="284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ntalum fernandezianum</a:t>
            </a:r>
            <a:endParaRPr b="0" lang="en-US" sz="1800" spc="-1" strike="noStrike">
              <a:solidFill>
                <a:srgbClr val="000000"/>
              </a:solidFill>
              <a:latin typeface="Arial"/>
            </a:endParaRPr>
          </a:p>
        </p:txBody>
      </p:sp>
      <p:pic>
        <p:nvPicPr>
          <p:cNvPr id="51" name="" descr=""/>
          <p:cNvPicPr/>
          <p:nvPr/>
        </p:nvPicPr>
        <p:blipFill>
          <a:blip r:embed="rId1"/>
          <a:stretch/>
        </p:blipFill>
        <p:spPr>
          <a:xfrm>
            <a:off x="2843280" y="549360"/>
            <a:ext cx="3533760" cy="4762440"/>
          </a:xfrm>
          <a:prstGeom prst="rect">
            <a:avLst/>
          </a:prstGeom>
          <a:ln w="38160">
            <a:solidFill>
              <a:srgbClr val="000000"/>
            </a:solidFill>
            <a:miter/>
          </a:ln>
        </p:spPr>
      </p:pic>
      <p:sp>
        <p:nvSpPr>
          <p:cNvPr id="52" name=""/>
          <p:cNvSpPr/>
          <p:nvPr/>
        </p:nvSpPr>
        <p:spPr>
          <a:xfrm>
            <a:off x="450720" y="1523880"/>
            <a:ext cx="1422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xtint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t>
            </a:r>
            <a:r>
              <a:rPr b="0" lang="en-US" sz="2800" spc="-1" strike="noStrike">
                <a:solidFill>
                  <a:srgbClr val="ff3300"/>
                </a:solidFill>
                <a:latin typeface="Arial"/>
              </a:rPr>
              <a:t>QEP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050920" y="1125360"/>
            <a:ext cx="5397480" cy="3645000"/>
          </a:xfrm>
          <a:prstGeom prst="rect">
            <a:avLst/>
          </a:prstGeom>
          <a:ln w="38160">
            <a:solidFill>
              <a:srgbClr val="000000"/>
            </a:solidFill>
            <a:miter/>
          </a:ln>
        </p:spPr>
      </p:pic>
      <p:sp>
        <p:nvSpPr>
          <p:cNvPr id="54" name=""/>
          <p:cNvSpPr/>
          <p:nvPr/>
        </p:nvSpPr>
        <p:spPr>
          <a:xfrm>
            <a:off x="3784320" y="5084640"/>
            <a:ext cx="221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Avellanita bustillosii</a:t>
            </a: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55" name=""/>
          <p:cNvSpPr/>
          <p:nvPr/>
        </p:nvSpPr>
        <p:spPr>
          <a:xfrm>
            <a:off x="2031840" y="5681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 name=""/>
          <p:cNvSpPr/>
          <p:nvPr/>
        </p:nvSpPr>
        <p:spPr>
          <a:xfrm>
            <a:off x="3567960" y="260280"/>
            <a:ext cx="25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En Peligro de Extin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ificación Existent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hile existe un gran trabajo previo de clasificación desarrollado por organismos públicos y académicos. Así por ejemplo, existen clasificaciones de especies amenazadas realizadas en el marco de la Ley de Caza y en los Libros Rojos de CONAF, además de otras publicadas en diversas revistas científic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s información 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ttp://www.conama.cl/clasificacionespecies/1.ht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00:07:23Z</dcterms:created>
  <dc:creator>Diego Valencia</dc:creator>
  <dc:description/>
  <dc:language>en-US</dc:language>
  <cp:lastModifiedBy>Diego Valencia</cp:lastModifiedBy>
  <dcterms:modified xsi:type="dcterms:W3CDTF">2007-08-27T00:26:15Z</dcterms:modified>
  <cp:revision>2</cp:revision>
  <dc:subject/>
  <dc:title>Biología Forestal</dc:title>
</cp:coreProperties>
</file>