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B23-01B6-4424-A453-6C1E77FA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E5D-8BF9-4377-AAF0-BE1A3C6B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B8E7-13F1-4991-AD2D-694F5D2F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7FC-DFF8-4583-8B13-10ED8644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D75C-76D0-4EBB-A839-56016692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A5CBC-0878-4A3B-B851-8365CF39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EC9E-F6CF-4566-8741-F3F0BD449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7075-02D7-4775-80E9-3E52DC77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31597-9384-4EFF-A97C-DA7D8175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7161-FB8E-4632-BF73-512A3B8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5185-5DEC-4567-BDC1-41F87341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E4F9-E721-4B6A-85F3-68CC21BA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35F9-3438-4627-84B1-538B6582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1A7D-84F3-402B-8DE7-4808CF11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4673-FBF9-42E8-8230-E193B65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80B9-1293-498F-B4A7-C4EDBCA8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1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7762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4479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1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7762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3EF8-8B9E-4E7C-B451-48CCF59E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7A0E-6DE3-4FD1-B3C2-AD19ED1A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640-50CC-4A13-B9B0-57DC06BF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2EC6-AAB4-431B-B3C3-E476AF11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F34-F402-4756-B224-2752ED72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D295-FDD0-4429-A8B9-8B26859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2788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062B-E34A-4273-A582-A3A2F78A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788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BB0-3924-4A6B-A4E4-E4A24272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53E6-2241-444B-8275-A894388286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670A-BFA0-4B57-9730-509297D33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6760" y="2819520"/>
            <a:ext cx="8610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cc"/>
                </a:solidFill>
                <a:latin typeface="Arial"/>
              </a:rPr>
              <a:t>EL SECTOR FORESTAL Y SU HISTORIA</a:t>
            </a: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cc"/>
                </a:solidFill>
                <a:latin typeface="Arial"/>
              </a:rPr>
              <a:t>MARCO LEGAL E INSTITUCIONAL DEL DESARROLLO FORESTA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6" name="uch" descr="uch.gif (3695 bytes)"/>
          <p:cNvPicPr/>
          <p:nvPr/>
        </p:nvPicPr>
        <p:blipFill>
          <a:blip r:embed="rId1"/>
          <a:stretch/>
        </p:blipFill>
        <p:spPr>
          <a:xfrm>
            <a:off x="60948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447920" y="30492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8" name="ingmad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1760" y="685800"/>
            <a:ext cx="6933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1960 - 1970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4800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Comienza una fuerte expansión del patrimonio forestal del estado (parques nacionales y reservas forestales)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El gobierno impulsa importantes proyectos industriales (Celulosa Arauco y C. Constitución)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Se inicia el programa nacional de protección contra incendios forestal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Se otorga un fuerte impulso a la reforestación por medio de los convenio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2" name="ingmad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  <p:pic>
        <p:nvPicPr>
          <p:cNvPr id="133" name="uch" descr="uch.gif (3695 bytes)"/>
          <p:cNvPicPr/>
          <p:nvPr/>
        </p:nvPicPr>
        <p:blipFill>
          <a:blip r:embed="rId2"/>
          <a:stretch/>
        </p:blipFill>
        <p:spPr>
          <a:xfrm>
            <a:off x="60948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23880" y="30492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1970 - 1980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71320" y="1828440"/>
            <a:ext cx="8001000" cy="3809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La industrialización de productos forestales observa un notable crecimiento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El mecanismo de fomento a la forestación permite elevar de manera significativa la tasa de plantacion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La apertura de mercados externos para los productos forestales comienza a consolidars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30492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38" name="uch" descr="uch.gif (3695 bytes)"/>
          <p:cNvPicPr/>
          <p:nvPr/>
        </p:nvPicPr>
        <p:blipFill>
          <a:blip r:embed="rId1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pic>
        <p:nvPicPr>
          <p:cNvPr id="139" name="ingmad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1980 - 1990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19040" y="1523880"/>
            <a:ext cx="8305920" cy="51055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Se mantiene la fuerte tendencia de incremento de la forestación, creación de industrias y la conquista de mercados exteriores. El sector forestal pasa a ocupar el segundo lugar en la economía nacional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Se inicia una fuerte polémica nacional por el estado y aprovechamiento del bosque nativo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cc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Se aprecia un notable desequilibrio en la distribución del ingreso aportado por la actividad forestal, por el efecto de la concentración de la propiedad y del capital en unos pocos grupos económicos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42" name="ingmad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39760"/>
          </a:xfrm>
          <a:prstGeom prst="rect">
            <a:avLst/>
          </a:prstGeom>
          <a:ln w="0">
            <a:noFill/>
          </a:ln>
        </p:spPr>
      </p:pic>
      <p:pic>
        <p:nvPicPr>
          <p:cNvPr id="143" name="uch" descr="uch.gif (3695 bytes)"/>
          <p:cNvPicPr/>
          <p:nvPr/>
        </p:nvPicPr>
        <p:blipFill>
          <a:blip r:embed="rId2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8080" y="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1990 - 2003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43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Se inicia el proceso de diversificación forestal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Se impulsa la forestación de pequeños propietarios a través del mecanismo de créditos de enlace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Comienza el proceso de certificación forestal y Chile debe enfrentarse a este desafío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Tratados de Libre Comercio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0492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48" name="uch" descr="uch.gif (3695 bytes)"/>
          <p:cNvPicPr/>
          <p:nvPr/>
        </p:nvPicPr>
        <p:blipFill>
          <a:blip r:embed="rId1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ingmad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00cc"/>
                </a:solidFill>
                <a:latin typeface="Arial"/>
              </a:rPr>
              <a:t>TIEMPOS ACTUAL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5334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El diagnóstico gubernamental, efectuado con el apoyo del plan de acción forestal para Chile, comprueba la alta potencialidad económica del sector forestal, pero al mismo tiempo advierte fuertes desequilibrios, motivados por: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Marginalidad de las zonas rurales ubicadas fuera de las áreas de las grandes industrias forestal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Precaria condición de pequeñas y medianas industrias forestale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Estado de degradación del bosque nativo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Falencias en la institucionalidad y legislación forestal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52" name="ingmad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1143000" cy="1139760"/>
          </a:xfrm>
          <a:prstGeom prst="rect">
            <a:avLst/>
          </a:prstGeom>
          <a:ln w="0">
            <a:noFill/>
          </a:ln>
        </p:spPr>
      </p:pic>
      <p:pic>
        <p:nvPicPr>
          <p:cNvPr id="153" name="uch" descr="uch.gif (3695 bytes)"/>
          <p:cNvPicPr/>
          <p:nvPr/>
        </p:nvPicPr>
        <p:blipFill>
          <a:blip r:embed="rId2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838080" y="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Arial"/>
              </a:rPr>
              <a:t>APORTES DEL SECTOR FORESTAL EN CHI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2860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uch" descr="uch.gif (3695 bytes)"/>
          <p:cNvPicPr/>
          <p:nvPr/>
        </p:nvPicPr>
        <p:blipFill>
          <a:blip r:embed="rId1"/>
          <a:stretch/>
        </p:blipFill>
        <p:spPr>
          <a:xfrm>
            <a:off x="228600" y="0"/>
            <a:ext cx="87804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ingmad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Arial"/>
              </a:rPr>
              <a:t>EN EL PLANO PRODUCTIV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2120" y="2742840"/>
            <a:ext cx="7619760" cy="1981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3 a 5% Del Producto Interno Bruto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9 a 12% del Ingreso Nacional por Exportaciones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1" name="uch" descr="uch.gif (3695 bytes)"/>
          <p:cNvPicPr/>
          <p:nvPr/>
        </p:nvPicPr>
        <p:blipFill>
          <a:blip r:embed="rId1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838080" y="22860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3" name="ingmad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cc"/>
                </a:solidFill>
                <a:latin typeface="Arial"/>
              </a:rPr>
              <a:t>EN EL PLANO SOCIAL AMBIENTA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720" y="3200400"/>
            <a:ext cx="8458200" cy="2743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Empleo directo a 100.000 - 120.000 personas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Núcleos de desarrollo en diversas zonas del país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Principal componente en los ecosistemas relativos a los recursos naturales renovables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Provisión de beneficios y servicios intangibles.</a:t>
            </a:r>
            <a:endParaRPr b="0" lang="en-US" sz="26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66" name="ingmad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  <p:pic>
        <p:nvPicPr>
          <p:cNvPr id="167" name="uch" descr="uch.gif (3695 bytes)"/>
          <p:cNvPicPr/>
          <p:nvPr/>
        </p:nvPicPr>
        <p:blipFill>
          <a:blip r:embed="rId2"/>
          <a:stretch/>
        </p:blipFill>
        <p:spPr>
          <a:xfrm>
            <a:off x="60948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30492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cc"/>
                </a:solidFill>
                <a:latin typeface="Arial"/>
              </a:rPr>
              <a:t>LA INSTITUCIONALIDAD FORESTAL CHILEN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733920" y="2971800"/>
            <a:ext cx="144756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Ministerio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02720" y="1600200"/>
            <a:ext cx="93636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Sector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Privado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3480" y="1600200"/>
            <a:ext cx="99036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Banco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Central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05120" y="1600200"/>
            <a:ext cx="152424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Gobierno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66ff"/>
                </a:solidFill>
                <a:latin typeface="Arial"/>
              </a:rPr>
              <a:t>(P. Ejecutivo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46240" y="1600200"/>
            <a:ext cx="144792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Parlamento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(P. Legislativo)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600200"/>
            <a:ext cx="144792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Contraloría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General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23040" y="1600200"/>
            <a:ext cx="121896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Poder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Judicial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2971800"/>
            <a:ext cx="144792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Cámara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De Diputado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10080" y="2971800"/>
            <a:ext cx="152424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Cort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Suprema 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81080" y="4038480"/>
            <a:ext cx="152424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Senado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4038480"/>
            <a:ext cx="144756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Gobierno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regional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0080" y="4038480"/>
            <a:ext cx="152424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Corte de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Apelacion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10080" y="5181480"/>
            <a:ext cx="1524240" cy="685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66ff"/>
                </a:solidFill>
                <a:latin typeface="Arial"/>
              </a:rPr>
              <a:t>Tribunales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8640" y="380880"/>
            <a:ext cx="55710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Times New Roman"/>
              </a:rPr>
              <a:t>ESTRUCTURA DEL ESTADO DE CHILE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77" idx="2"/>
            <a:endCxn id="183" idx="3"/>
          </p:cNvCxnSpPr>
          <p:nvPr/>
        </p:nvCxnSpPr>
        <p:spPr>
          <a:xfrm flipH="1" rot="16200000">
            <a:off x="4863240" y="3454200"/>
            <a:ext cx="3239280" cy="902520"/>
          </a:xfrm>
          <a:prstGeom prst="bentConnector4">
            <a:avLst>
              <a:gd name="adj1" fmla="val 8958"/>
              <a:gd name="adj2" fmla="val 125339"/>
            </a:avLst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86" name=""/>
          <p:cNvCxnSpPr>
            <a:stCxn id="174" idx="2"/>
            <a:endCxn id="181" idx="3"/>
          </p:cNvCxnSpPr>
          <p:nvPr/>
        </p:nvCxnSpPr>
        <p:spPr>
          <a:xfrm flipH="1" rot="16200000">
            <a:off x="3757320" y="2995200"/>
            <a:ext cx="2134440" cy="714960"/>
          </a:xfrm>
          <a:prstGeom prst="bentConnector4">
            <a:avLst>
              <a:gd name="adj1" fmla="val 10256"/>
              <a:gd name="adj2" fmla="val 117531"/>
            </a:avLst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87" name=""/>
          <p:cNvCxnSpPr/>
          <p:nvPr/>
        </p:nvCxnSpPr>
        <p:spPr>
          <a:xfrm flipH="1" rot="16200000">
            <a:off x="2109600" y="2995200"/>
            <a:ext cx="2134440" cy="714960"/>
          </a:xfrm>
          <a:prstGeom prst="bentConnector4">
            <a:avLst>
              <a:gd name="adj1" fmla="val 10256"/>
              <a:gd name="adj2" fmla="val 109974"/>
            </a:avLst>
          </a:prstGeom>
          <a:ln w="9360">
            <a:solidFill>
              <a:srgbClr val="0000cc"/>
            </a:solidFill>
            <a:miter/>
          </a:ln>
        </p:spPr>
      </p:cxnSp>
      <p:sp>
        <p:nvSpPr>
          <p:cNvPr id="188" name=""/>
          <p:cNvSpPr/>
          <p:nvPr/>
        </p:nvSpPr>
        <p:spPr>
          <a:xfrm flipH="1">
            <a:off x="6933960" y="3352680"/>
            <a:ext cx="2286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933960" y="4495680"/>
            <a:ext cx="2286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181480" y="3352680"/>
            <a:ext cx="15264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504960" y="3352680"/>
            <a:ext cx="759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640" y="10663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cc"/>
                </a:solidFill>
                <a:latin typeface="Arial"/>
              </a:rPr>
              <a:t>CONCEPTO FORESTA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2720" y="1600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Desde el punto de vista de la gestión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es-ES_tradnl" sz="3200" spc="-1" strike="noStrike">
                <a:solidFill>
                  <a:srgbClr val="660066"/>
                </a:solidFill>
                <a:latin typeface="Arial"/>
              </a:rPr>
              <a:t>FOREST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666880"/>
            <a:ext cx="7315200" cy="1524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Actividades que se generan o derivan 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de un Ecosistema Forestal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(flora, fauna, suelos, aguas, ambiente )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4191120"/>
            <a:ext cx="7772400" cy="2286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Infraestructura, industrias, fuentes de trabajo,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tecnologías, capitales, regímenes de propiedad,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600" spc="-1" strike="noStrike">
                <a:solidFill>
                  <a:srgbClr val="0000cc"/>
                </a:solidFill>
                <a:latin typeface="Arial"/>
              </a:rPr>
              <a:t>etc., relativos a la actividad forestal y maderera</a:t>
            </a:r>
            <a:endParaRPr b="0" lang="en-US" sz="2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3" name="uch" descr="uch.gif (3695 bytes)"/>
          <p:cNvPicPr/>
          <p:nvPr/>
        </p:nvPicPr>
        <p:blipFill>
          <a:blip r:embed="rId1"/>
          <a:stretch/>
        </p:blipFill>
        <p:spPr>
          <a:xfrm>
            <a:off x="0" y="-30492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838080" y="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5" name="ingmad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19320" y="1905120"/>
            <a:ext cx="20574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Fundación d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Comunicaciones del Agro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4495680"/>
            <a:ext cx="175248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Instituto de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Desarrollo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Agropecuario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30920" y="4495680"/>
            <a:ext cx="144792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Servicio Agrícola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y Ganadero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07160" y="4495680"/>
            <a:ext cx="129564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Corporació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Nacional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666880"/>
            <a:ext cx="152424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Subsecretarí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91320" y="1523880"/>
            <a:ext cx="1752480" cy="9144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Fondo de Investigación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Agropecuari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762120"/>
            <a:ext cx="1905120" cy="8380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ff"/>
                </a:solidFill>
                <a:latin typeface="Arial"/>
              </a:rPr>
              <a:t>Ministerio de Agricultu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22400" y="4495680"/>
            <a:ext cx="18288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Instituto d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Investigacion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Agropecuaria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85840" y="5715000"/>
            <a:ext cx="164808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Direccion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Region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4760" y="5715000"/>
            <a:ext cx="190512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Estacion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Experimen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3276720"/>
            <a:ext cx="16002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Oficina de Estudios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y Políticas Agraria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5715000"/>
            <a:ext cx="178128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Secretario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Regionales Ministeri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43440" y="5715000"/>
            <a:ext cx="16002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Direccion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Region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454880" y="5715000"/>
            <a:ext cx="1600200" cy="9144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Direccion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66ff"/>
                </a:solidFill>
                <a:latin typeface="Arial"/>
              </a:rPr>
              <a:t>Region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0" y="1600200"/>
            <a:ext cx="0" cy="10666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24560" y="3581280"/>
            <a:ext cx="0" cy="21337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48320" y="3886200"/>
            <a:ext cx="91440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4343400"/>
            <a:ext cx="723888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4343400"/>
            <a:ext cx="0" cy="152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229600" y="4343400"/>
            <a:ext cx="0" cy="15228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5410080"/>
            <a:ext cx="0" cy="3049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95480" y="5410080"/>
            <a:ext cx="0" cy="3049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5410080"/>
            <a:ext cx="0" cy="3049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29600" y="5410080"/>
            <a:ext cx="0" cy="30492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990360" y="1752480"/>
            <a:ext cx="4800600" cy="0"/>
          </a:xfrm>
          <a:prstGeom prst="line">
            <a:avLst/>
          </a:prstGeom>
          <a:ln w="936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752480"/>
            <a:ext cx="0" cy="2590920"/>
          </a:xfrm>
          <a:prstGeom prst="line">
            <a:avLst/>
          </a:prstGeom>
          <a:ln w="936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362320"/>
            <a:ext cx="1295280" cy="0"/>
          </a:xfrm>
          <a:prstGeom prst="line">
            <a:avLst/>
          </a:prstGeom>
          <a:ln w="936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9360">
            <a:solidFill>
              <a:srgbClr val="0000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73280" y="228600"/>
            <a:ext cx="77367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99"/>
                </a:solidFill>
                <a:latin typeface="Times New Roman"/>
              </a:rPr>
              <a:t>ORGANIGRAMA DEL MINISTERIO DE AGRICULTURA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cc"/>
                </a:solidFill>
                <a:latin typeface="Arial"/>
              </a:rPr>
              <a:t>ORGANISMOS PÚBLICOS QUE INTERVIENEN DIRECTAMENTE EN LA ACTIVIDAD FORESTAL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4560" y="5257800"/>
            <a:ext cx="8839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304560" y="60912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INISTERIO DE AGRICULTU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cc"/>
                </a:solidFill>
                <a:latin typeface="Tahoma"/>
              </a:rPr>
              <a:t>CORPORACIÓN NACIONAL FORESTAL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 (CONAF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SERVICIO AGRÍCOLA Y GANADERO (SAG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INSTITUTO DESARROLLO AGROPECUARIO (INDAP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I.  DE INVESTIGACIONES AGROPECUARIAS (INI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INISTERIO DE ECONOMÍA Y FOMENT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CORPORACIÓN DE FOMENTO (CORFO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0000cc"/>
                </a:solidFill>
                <a:latin typeface="Tahoma"/>
              </a:rPr>
              <a:t>INSTITUTO FORESTAL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(INFOR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4560" y="914040"/>
            <a:ext cx="88390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INISTERIO DE OBRAS PÚBLICA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DIRECCIÓN DE AGUA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DIRECCIÓN DE VIALIDAD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INISTERIO SEC. GENERAL DE GOBIERNO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COMISIÓN NAC. DEL MEDIO AMBENTE (CONAMA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MINISTERIO PLANIFICACIÓN COORDINACIÓ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cc"/>
                </a:solidFill>
                <a:latin typeface="Tahoma"/>
              </a:rPr>
              <a:t>FONDO DE SOLID.  E INVERSIÓN SOCIAL (FOSIS)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ORGANIZACIONES</a:t>
            </a:r>
            <a:r>
              <a:rPr b="1" lang="es-ES_tradnl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Y ENTIDADES PRIVADAS EN EL SECTOR FORESTAL CHILEN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Empresas Forest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Pequeños propietarios rur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Universidad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Empresas Consultora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Empresas de Servicio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Organizaciones no Gubernamentales (ONG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Asociaciones Gremi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ORGANIZACIONES Y ENTIDADES INTERNACIONALES EN EL SECTOR FORESTAL CHILENO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80880" y="19807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Naciones Unidas (FAO, PNUD, PNUMA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omisión Económica A. Latina (CEPAL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Organización de Estados Americanos (OEA)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Agencias de Gobiernos Extranjeros para Colaboración y asistencia Técnica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Fundaciones Internacion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Bancos Internacionale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Arial"/>
              </a:rPr>
              <a:t>FUNCIONES DEL RECURSO FORESTA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*   PRODUCTIV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*   PROTECTOR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*   SOCIA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8" name="ingmad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139760"/>
          </a:xfrm>
          <a:prstGeom prst="rect">
            <a:avLst/>
          </a:prstGeom>
          <a:ln w="0">
            <a:noFill/>
          </a:ln>
        </p:spPr>
      </p:pic>
      <p:pic>
        <p:nvPicPr>
          <p:cNvPr id="99" name="uch" descr="uch.gif (3695 bytes)"/>
          <p:cNvPicPr/>
          <p:nvPr/>
        </p:nvPicPr>
        <p:blipFill>
          <a:blip r:embed="rId2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14400" y="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cc"/>
                </a:solidFill>
                <a:latin typeface="Tahoma"/>
              </a:rPr>
              <a:t>RESEÑA HISTÓRIC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8088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uch" descr="uch.gif (3695 bytes)"/>
          <p:cNvPicPr/>
          <p:nvPr/>
        </p:nvPicPr>
        <p:blipFill>
          <a:blip r:embed="rId1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pic>
        <p:nvPicPr>
          <p:cNvPr id="104" name="ingmad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COLONIA-MEDIADOS DEL SIGLO XIX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590920"/>
            <a:ext cx="7772400" cy="3809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La demanda de madera se deb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principalmente a la necesidad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de energía y materiales para la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construcción, pero sin que se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provoque un deterioro significativo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cc"/>
                </a:solidFill>
                <a:latin typeface="Arial"/>
              </a:rPr>
              <a:t>a los recursos forestales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7" name="uch" descr="uch.gif (3695 bytes)"/>
          <p:cNvPicPr/>
          <p:nvPr/>
        </p:nvPicPr>
        <p:blipFill>
          <a:blip r:embed="rId1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914400" y="228600"/>
            <a:ext cx="23623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9" name="ingmad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MEDIADOS DEL SIGLO XIX - MEDIADOS DEL SIGLO XX</a:t>
            </a:r>
            <a:endParaRPr b="0" lang="en-US" sz="2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438280"/>
            <a:ext cx="7772400" cy="4191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Los procesos de colonizació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(zona sur y austral), junto a la mayor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demanda de maderas y habilitación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de terrenos para la agricultura,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provocan una fuerte devastación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de bosques nativos y la degradación 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de terrenos forestales</a:t>
            </a: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2" name="ingmad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  <p:pic>
        <p:nvPicPr>
          <p:cNvPr id="113" name="uch" descr="uch.gif (3695 bytes)"/>
          <p:cNvPicPr/>
          <p:nvPr/>
        </p:nvPicPr>
        <p:blipFill>
          <a:blip r:embed="rId2"/>
          <a:stretch/>
        </p:blipFill>
        <p:spPr>
          <a:xfrm>
            <a:off x="60948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447920" y="304920"/>
            <a:ext cx="26668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609480" y="990360"/>
            <a:ext cx="9144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00cc"/>
                </a:solidFill>
                <a:latin typeface="Arial"/>
              </a:rPr>
              <a:t>FINES DEL SIGLO XIX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327636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3600" spc="-1" strike="noStrike">
                <a:solidFill>
                  <a:srgbClr val="0000cc"/>
                </a:solidFill>
                <a:latin typeface="Arial"/>
              </a:rPr>
              <a:t>Se introduce el pino radiata en Chile</a:t>
            </a:r>
            <a:endParaRPr b="0" lang="en-US" sz="36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30492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8" name="uch" descr="uch.gif (3695 bytes)"/>
          <p:cNvPicPr/>
          <p:nvPr/>
        </p:nvPicPr>
        <p:blipFill>
          <a:blip r:embed="rId1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pic>
        <p:nvPicPr>
          <p:cNvPr id="119" name="ingmad" descr=""/>
          <p:cNvPicPr/>
          <p:nvPr/>
        </p:nvPicPr>
        <p:blipFill>
          <a:blip r:embed="rId2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3600" spc="-1" strike="noStrike">
                <a:solidFill>
                  <a:srgbClr val="0000cc"/>
                </a:solidFill>
                <a:latin typeface="Tahoma"/>
              </a:rPr>
              <a:t>INICIOS DEL SIGLO XX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483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*  Comienzan las primeras preocupaciones por  la protección de los recursos naturales renovables, como consecuencia de la degradación de los bosques nativos y la influencia de científicos extranjeros.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cc"/>
                </a:solidFill>
                <a:latin typeface="Arial"/>
              </a:rPr>
              <a:t>*  Se inician las primeras forestaciones importantes con pino radiata, en la zona de Concepción.</a:t>
            </a:r>
            <a:endParaRPr b="0" lang="en-US" sz="30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2" name="ingmad" descr=""/>
          <p:cNvPicPr/>
          <p:nvPr/>
        </p:nvPicPr>
        <p:blipFill>
          <a:blip r:embed="rId1"/>
          <a:stretch/>
        </p:blipFill>
        <p:spPr>
          <a:xfrm>
            <a:off x="7620120" y="304920"/>
            <a:ext cx="1143000" cy="1139760"/>
          </a:xfrm>
          <a:prstGeom prst="rect">
            <a:avLst/>
          </a:prstGeom>
          <a:ln w="0">
            <a:noFill/>
          </a:ln>
        </p:spPr>
      </p:pic>
      <p:pic>
        <p:nvPicPr>
          <p:cNvPr id="123" name="uch" descr="uch.gif (3695 bytes)"/>
          <p:cNvPicPr/>
          <p:nvPr/>
        </p:nvPicPr>
        <p:blipFill>
          <a:blip r:embed="rId2"/>
          <a:stretch/>
        </p:blipFill>
        <p:spPr>
          <a:xfrm>
            <a:off x="609480" y="0"/>
            <a:ext cx="878040" cy="13716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371600" y="30492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ccff"/>
            </a:gs>
            <a:gs pos="100000">
              <a:srgbClr val="465e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es-ES_tradnl" sz="4000" spc="-1" strike="noStrike">
                <a:solidFill>
                  <a:srgbClr val="0000cc"/>
                </a:solidFill>
                <a:latin typeface="Arial"/>
              </a:rPr>
              <a:t>MEDIADOS DEL SIGLO XX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980720"/>
            <a:ext cx="8458200" cy="4876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Se materializan las primeras industrias forestales de importancia, basadas en la madera de pino radiata. Se destaca la fábrica de pulpa y papel de laja (CMPC)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Los roces a fuego y el floreo del bosque nativo llegan a su máxima expresión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La producción de maderas de pino radiata supera  a las de maderas nativas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cc"/>
                </a:solidFill>
                <a:latin typeface="Arial"/>
              </a:rPr>
              <a:t>se inicia la educación forestal superior (U. Chile y U. Austral).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28600"/>
            <a:ext cx="45720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UNIVERSIDAD DE CHILE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Facultad de Ciencias Forestales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Ingeniería de la Madera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ecff"/>
                </a:solidFill>
                <a:latin typeface="Times New Roman"/>
              </a:rPr>
              <a:t>Geografía Forestal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28" name="uch" descr="uch.gif (3695 bytes)"/>
          <p:cNvPicPr/>
          <p:nvPr/>
        </p:nvPicPr>
        <p:blipFill>
          <a:blip r:embed="rId1"/>
          <a:stretch/>
        </p:blipFill>
        <p:spPr>
          <a:xfrm>
            <a:off x="0" y="0"/>
            <a:ext cx="878040" cy="1371600"/>
          </a:xfrm>
          <a:prstGeom prst="rect">
            <a:avLst/>
          </a:prstGeom>
          <a:ln w="0">
            <a:noFill/>
          </a:ln>
        </p:spPr>
      </p:pic>
      <p:pic>
        <p:nvPicPr>
          <p:cNvPr id="129" name="ingmad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1143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18:55:24Z</dcterms:created>
  <dc:creator>Horacio Bown</dc:creator>
  <dc:description/>
  <dc:language>en-US</dc:language>
  <cp:lastModifiedBy>Rose Marie Garay</cp:lastModifiedBy>
  <cp:lastPrinted>2001-04-17T16:50:25Z</cp:lastPrinted>
  <dcterms:modified xsi:type="dcterms:W3CDTF">2005-08-23T20:09:47Z</dcterms:modified>
  <cp:revision>46</cp:revision>
  <dc:subject/>
  <dc:title>La Legislación Forestal Chilena</dc:title>
</cp:coreProperties>
</file>