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3FB-1109-41DA-A613-684A6758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151-7218-46AC-841E-3847EF2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590-CD23-4783-985E-18B74306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BD0-6BAF-4720-A243-5468D62C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9E9-DC5A-414D-88AD-4A8A436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D23-3434-490A-ABA2-65F7DA2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715-DD40-4EF1-8042-F1281285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2FA-AACB-420B-B6DF-44E905E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DA7-77E1-41E3-B242-2C213CD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28E-D3E8-4DE6-BF1B-FE58015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B23-002E-49FA-9180-80B9232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066-8B6B-4227-986E-2BC98E9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937-95C4-441A-8B4E-2A866880B0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33"/>
                </a:solidFill>
                <a:latin typeface="Times New Roman"/>
              </a:rPr>
              <a:t>Plantaciones y Bosque N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8280" y="990720"/>
            <a:ext cx="8587800" cy="5332680"/>
            <a:chOff x="98280" y="990720"/>
            <a:chExt cx="8587800" cy="5332680"/>
          </a:xfrm>
        </p:grpSpPr>
        <p:grpSp>
          <p:nvGrpSpPr>
            <p:cNvPr id="429" name=""/>
            <p:cNvGrpSpPr/>
            <p:nvPr/>
          </p:nvGrpSpPr>
          <p:grpSpPr>
            <a:xfrm>
              <a:off x="98280" y="990720"/>
              <a:ext cx="2862000" cy="2121840"/>
              <a:chOff x="98280" y="990720"/>
              <a:chExt cx="2862000" cy="2121840"/>
            </a:xfrm>
          </p:grpSpPr>
          <p:sp>
            <p:nvSpPr>
              <p:cNvPr id="430" name=""/>
              <p:cNvSpPr/>
              <p:nvPr/>
            </p:nvSpPr>
            <p:spPr>
              <a:xfrm>
                <a:off x="98280" y="990720"/>
                <a:ext cx="2862000" cy="212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8280" y="990720"/>
                <a:ext cx="2862000" cy="212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10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960640" y="990720"/>
              <a:ext cx="2862720" cy="2121840"/>
              <a:chOff x="2960640" y="990720"/>
              <a:chExt cx="2862720" cy="2121840"/>
            </a:xfrm>
          </p:grpSpPr>
          <p:sp>
            <p:nvSpPr>
              <p:cNvPr id="433" name=""/>
              <p:cNvSpPr/>
              <p:nvPr/>
            </p:nvSpPr>
            <p:spPr>
              <a:xfrm>
                <a:off x="2960640" y="990720"/>
                <a:ext cx="2862720" cy="212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60640" y="990720"/>
                <a:ext cx="2862720" cy="212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10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823720" y="990720"/>
              <a:ext cx="2862000" cy="2121840"/>
              <a:chOff x="5823720" y="990720"/>
              <a:chExt cx="2862000" cy="2121840"/>
            </a:xfrm>
          </p:grpSpPr>
          <p:sp>
            <p:nvSpPr>
              <p:cNvPr id="436" name=""/>
              <p:cNvSpPr/>
              <p:nvPr/>
            </p:nvSpPr>
            <p:spPr>
              <a:xfrm>
                <a:off x="5823720" y="990720"/>
                <a:ext cx="2862000" cy="212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23720" y="990720"/>
                <a:ext cx="2862000" cy="212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10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98280" y="3112920"/>
              <a:ext cx="8587800" cy="3210480"/>
              <a:chOff x="98280" y="3112920"/>
              <a:chExt cx="8587800" cy="3210480"/>
            </a:xfrm>
          </p:grpSpPr>
          <p:sp>
            <p:nvSpPr>
              <p:cNvPr id="439" name=""/>
              <p:cNvSpPr/>
              <p:nvPr/>
            </p:nvSpPr>
            <p:spPr>
              <a:xfrm>
                <a:off x="98280" y="3112920"/>
                <a:ext cx="8587800" cy="321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8280" y="3112920"/>
                <a:ext cx="8587800" cy="321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15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-393840" y="0"/>
            <a:ext cx="9929880" cy="5527440"/>
            <a:chOff x="-393840" y="0"/>
            <a:chExt cx="9929880" cy="5527440"/>
          </a:xfrm>
        </p:grpSpPr>
        <p:grpSp>
          <p:nvGrpSpPr>
            <p:cNvPr id="442" name=""/>
            <p:cNvGrpSpPr/>
            <p:nvPr/>
          </p:nvGrpSpPr>
          <p:grpSpPr>
            <a:xfrm>
              <a:off x="-393840" y="0"/>
              <a:ext cx="9144000" cy="5527440"/>
              <a:chOff x="-393840" y="0"/>
              <a:chExt cx="9144000" cy="5527440"/>
            </a:xfrm>
          </p:grpSpPr>
          <p:sp>
            <p:nvSpPr>
              <p:cNvPr id="443" name=""/>
              <p:cNvSpPr/>
              <p:nvPr/>
            </p:nvSpPr>
            <p:spPr>
              <a:xfrm>
                <a:off x="-393840" y="0"/>
                <a:ext cx="914400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Verdana"/>
                  </a:rPr>
                  <a:t>          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Verdana"/>
                  </a:rPr>
                  <a:t>No podríamos imaginar nuestra vida sin la madera. Después que los árboles son cosechados,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Verdana"/>
                  </a:rPr>
                  <a:t>inmediatamente en el próximo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Verdana"/>
                  </a:rPr>
                  <a:t>invierno se reforesta el mismo terreno.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-393840" y="11430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-393840" y="5322960"/>
                <a:ext cx="360" cy="36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-393840" y="5342040"/>
                <a:ext cx="330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 Narrow"/>
                    <a:hlinkClick r:id="rId1" action="ppaction://hlinksldjump"/>
                  </a:rPr>
                  <a:t>Subi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-393840" y="5526000"/>
              <a:ext cx="9929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cosecha02" descr=""/>
          <p:cNvPicPr/>
          <p:nvPr/>
        </p:nvPicPr>
        <p:blipFill>
          <a:blip r:embed="rId2"/>
          <a:stretch/>
        </p:blipFill>
        <p:spPr>
          <a:xfrm>
            <a:off x="266760" y="1855800"/>
            <a:ext cx="2171520" cy="1646280"/>
          </a:xfrm>
          <a:prstGeom prst="rect">
            <a:avLst/>
          </a:prstGeom>
          <a:ln w="0">
            <a:noFill/>
          </a:ln>
        </p:spPr>
      </p:pic>
      <p:pic>
        <p:nvPicPr>
          <p:cNvPr id="449" name="cosecha03" descr=""/>
          <p:cNvPicPr/>
          <p:nvPr/>
        </p:nvPicPr>
        <p:blipFill>
          <a:blip r:embed="rId3"/>
          <a:stretch/>
        </p:blipFill>
        <p:spPr>
          <a:xfrm>
            <a:off x="2987640" y="1855800"/>
            <a:ext cx="2171880" cy="1646280"/>
          </a:xfrm>
          <a:prstGeom prst="rect">
            <a:avLst/>
          </a:prstGeom>
          <a:ln w="0">
            <a:noFill/>
          </a:ln>
        </p:spPr>
      </p:pic>
      <p:pic>
        <p:nvPicPr>
          <p:cNvPr id="450" name="cosecha04" descr=""/>
          <p:cNvPicPr/>
          <p:nvPr/>
        </p:nvPicPr>
        <p:blipFill>
          <a:blip r:embed="rId4"/>
          <a:stretch/>
        </p:blipFill>
        <p:spPr>
          <a:xfrm>
            <a:off x="5708520" y="1855800"/>
            <a:ext cx="2171880" cy="1646280"/>
          </a:xfrm>
          <a:prstGeom prst="rect">
            <a:avLst/>
          </a:prstGeom>
          <a:ln w="0">
            <a:noFill/>
          </a:ln>
        </p:spPr>
      </p:pic>
      <p:pic>
        <p:nvPicPr>
          <p:cNvPr id="451" name="esquema_cosecha" descr=""/>
          <p:cNvPicPr/>
          <p:nvPr/>
        </p:nvPicPr>
        <p:blipFill>
          <a:blip r:embed="rId5"/>
          <a:stretch/>
        </p:blipFill>
        <p:spPr>
          <a:xfrm>
            <a:off x="650880" y="3517920"/>
            <a:ext cx="66294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33352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8" descr=""/>
          <p:cNvPicPr/>
          <p:nvPr/>
        </p:nvPicPr>
        <p:blipFill>
          <a:blip r:embed="rId1"/>
          <a:stretch/>
        </p:blipFill>
        <p:spPr>
          <a:xfrm>
            <a:off x="1257480" y="1676520"/>
            <a:ext cx="6629400" cy="4554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203920" y="304920"/>
            <a:ext cx="50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Fortalecimiento de Pla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52640" y="828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sponibilidad Anual Futura de Madera de Pino Radi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Según Tipo de Producto 1998 – 2027 (Millones de m</a:t>
            </a:r>
            <a:r>
              <a:rPr b="1" lang="es-ES" sz="2000" spc="-1" strike="noStrike" baseline="30000">
                <a:solidFill>
                  <a:srgbClr val="660033"/>
                </a:solidFill>
                <a:latin typeface="Times New Roman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/ año)</a:t>
            </a:r>
            <a:r>
              <a:rPr b="1" lang="es-ES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143000" y="1335240"/>
            <a:ext cx="6857640" cy="4187160"/>
            <a:chOff x="1143000" y="1335240"/>
            <a:chExt cx="6857640" cy="4187160"/>
          </a:xfrm>
        </p:grpSpPr>
        <p:grpSp>
          <p:nvGrpSpPr>
            <p:cNvPr id="458" name=""/>
            <p:cNvGrpSpPr/>
            <p:nvPr/>
          </p:nvGrpSpPr>
          <p:grpSpPr>
            <a:xfrm>
              <a:off x="1149840" y="1342440"/>
              <a:ext cx="6842880" cy="4171320"/>
              <a:chOff x="1149840" y="1342440"/>
              <a:chExt cx="6842880" cy="41713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1149840" y="1342440"/>
                <a:ext cx="1833840" cy="1055520"/>
                <a:chOff x="1149840" y="1342440"/>
                <a:chExt cx="1833840" cy="10555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149840" y="1342440"/>
                  <a:ext cx="1833840" cy="1055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1149840" y="1342440"/>
                  <a:ext cx="1833480" cy="993960"/>
                  <a:chOff x="1149840" y="1342440"/>
                  <a:chExt cx="1833480" cy="993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1163520" y="1357920"/>
                    <a:ext cx="1805040" cy="9633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ERIOD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1149840" y="1342440"/>
                    <a:ext cx="1833480" cy="99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2984040" y="1342440"/>
                <a:ext cx="1696680" cy="1055520"/>
                <a:chOff x="2984040" y="1342440"/>
                <a:chExt cx="1696680" cy="10555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984040" y="1342440"/>
                  <a:ext cx="1696680" cy="1055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2984040" y="1342440"/>
                  <a:ext cx="1696320" cy="993960"/>
                  <a:chOff x="2984040" y="1342440"/>
                  <a:chExt cx="1696320" cy="9939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2997720" y="1357920"/>
                    <a:ext cx="1668600" cy="9633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TOTA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984040" y="1342440"/>
                    <a:ext cx="1696320" cy="99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4681440" y="1342440"/>
                <a:ext cx="1573920" cy="1055520"/>
                <a:chOff x="4681440" y="1342440"/>
                <a:chExt cx="1573920" cy="1055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681440" y="1342440"/>
                  <a:ext cx="1573920" cy="1055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4681440" y="1342440"/>
                  <a:ext cx="1573560" cy="993960"/>
                  <a:chOff x="4681440" y="1342440"/>
                  <a:chExt cx="1573560" cy="9939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4695840" y="1357920"/>
                    <a:ext cx="1545120" cy="9633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ULPAB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681440" y="1342440"/>
                    <a:ext cx="1573560" cy="99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6255720" y="1342440"/>
                <a:ext cx="1737000" cy="1055520"/>
                <a:chOff x="6255720" y="1342440"/>
                <a:chExt cx="1737000" cy="1055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255720" y="1342440"/>
                  <a:ext cx="1737000" cy="1055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6255720" y="1342440"/>
                  <a:ext cx="1736640" cy="993960"/>
                  <a:chOff x="6255720" y="1342440"/>
                  <a:chExt cx="1736640" cy="993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6269400" y="1357920"/>
                    <a:ext cx="1708920" cy="9633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ASERRAB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255720" y="1342440"/>
                    <a:ext cx="1736640" cy="99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9" name=""/>
              <p:cNvGrpSpPr/>
              <p:nvPr/>
            </p:nvGrpSpPr>
            <p:grpSpPr>
              <a:xfrm>
                <a:off x="1149840" y="2368080"/>
                <a:ext cx="1833840" cy="3145680"/>
                <a:chOff x="1149840" y="2368080"/>
                <a:chExt cx="1833840" cy="31456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163520" y="2383560"/>
                  <a:ext cx="1805400" cy="31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98-2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1-2003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4-2006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7-2009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-2012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3-2015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6-2018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9-2021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22-2024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25-202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149840" y="2368080"/>
                  <a:ext cx="1833840" cy="31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984040" y="2368080"/>
                <a:ext cx="1696680" cy="3145680"/>
                <a:chOff x="2984040" y="2368080"/>
                <a:chExt cx="1696680" cy="3145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997720" y="2383560"/>
                  <a:ext cx="1668960" cy="31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,6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6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3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5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5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4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5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2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,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984040" y="2368080"/>
                  <a:ext cx="1696680" cy="31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681440" y="2368080"/>
                <a:ext cx="1573920" cy="3145680"/>
                <a:chOff x="4681440" y="2368080"/>
                <a:chExt cx="1573920" cy="31456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695840" y="2383560"/>
                  <a:ext cx="1545480" cy="31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4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9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3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2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3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,1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,3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,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681440" y="2368080"/>
                  <a:ext cx="1573920" cy="31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255720" y="2368080"/>
                <a:ext cx="1737000" cy="3145680"/>
                <a:chOff x="6255720" y="2368080"/>
                <a:chExt cx="1737000" cy="31456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269400" y="2383560"/>
                  <a:ext cx="1709280" cy="31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6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2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,4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2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3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1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5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,1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,2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255720" y="2368080"/>
                  <a:ext cx="1737000" cy="31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"/>
            <p:cNvSpPr/>
            <p:nvPr/>
          </p:nvSpPr>
          <p:spPr>
            <a:xfrm>
              <a:off x="1143000" y="1335240"/>
              <a:ext cx="6857640" cy="418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143000" y="55627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IN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224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9" descr=""/>
          <p:cNvPicPr/>
          <p:nvPr/>
        </p:nvPicPr>
        <p:blipFill>
          <a:blip r:embed="rId1"/>
          <a:stretch/>
        </p:blipFill>
        <p:spPr>
          <a:xfrm>
            <a:off x="952560" y="1600200"/>
            <a:ext cx="7238880" cy="47433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74880" y="676440"/>
            <a:ext cx="19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Eucali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sponibilidad de Madera de Eucalip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   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Periodo 1996 – 2015 (Millones de m</a:t>
            </a:r>
            <a:r>
              <a:rPr b="1" lang="en-US" sz="2000" spc="-1" strike="noStrike" baseline="30000">
                <a:solidFill>
                  <a:srgbClr val="660033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914400"/>
            <a:ext cx="8001720" cy="5027760"/>
            <a:chOff x="762120" y="914400"/>
            <a:chExt cx="8001720" cy="5027760"/>
          </a:xfrm>
        </p:grpSpPr>
        <p:grpSp>
          <p:nvGrpSpPr>
            <p:cNvPr id="498" name=""/>
            <p:cNvGrpSpPr/>
            <p:nvPr/>
          </p:nvGrpSpPr>
          <p:grpSpPr>
            <a:xfrm>
              <a:off x="771480" y="917640"/>
              <a:ext cx="7981560" cy="5020200"/>
              <a:chOff x="771480" y="917640"/>
              <a:chExt cx="7981560" cy="502020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771480" y="917640"/>
                <a:ext cx="1558440" cy="643680"/>
                <a:chOff x="771480" y="917640"/>
                <a:chExt cx="1558440" cy="6436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71480" y="917640"/>
                  <a:ext cx="1558440" cy="64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"/>
                <p:cNvGrpSpPr/>
                <p:nvPr/>
              </p:nvGrpSpPr>
              <p:grpSpPr>
                <a:xfrm>
                  <a:off x="771480" y="917640"/>
                  <a:ext cx="1557720" cy="614520"/>
                  <a:chOff x="771480" y="917640"/>
                  <a:chExt cx="1557720" cy="614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790200" y="924840"/>
                    <a:ext cx="1519200" cy="599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TRIENI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71480" y="917640"/>
                    <a:ext cx="1557720" cy="61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2330640" y="917640"/>
                <a:ext cx="1312920" cy="643680"/>
                <a:chOff x="2330640" y="917640"/>
                <a:chExt cx="1312920" cy="6436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330640" y="917640"/>
                  <a:ext cx="1312920" cy="64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2330640" y="917640"/>
                  <a:ext cx="1312200" cy="614520"/>
                  <a:chOff x="2330640" y="917640"/>
                  <a:chExt cx="1312200" cy="6145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2349360" y="924840"/>
                    <a:ext cx="1273680" cy="599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TOTA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330640" y="917640"/>
                    <a:ext cx="1312200" cy="61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3644640" y="917640"/>
                <a:ext cx="2497320" cy="643680"/>
                <a:chOff x="3644640" y="917640"/>
                <a:chExt cx="2497320" cy="643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644640" y="917640"/>
                  <a:ext cx="2497320" cy="64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3644640" y="917640"/>
                  <a:ext cx="2496600" cy="614520"/>
                  <a:chOff x="3644640" y="917640"/>
                  <a:chExt cx="2496600" cy="614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3663360" y="924840"/>
                    <a:ext cx="2458080" cy="599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MACROZONA 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644640" y="917640"/>
                    <a:ext cx="2496600" cy="61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" name=""/>
              <p:cNvGrpSpPr/>
              <p:nvPr/>
            </p:nvGrpSpPr>
            <p:grpSpPr>
              <a:xfrm>
                <a:off x="6142680" y="917640"/>
                <a:ext cx="2610360" cy="643680"/>
                <a:chOff x="6142680" y="917640"/>
                <a:chExt cx="2610360" cy="6436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142680" y="917640"/>
                  <a:ext cx="2610360" cy="643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6142680" y="917640"/>
                  <a:ext cx="2609640" cy="614520"/>
                  <a:chOff x="6142680" y="917640"/>
                  <a:chExt cx="2609640" cy="6145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6161400" y="924840"/>
                    <a:ext cx="2571840" cy="599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MACROZONA I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6142680" y="917640"/>
                    <a:ext cx="2609640" cy="61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771480" y="1546920"/>
                <a:ext cx="1558440" cy="614880"/>
                <a:chOff x="771480" y="1546920"/>
                <a:chExt cx="1558440" cy="6148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790200" y="1554120"/>
                  <a:ext cx="151992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96-19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71480" y="1546920"/>
                  <a:ext cx="15584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330640" y="1546920"/>
                <a:ext cx="1312920" cy="614880"/>
                <a:chOff x="2330640" y="1546920"/>
                <a:chExt cx="1312920" cy="6148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2349360" y="1554120"/>
                  <a:ext cx="127440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330640" y="1546920"/>
                  <a:ext cx="13129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644640" y="1546920"/>
                <a:ext cx="2497320" cy="614880"/>
                <a:chOff x="3644640" y="1546920"/>
                <a:chExt cx="2497320" cy="61488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663360" y="1554120"/>
                  <a:ext cx="245880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644640" y="1546920"/>
                  <a:ext cx="24973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142680" y="1546920"/>
                <a:ext cx="2610360" cy="614880"/>
                <a:chOff x="6142680" y="1546920"/>
                <a:chExt cx="2610360" cy="6148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161400" y="1554120"/>
                  <a:ext cx="257256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142680" y="1546920"/>
                  <a:ext cx="261036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771480" y="2176560"/>
                <a:ext cx="1558440" cy="614520"/>
                <a:chOff x="771480" y="2176560"/>
                <a:chExt cx="1558440" cy="6145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90200" y="2183400"/>
                  <a:ext cx="151992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99-200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71480" y="2176560"/>
                  <a:ext cx="155844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2330640" y="2176560"/>
                <a:ext cx="1312920" cy="614520"/>
                <a:chOff x="2330640" y="2176560"/>
                <a:chExt cx="1312920" cy="6145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2349360" y="2183400"/>
                  <a:ext cx="12744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330640" y="2176560"/>
                  <a:ext cx="13129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644640" y="2176560"/>
                <a:ext cx="2497320" cy="614520"/>
                <a:chOff x="3644640" y="2176560"/>
                <a:chExt cx="2497320" cy="6145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663360" y="2183400"/>
                  <a:ext cx="24588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644640" y="2176560"/>
                  <a:ext cx="24973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142680" y="2176560"/>
                <a:ext cx="2610360" cy="614520"/>
                <a:chOff x="6142680" y="2176560"/>
                <a:chExt cx="2610360" cy="6145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161400" y="2183400"/>
                  <a:ext cx="257256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142680" y="2176560"/>
                  <a:ext cx="261036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771480" y="2805840"/>
                <a:ext cx="1558440" cy="614520"/>
                <a:chOff x="771480" y="2805840"/>
                <a:chExt cx="1558440" cy="61452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790200" y="2812680"/>
                  <a:ext cx="151992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2-200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71480" y="2805840"/>
                  <a:ext cx="155844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2330640" y="2805840"/>
                <a:ext cx="1312920" cy="614520"/>
                <a:chOff x="2330640" y="2805840"/>
                <a:chExt cx="1312920" cy="61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349360" y="2812680"/>
                  <a:ext cx="12744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330640" y="2805840"/>
                  <a:ext cx="13129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644640" y="2805840"/>
                <a:ext cx="2497320" cy="614520"/>
                <a:chOff x="3644640" y="2805840"/>
                <a:chExt cx="2497320" cy="6145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663360" y="2812680"/>
                  <a:ext cx="24588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7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644640" y="2805840"/>
                  <a:ext cx="24973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142680" y="2805840"/>
                <a:ext cx="2610360" cy="614520"/>
                <a:chOff x="6142680" y="2805840"/>
                <a:chExt cx="2610360" cy="6145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161400" y="2812680"/>
                  <a:ext cx="257256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3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42680" y="2805840"/>
                  <a:ext cx="261036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71480" y="3435120"/>
                <a:ext cx="1558440" cy="614880"/>
                <a:chOff x="771480" y="3435120"/>
                <a:chExt cx="1558440" cy="6148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90200" y="3442320"/>
                  <a:ext cx="151992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5-20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1480" y="3435120"/>
                  <a:ext cx="15584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2330640" y="3435120"/>
                <a:ext cx="1312920" cy="614880"/>
                <a:chOff x="2330640" y="3435120"/>
                <a:chExt cx="1312920" cy="61488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2349360" y="3442320"/>
                  <a:ext cx="127440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4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330640" y="3435120"/>
                  <a:ext cx="13129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644640" y="3435120"/>
                <a:ext cx="2497320" cy="614880"/>
                <a:chOff x="3644640" y="3435120"/>
                <a:chExt cx="2497320" cy="6148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663360" y="3442320"/>
                  <a:ext cx="245880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644640" y="3435120"/>
                  <a:ext cx="24973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142680" y="3435120"/>
                <a:ext cx="2610360" cy="614880"/>
                <a:chOff x="6142680" y="3435120"/>
                <a:chExt cx="2610360" cy="6148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161400" y="3442320"/>
                  <a:ext cx="257256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142680" y="3435120"/>
                  <a:ext cx="261036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71480" y="4064400"/>
                <a:ext cx="1558440" cy="614880"/>
                <a:chOff x="771480" y="4064400"/>
                <a:chExt cx="1558440" cy="6148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90200" y="4071600"/>
                  <a:ext cx="151992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8-20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1480" y="4064400"/>
                  <a:ext cx="15584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2330640" y="4064400"/>
                <a:ext cx="1312920" cy="614880"/>
                <a:chOff x="2330640" y="4064400"/>
                <a:chExt cx="1312920" cy="6148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349360" y="4071600"/>
                  <a:ext cx="127440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3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330640" y="4064400"/>
                  <a:ext cx="13129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644640" y="4064400"/>
                <a:ext cx="2497320" cy="614880"/>
                <a:chOff x="3644640" y="4064400"/>
                <a:chExt cx="2497320" cy="614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3663360" y="4071600"/>
                  <a:ext cx="245880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644640" y="4064400"/>
                  <a:ext cx="24973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6142680" y="4064400"/>
                <a:ext cx="2610360" cy="614880"/>
                <a:chOff x="6142680" y="4064400"/>
                <a:chExt cx="2610360" cy="61488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161400" y="4071600"/>
                  <a:ext cx="2572560" cy="5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4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142680" y="4064400"/>
                  <a:ext cx="261036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71480" y="4694040"/>
                <a:ext cx="1558440" cy="614520"/>
                <a:chOff x="771480" y="4694040"/>
                <a:chExt cx="1558440" cy="6145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90200" y="4700880"/>
                  <a:ext cx="151992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1-20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71480" y="4694040"/>
                  <a:ext cx="155844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2330640" y="4694040"/>
                <a:ext cx="1312920" cy="614520"/>
                <a:chOff x="2330640" y="4694040"/>
                <a:chExt cx="1312920" cy="6145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349360" y="4700880"/>
                  <a:ext cx="12744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330640" y="4694040"/>
                  <a:ext cx="13129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3644640" y="4694040"/>
                <a:ext cx="2497320" cy="614520"/>
                <a:chOff x="3644640" y="4694040"/>
                <a:chExt cx="2497320" cy="6145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663360" y="4700880"/>
                  <a:ext cx="24588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644640" y="4694040"/>
                  <a:ext cx="24973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142680" y="4694040"/>
                <a:ext cx="2610360" cy="614520"/>
                <a:chOff x="6142680" y="4694040"/>
                <a:chExt cx="2610360" cy="61452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161400" y="4700880"/>
                  <a:ext cx="257256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8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142680" y="4694040"/>
                  <a:ext cx="261036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71480" y="5323320"/>
                <a:ext cx="1558440" cy="614520"/>
                <a:chOff x="771480" y="5323320"/>
                <a:chExt cx="1558440" cy="6145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90200" y="5330160"/>
                  <a:ext cx="151992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4-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71480" y="5323320"/>
                  <a:ext cx="155844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30640" y="5323320"/>
                <a:ext cx="1312920" cy="614520"/>
                <a:chOff x="2330640" y="5323320"/>
                <a:chExt cx="1312920" cy="6145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349360" y="5330160"/>
                  <a:ext cx="12744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8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30640" y="5323320"/>
                  <a:ext cx="13129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3644640" y="5323320"/>
                <a:ext cx="2497320" cy="614520"/>
                <a:chOff x="3644640" y="5323320"/>
                <a:chExt cx="2497320" cy="6145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663360" y="5330160"/>
                  <a:ext cx="245880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644640" y="5323320"/>
                  <a:ext cx="249732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6142680" y="5323320"/>
                <a:ext cx="2610360" cy="614520"/>
                <a:chOff x="6142680" y="5323320"/>
                <a:chExt cx="2610360" cy="6145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6161400" y="5330160"/>
                  <a:ext cx="257256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9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142680" y="5323320"/>
                  <a:ext cx="2610360" cy="61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3" name=""/>
            <p:cNvSpPr/>
            <p:nvPr/>
          </p:nvSpPr>
          <p:spPr>
            <a:xfrm>
              <a:off x="762120" y="914400"/>
              <a:ext cx="8001720" cy="5027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57200" y="5943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IN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055160" y="2238480"/>
            <a:ext cx="65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Disponibilidad futura de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de Pino radiata en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43080" y="838080"/>
          <a:ext cx="8458200" cy="5562360"/>
        </p:xfrm>
        <a:graphic>
          <a:graphicData uri="http://schemas.openxmlformats.org/drawingml/2006/table">
            <a:tbl>
              <a:tblPr/>
              <a:tblGrid>
                <a:gridCol w="1692000"/>
                <a:gridCol w="1690920"/>
                <a:gridCol w="1760400"/>
                <a:gridCol w="1622520"/>
                <a:gridCol w="169236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LP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ER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0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4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7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5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-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-2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800280" y="228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Disponibilidad Total bajo escenario F40 (miles m</a:t>
            </a:r>
            <a:r>
              <a:rPr b="1" lang="es-ES_tradnl" sz="2000" spc="-1" strike="noStrike" baseline="30000">
                <a:solidFill>
                  <a:srgbClr val="660033"/>
                </a:solidFill>
                <a:latin typeface="Times New Roman"/>
              </a:rPr>
              <a:t>3</a:t>
            </a: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/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653724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IN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343080" y="838080"/>
          <a:ext cx="8458200" cy="5562720"/>
        </p:xfrm>
        <a:graphic>
          <a:graphicData uri="http://schemas.openxmlformats.org/drawingml/2006/table">
            <a:tbl>
              <a:tblPr/>
              <a:tblGrid>
                <a:gridCol w="1692000"/>
                <a:gridCol w="1690920"/>
                <a:gridCol w="1760400"/>
                <a:gridCol w="1622520"/>
                <a:gridCol w="169236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LP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ER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4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0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6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4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-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-2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1499400" y="380880"/>
            <a:ext cx="61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Disponibilidad Total bajo escenario F80 (miles m</a:t>
            </a:r>
            <a:r>
              <a:rPr b="1" lang="es-ES_tradnl" sz="2000" spc="-1" strike="noStrike" baseline="30000">
                <a:solidFill>
                  <a:srgbClr val="660033"/>
                </a:solidFill>
                <a:latin typeface="Times New Roman"/>
              </a:rPr>
              <a:t>3</a:t>
            </a: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/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096920" y="838080"/>
          <a:ext cx="6951600" cy="5708880"/>
        </p:xfrm>
        <a:graphic>
          <a:graphicData uri="http://schemas.openxmlformats.org/drawingml/2006/table">
            <a:tbl>
              <a:tblPr/>
              <a:tblGrid>
                <a:gridCol w="1684080"/>
                <a:gridCol w="1774080"/>
                <a:gridCol w="1592640"/>
                <a:gridCol w="1685520"/>
                <a:gridCol w="216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5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4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-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4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-2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6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>
            <a:off x="1170360" y="380880"/>
            <a:ext cx="68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Comparación de resultados distintos escenarios(miles m</a:t>
            </a:r>
            <a:r>
              <a:rPr b="1" lang="es-ES_tradnl" sz="2000" spc="-1" strike="noStrike" baseline="30000">
                <a:solidFill>
                  <a:srgbClr val="660033"/>
                </a:solidFill>
                <a:latin typeface="Times New Roman"/>
              </a:rPr>
              <a:t>3</a:t>
            </a: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/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50880" y="533520"/>
            <a:ext cx="66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lantaciones de Pino radiata en el mu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(miles de h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523880" y="1397160"/>
          <a:ext cx="6096240" cy="495756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523880"/>
                <a:gridCol w="1524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dales n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U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a Ze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ñ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"/>
          <p:cNvSpPr/>
          <p:nvPr/>
        </p:nvSpPr>
        <p:spPr>
          <a:xfrm>
            <a:off x="1607400" y="6400800"/>
            <a:ext cx="314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. Departamento Forestal, Fundació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0"/>
            <a:ext cx="7543800" cy="816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PLANTACIONES Y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33"/>
                </a:solidFill>
                <a:latin typeface="Times New Roman"/>
              </a:rPr>
              <a:t>Distribución geográfica-Disponibilidad-Perten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6576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397160"/>
          <a:ext cx="8534520" cy="315108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SQUE N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onocultivo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Mayor homogeneidad y facilidad de extracción para su empleo industr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 riesgo de ataques patógen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iversidad de especie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Menor homogeneidad y dificultad de extracción para su empleo 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ia con patógenos naturales, sin grandes riesg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ocalización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En regiones IX y X la disponibilidad es escasa para emprender grandes proyectos industr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ocalización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Amplia distribución, baja disponibilidad de especies y volúmenes mader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09480" y="914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rtalezas y De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4572000"/>
          <a:ext cx="8534520" cy="990720"/>
        </p:xfrm>
        <a:graphic>
          <a:graphicData uri="http://schemas.openxmlformats.org/drawingml/2006/table">
            <a:tbl>
              <a:tblPr/>
              <a:tblGrid>
                <a:gridCol w="4343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rtenencia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La mayor parte del recurso pertenece a grande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rtenencia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La mayor parte del recurso pertenece a miles de pequeños propietarios priv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5238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dro Nº 7: Distribución de los Bosques Nativos de Acuerdo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tipo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85800" y="685800"/>
            <a:ext cx="7772040" cy="5486400"/>
            <a:chOff x="685800" y="685800"/>
            <a:chExt cx="7772040" cy="5486400"/>
          </a:xfrm>
        </p:grpSpPr>
        <p:grpSp>
          <p:nvGrpSpPr>
            <p:cNvPr id="624" name=""/>
            <p:cNvGrpSpPr/>
            <p:nvPr/>
          </p:nvGrpSpPr>
          <p:grpSpPr>
            <a:xfrm>
              <a:off x="694440" y="688320"/>
              <a:ext cx="7753320" cy="5480280"/>
              <a:chOff x="694440" y="688320"/>
              <a:chExt cx="7753320" cy="548028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694440" y="688320"/>
                <a:ext cx="2966760" cy="510480"/>
                <a:chOff x="694440" y="688320"/>
                <a:chExt cx="2966760" cy="5104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94440" y="688320"/>
                  <a:ext cx="2966760" cy="510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7" name=""/>
                <p:cNvGrpSpPr/>
                <p:nvPr/>
              </p:nvGrpSpPr>
              <p:grpSpPr>
                <a:xfrm>
                  <a:off x="694440" y="688320"/>
                  <a:ext cx="2966400" cy="487440"/>
                  <a:chOff x="694440" y="688320"/>
                  <a:chExt cx="2966400" cy="48744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711720" y="694080"/>
                    <a:ext cx="2930400" cy="4755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TIPO FORESTA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694440" y="688320"/>
                    <a:ext cx="2966400" cy="487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0" name=""/>
              <p:cNvGrpSpPr/>
              <p:nvPr/>
            </p:nvGrpSpPr>
            <p:grpSpPr>
              <a:xfrm>
                <a:off x="3661560" y="688320"/>
                <a:ext cx="2469600" cy="510480"/>
                <a:chOff x="3661560" y="688320"/>
                <a:chExt cx="2469600" cy="5104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661560" y="688320"/>
                  <a:ext cx="2469600" cy="510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2" name=""/>
                <p:cNvGrpSpPr/>
                <p:nvPr/>
              </p:nvGrpSpPr>
              <p:grpSpPr>
                <a:xfrm>
                  <a:off x="3661560" y="688320"/>
                  <a:ext cx="2469240" cy="487440"/>
                  <a:chOff x="3661560" y="688320"/>
                  <a:chExt cx="2469240" cy="48744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3678840" y="694080"/>
                    <a:ext cx="2433960" cy="4755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SUPERFICIE (ha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661560" y="688320"/>
                    <a:ext cx="2469240" cy="487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6131880" y="688320"/>
                <a:ext cx="2315880" cy="510480"/>
                <a:chOff x="6131880" y="688320"/>
                <a:chExt cx="2315880" cy="5104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31880" y="688320"/>
                  <a:ext cx="2315880" cy="510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6131880" y="688320"/>
                  <a:ext cx="2315520" cy="487440"/>
                  <a:chOff x="6131880" y="688320"/>
                  <a:chExt cx="2315520" cy="4874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6149880" y="694080"/>
                    <a:ext cx="2279160" cy="4755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RCENTAJ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131880" y="688320"/>
                    <a:ext cx="2315520" cy="487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0" name=""/>
              <p:cNvGrpSpPr/>
              <p:nvPr/>
            </p:nvGrpSpPr>
            <p:grpSpPr>
              <a:xfrm>
                <a:off x="694440" y="1187280"/>
                <a:ext cx="2966760" cy="376920"/>
                <a:chOff x="694440" y="1187280"/>
                <a:chExt cx="2966760" cy="3769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11720" y="119304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empre ver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94440" y="1187280"/>
                  <a:ext cx="296676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661560" y="1187280"/>
                <a:ext cx="2469600" cy="376920"/>
                <a:chOff x="3661560" y="1187280"/>
                <a:chExt cx="2469600" cy="3769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678840" y="119304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350.8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661560" y="1187280"/>
                  <a:ext cx="246960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6131880" y="1187280"/>
                <a:ext cx="2315880" cy="376920"/>
                <a:chOff x="6131880" y="1187280"/>
                <a:chExt cx="2315880" cy="3769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149880" y="119304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,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131880" y="1187280"/>
                  <a:ext cx="231588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94440" y="1575720"/>
                <a:ext cx="2966760" cy="376560"/>
                <a:chOff x="694440" y="1575720"/>
                <a:chExt cx="2966760" cy="3765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711720" y="158112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ng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94440" y="1575720"/>
                  <a:ext cx="2966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3661560" y="1575720"/>
                <a:ext cx="2469600" cy="376560"/>
                <a:chOff x="3661560" y="1575720"/>
                <a:chExt cx="2469600" cy="3765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678840" y="158112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400.34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661560" y="1575720"/>
                  <a:ext cx="24696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6131880" y="1575720"/>
                <a:ext cx="2315880" cy="376560"/>
                <a:chOff x="6131880" y="1575720"/>
                <a:chExt cx="2315880" cy="3765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6149880" y="158112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,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131880" y="1575720"/>
                  <a:ext cx="231588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694440" y="1964160"/>
                <a:ext cx="2966760" cy="487440"/>
                <a:chOff x="694440" y="1964160"/>
                <a:chExt cx="2966760" cy="4874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711720" y="1969560"/>
                  <a:ext cx="293076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igüe de Magal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94440" y="1964160"/>
                  <a:ext cx="2966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3661560" y="1964160"/>
                <a:ext cx="2469600" cy="487440"/>
                <a:chOff x="3661560" y="1964160"/>
                <a:chExt cx="2469600" cy="48744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78840" y="1969560"/>
                  <a:ext cx="243432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801.63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661560" y="1964160"/>
                  <a:ext cx="24696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131880" y="1964160"/>
                <a:ext cx="2315880" cy="487440"/>
                <a:chOff x="6131880" y="1964160"/>
                <a:chExt cx="2315880" cy="4874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149880" y="1969560"/>
                  <a:ext cx="227952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,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131880" y="1964160"/>
                  <a:ext cx="23158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94440" y="2463480"/>
                <a:ext cx="2966760" cy="376560"/>
                <a:chOff x="694440" y="2463480"/>
                <a:chExt cx="2966760" cy="37656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11720" y="246888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ble-Raulí-Coigü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94440" y="2463480"/>
                  <a:ext cx="2966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3661560" y="2463480"/>
                <a:ext cx="2469600" cy="376560"/>
                <a:chOff x="3661560" y="2463480"/>
                <a:chExt cx="2469600" cy="37656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678840" y="246888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370.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661560" y="2463480"/>
                  <a:ext cx="24696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6131880" y="2463480"/>
                <a:ext cx="2315880" cy="376560"/>
                <a:chOff x="6131880" y="2463480"/>
                <a:chExt cx="2315880" cy="3765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6149880" y="246888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131880" y="2463480"/>
                  <a:ext cx="231588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94440" y="2851920"/>
                <a:ext cx="2966760" cy="487440"/>
                <a:chOff x="694440" y="2851920"/>
                <a:chExt cx="2966760" cy="4874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711720" y="2857680"/>
                  <a:ext cx="293076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prés de las Güaite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94440" y="2851920"/>
                  <a:ext cx="2966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661560" y="2851920"/>
                <a:ext cx="2469600" cy="487440"/>
                <a:chOff x="3661560" y="2851920"/>
                <a:chExt cx="2469600" cy="4874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3678840" y="2857680"/>
                  <a:ext cx="243432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72.1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661560" y="2851920"/>
                  <a:ext cx="24696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131880" y="2851920"/>
                <a:ext cx="2315880" cy="487440"/>
                <a:chOff x="6131880" y="2851920"/>
                <a:chExt cx="2315880" cy="4874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149880" y="2857680"/>
                  <a:ext cx="227952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131880" y="2851920"/>
                  <a:ext cx="23158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94440" y="3350880"/>
                <a:ext cx="2966760" cy="376920"/>
                <a:chOff x="694440" y="3350880"/>
                <a:chExt cx="2966760" cy="3769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711720" y="335664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igüe-Raulí-Tep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4440" y="3350880"/>
                  <a:ext cx="296676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661560" y="3350880"/>
                <a:ext cx="2469600" cy="376920"/>
                <a:chOff x="3661560" y="3350880"/>
                <a:chExt cx="2469600" cy="3769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678840" y="335664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6.91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661560" y="3350880"/>
                  <a:ext cx="246960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131880" y="3350880"/>
                <a:ext cx="2315880" cy="376920"/>
                <a:chOff x="6131880" y="3350880"/>
                <a:chExt cx="2315880" cy="3769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149880" y="335664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131880" y="3350880"/>
                  <a:ext cx="231588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694440" y="3739320"/>
                <a:ext cx="2966760" cy="376920"/>
                <a:chOff x="694440" y="3739320"/>
                <a:chExt cx="2966760" cy="3769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11720" y="374508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clerófi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94440" y="3739320"/>
                  <a:ext cx="296676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661560" y="3739320"/>
                <a:ext cx="2469600" cy="376920"/>
                <a:chOff x="3661560" y="3739320"/>
                <a:chExt cx="2469600" cy="3769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678840" y="374508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.63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661560" y="3739320"/>
                  <a:ext cx="246960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131880" y="3739320"/>
                <a:ext cx="2315880" cy="376920"/>
                <a:chOff x="6131880" y="3739320"/>
                <a:chExt cx="2315880" cy="3769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149880" y="374508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31880" y="3739320"/>
                  <a:ext cx="2315880" cy="37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694440" y="4127760"/>
                <a:ext cx="2966760" cy="376560"/>
                <a:chOff x="694440" y="4127760"/>
                <a:chExt cx="2966760" cy="3765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711720" y="413316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erc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94440" y="4127760"/>
                  <a:ext cx="2966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3661560" y="4127760"/>
                <a:ext cx="2469600" cy="376560"/>
                <a:chOff x="3661560" y="4127760"/>
                <a:chExt cx="2469600" cy="376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678840" y="413316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4.99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661560" y="4127760"/>
                  <a:ext cx="24696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131880" y="4127760"/>
                <a:ext cx="2315880" cy="376560"/>
                <a:chOff x="6131880" y="4127760"/>
                <a:chExt cx="2315880" cy="37656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149880" y="413316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131880" y="4127760"/>
                  <a:ext cx="231588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94440" y="4516200"/>
                <a:ext cx="2966760" cy="376560"/>
                <a:chOff x="694440" y="4516200"/>
                <a:chExt cx="2966760" cy="37656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711720" y="452160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auca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94440" y="4516200"/>
                  <a:ext cx="2966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3661560" y="4516200"/>
                <a:ext cx="2469600" cy="376560"/>
                <a:chOff x="3661560" y="4516200"/>
                <a:chExt cx="2469600" cy="3765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3678840" y="452160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3.7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61560" y="4516200"/>
                  <a:ext cx="24696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6131880" y="4516200"/>
                <a:ext cx="2315880" cy="376560"/>
                <a:chOff x="6131880" y="4516200"/>
                <a:chExt cx="2315880" cy="3765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6149880" y="452160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131880" y="4516200"/>
                  <a:ext cx="231588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694440" y="4904640"/>
                <a:ext cx="2966760" cy="376560"/>
                <a:chOff x="694440" y="4904640"/>
                <a:chExt cx="2966760" cy="3765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11720" y="491004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ble-Hua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94440" y="4904640"/>
                  <a:ext cx="2966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3661560" y="4904640"/>
                <a:ext cx="2469600" cy="376560"/>
                <a:chOff x="3661560" y="4904640"/>
                <a:chExt cx="2469600" cy="3765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3678840" y="491004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4.7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61560" y="4904640"/>
                  <a:ext cx="24696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131880" y="4904640"/>
                <a:ext cx="2315880" cy="376560"/>
                <a:chOff x="6131880" y="4904640"/>
                <a:chExt cx="2315880" cy="3765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149880" y="491004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131880" y="4904640"/>
                  <a:ext cx="231588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694440" y="5293080"/>
                <a:ext cx="2966760" cy="487440"/>
                <a:chOff x="694440" y="5293080"/>
                <a:chExt cx="2966760" cy="487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711720" y="5298480"/>
                  <a:ext cx="293076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prés de la Cordille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4440" y="5293080"/>
                  <a:ext cx="2966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3661560" y="5293080"/>
                <a:ext cx="2469600" cy="487440"/>
                <a:chOff x="3661560" y="5293080"/>
                <a:chExt cx="2469600" cy="4874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3678840" y="5298480"/>
                  <a:ext cx="243432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.07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661560" y="5293080"/>
                  <a:ext cx="24696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131880" y="5293080"/>
                <a:ext cx="2315880" cy="487440"/>
                <a:chOff x="6131880" y="5293080"/>
                <a:chExt cx="2315880" cy="4874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149880" y="5298480"/>
                  <a:ext cx="2279520" cy="47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131880" y="5293080"/>
                  <a:ext cx="23158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94440" y="5792040"/>
                <a:ext cx="2966760" cy="376560"/>
                <a:chOff x="694440" y="5792040"/>
                <a:chExt cx="2966760" cy="3765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11720" y="5797800"/>
                  <a:ext cx="293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94440" y="5792040"/>
                  <a:ext cx="296676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3661560" y="5792040"/>
                <a:ext cx="2469600" cy="376560"/>
                <a:chOff x="3661560" y="5792040"/>
                <a:chExt cx="2469600" cy="3765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678840" y="5797800"/>
                  <a:ext cx="243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443.3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661560" y="5792040"/>
                  <a:ext cx="246960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131880" y="5792040"/>
                <a:ext cx="2315880" cy="376560"/>
                <a:chOff x="6131880" y="5792040"/>
                <a:chExt cx="2315880" cy="3765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149880" y="5797800"/>
                  <a:ext cx="227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131880" y="5792040"/>
                  <a:ext cx="231588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8" name=""/>
            <p:cNvSpPr/>
            <p:nvPr/>
          </p:nvSpPr>
          <p:spPr>
            <a:xfrm>
              <a:off x="685800" y="685800"/>
              <a:ext cx="77720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685800" y="6248520"/>
            <a:ext cx="769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Catastro y evaluación de los recursos Vegetacionales Nativos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 de Chile (CONAF – CONAMA, 199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2193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SINTESIS BOSQUE N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1371600" y="457200"/>
            <a:ext cx="10134720" cy="51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El consumo de madera nativa bajó de 67% (1962) a 11% (19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La actividad económica industrial se centró en el uso del pino radi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El principal problema que subsiste es el consumo como combust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Del total de hectáreas de bosques nativos, sólo una parte corresponde a bosques produc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erca del 91% de los bosques nativos se encuentran entre la IX y XII regiones, los bosques accesibles o maderables suman 4,2 millones de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Los rendimientos aprovechables del bosque nativo no superan el 55%, sólo 15% es de buena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o algunas especies(7) representan alternativas madereras re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57200" y="6094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-1905120" y="0"/>
            <a:ext cx="11049120" cy="71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La legislación actual es insuficiente para un manejo sustentable del recur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El principal problema se centra en la sustitución de especies (en la VIII y X región principal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El empleo de fibra de eucalipto, no permitiría seguir utilizando astillas nativas como actividad rentable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“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Times New Roman"/>
              </a:rPr>
              <a:t>El manejo y subsidio al bosque nativo perderían sentid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n estos mercados aparece el abandono, el floreo, cambio de u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desprotección ante incendios, plagas y rob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Falta un escenario adecuado para realizar actividad económica relevante en base a este re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Existe hoy un manejo apropiado y económicamente rentable para el uso de le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La propiedad de los bosques nativos no estat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o un 4% pertenece a empresas fores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e dispersa en más de 30.000 pequeños y medianos propietarios, quienes no tienen hoy participación orgánica respecto al bosque n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65360" y="1697040"/>
            <a:ext cx="446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6156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IN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2860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species, Distribución y N</a:t>
            </a:r>
            <a:r>
              <a:rPr b="1" lang="es-ES_tradnl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ero de hectáreas de Plant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                          </a:t>
            </a:r>
            <a:r>
              <a:rPr b="1" lang="es-E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orestales por Regiones en Chile</a:t>
            </a:r>
            <a:r>
              <a:rPr b="1" lang="es-E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1219320"/>
            <a:ext cx="8152920" cy="4952880"/>
            <a:chOff x="457200" y="1219320"/>
            <a:chExt cx="8152920" cy="4952880"/>
          </a:xfrm>
        </p:grpSpPr>
        <p:grpSp>
          <p:nvGrpSpPr>
            <p:cNvPr id="57" name=""/>
            <p:cNvGrpSpPr/>
            <p:nvPr/>
          </p:nvGrpSpPr>
          <p:grpSpPr>
            <a:xfrm>
              <a:off x="464400" y="1221840"/>
              <a:ext cx="8137800" cy="4947120"/>
              <a:chOff x="464400" y="1221840"/>
              <a:chExt cx="8137800" cy="49471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464400" y="1221840"/>
                <a:ext cx="677160" cy="572760"/>
                <a:chOff x="464400" y="1221840"/>
                <a:chExt cx="677160" cy="5727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64400" y="1221840"/>
                  <a:ext cx="67716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464400" y="1221840"/>
                  <a:ext cx="676800" cy="549360"/>
                  <a:chOff x="464400" y="1221840"/>
                  <a:chExt cx="676800" cy="549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478800" y="1227240"/>
                    <a:ext cx="64800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Regió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464400" y="1221840"/>
                    <a:ext cx="676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" name=""/>
              <p:cNvGrpSpPr/>
              <p:nvPr/>
            </p:nvGrpSpPr>
            <p:grpSpPr>
              <a:xfrm>
                <a:off x="1141920" y="1221840"/>
                <a:ext cx="880920" cy="572760"/>
                <a:chOff x="1141920" y="1221840"/>
                <a:chExt cx="880920" cy="5727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141920" y="1221840"/>
                  <a:ext cx="88092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1141920" y="1221840"/>
                  <a:ext cx="880560" cy="549360"/>
                  <a:chOff x="1141920" y="1221840"/>
                  <a:chExt cx="880560" cy="5493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1156680" y="1227240"/>
                    <a:ext cx="85104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in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Radiat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141920" y="1221840"/>
                    <a:ext cx="88056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"/>
              <p:cNvGrpSpPr/>
              <p:nvPr/>
            </p:nvGrpSpPr>
            <p:grpSpPr>
              <a:xfrm>
                <a:off x="2023200" y="1221840"/>
                <a:ext cx="880920" cy="572760"/>
                <a:chOff x="2023200" y="1221840"/>
                <a:chExt cx="880920" cy="5727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023200" y="1221840"/>
                  <a:ext cx="88092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2023200" y="1221840"/>
                  <a:ext cx="880560" cy="549360"/>
                  <a:chOff x="2023200" y="1221840"/>
                  <a:chExt cx="880560" cy="5493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2037960" y="1227240"/>
                    <a:ext cx="85104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Eucalip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23200" y="1221840"/>
                    <a:ext cx="88056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"/>
              <p:cNvGrpSpPr/>
              <p:nvPr/>
            </p:nvGrpSpPr>
            <p:grpSpPr>
              <a:xfrm>
                <a:off x="2904480" y="1221840"/>
                <a:ext cx="782640" cy="572760"/>
                <a:chOff x="2904480" y="1221840"/>
                <a:chExt cx="782640" cy="572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904480" y="1221840"/>
                  <a:ext cx="78264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2904480" y="1221840"/>
                  <a:ext cx="782280" cy="549360"/>
                  <a:chOff x="2904480" y="1221840"/>
                  <a:chExt cx="782280" cy="5493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2919240" y="1227240"/>
                    <a:ext cx="75276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Atripl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2904480" y="1221840"/>
                    <a:ext cx="7822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"/>
              <p:cNvGrpSpPr/>
              <p:nvPr/>
            </p:nvGrpSpPr>
            <p:grpSpPr>
              <a:xfrm>
                <a:off x="3687840" y="1221840"/>
                <a:ext cx="954360" cy="572760"/>
                <a:chOff x="3687840" y="1221840"/>
                <a:chExt cx="954360" cy="5727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87840" y="1221840"/>
                  <a:ext cx="95436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3687840" y="1221840"/>
                  <a:ext cx="954000" cy="549360"/>
                  <a:chOff x="3687840" y="1221840"/>
                  <a:chExt cx="954000" cy="5493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3702240" y="1227240"/>
                    <a:ext cx="92520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Tamarug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687840" y="1221840"/>
                    <a:ext cx="9540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4642560" y="1221840"/>
                <a:ext cx="944640" cy="572760"/>
                <a:chOff x="4642560" y="1221840"/>
                <a:chExt cx="944640" cy="5727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642560" y="1221840"/>
                  <a:ext cx="94464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4642560" y="1221840"/>
                  <a:ext cx="944280" cy="549360"/>
                  <a:chOff x="4642560" y="1221840"/>
                  <a:chExt cx="944280" cy="5493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4657320" y="1227240"/>
                    <a:ext cx="91476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Algarrob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642560" y="1221840"/>
                    <a:ext cx="9442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5587920" y="1221840"/>
                <a:ext cx="635400" cy="572760"/>
                <a:chOff x="5587920" y="1221840"/>
                <a:chExt cx="635400" cy="572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587920" y="1221840"/>
                  <a:ext cx="63540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5587920" y="1221840"/>
                  <a:ext cx="635040" cy="549360"/>
                  <a:chOff x="5587920" y="1221840"/>
                  <a:chExt cx="635040" cy="54936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5602680" y="1227240"/>
                    <a:ext cx="60552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Alam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5587920" y="1221840"/>
                    <a:ext cx="6350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" name=""/>
              <p:cNvGrpSpPr/>
              <p:nvPr/>
            </p:nvGrpSpPr>
            <p:grpSpPr>
              <a:xfrm>
                <a:off x="6223680" y="1221840"/>
                <a:ext cx="723600" cy="572760"/>
                <a:chOff x="6223680" y="1221840"/>
                <a:chExt cx="723600" cy="57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223680" y="1221840"/>
                  <a:ext cx="72360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6223680" y="1221840"/>
                  <a:ext cx="723240" cy="549360"/>
                  <a:chOff x="6223680" y="1221840"/>
                  <a:chExt cx="723240" cy="5493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6238440" y="1227240"/>
                    <a:ext cx="69372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in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Oregó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223680" y="1221840"/>
                    <a:ext cx="7232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6948000" y="1221840"/>
                <a:ext cx="794880" cy="572760"/>
                <a:chOff x="6948000" y="1221840"/>
                <a:chExt cx="794880" cy="572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948000" y="1221840"/>
                  <a:ext cx="79488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6948000" y="1221840"/>
                  <a:ext cx="794520" cy="549360"/>
                  <a:chOff x="6948000" y="1221840"/>
                  <a:chExt cx="794520" cy="5493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6962760" y="1227240"/>
                    <a:ext cx="76464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Otras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Especi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948000" y="1221840"/>
                    <a:ext cx="794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7743600" y="1221840"/>
                <a:ext cx="858600" cy="572760"/>
                <a:chOff x="7743600" y="1221840"/>
                <a:chExt cx="858600" cy="572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743600" y="1221840"/>
                  <a:ext cx="858600" cy="572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7743600" y="1221840"/>
                  <a:ext cx="858240" cy="549360"/>
                  <a:chOff x="7743600" y="1221840"/>
                  <a:chExt cx="858240" cy="5493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7758000" y="1227240"/>
                    <a:ext cx="829440" cy="53784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Tot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743600" y="1221840"/>
                    <a:ext cx="8582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464400" y="1783080"/>
                <a:ext cx="677160" cy="362160"/>
                <a:chOff x="464400" y="1783080"/>
                <a:chExt cx="677160" cy="3621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78800" y="1788480"/>
                  <a:ext cx="6483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4400" y="1783080"/>
                  <a:ext cx="6771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1920" y="1783080"/>
                <a:ext cx="880920" cy="362160"/>
                <a:chOff x="1141920" y="1783080"/>
                <a:chExt cx="880920" cy="36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156680" y="1788480"/>
                  <a:ext cx="8514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1920" y="1783080"/>
                  <a:ext cx="88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023200" y="1783080"/>
                <a:ext cx="880920" cy="362160"/>
                <a:chOff x="2023200" y="1783080"/>
                <a:chExt cx="880920" cy="362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037960" y="1788480"/>
                  <a:ext cx="8514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23200" y="1783080"/>
                  <a:ext cx="88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04480" y="1783080"/>
                <a:ext cx="782640" cy="362160"/>
                <a:chOff x="2904480" y="1783080"/>
                <a:chExt cx="782640" cy="3621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19240" y="1788480"/>
                  <a:ext cx="753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904480" y="1783080"/>
                  <a:ext cx="782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687840" y="1783080"/>
                <a:ext cx="954360" cy="362160"/>
                <a:chOff x="3687840" y="1783080"/>
                <a:chExt cx="954360" cy="3621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702240" y="1788480"/>
                  <a:ext cx="9255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62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687840" y="1783080"/>
                  <a:ext cx="9543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42560" y="1783080"/>
                <a:ext cx="944640" cy="362160"/>
                <a:chOff x="4642560" y="1783080"/>
                <a:chExt cx="944640" cy="362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657320" y="1788480"/>
                  <a:ext cx="91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20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42560" y="1783080"/>
                  <a:ext cx="944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5587920" y="1783080"/>
                <a:ext cx="635400" cy="362160"/>
                <a:chOff x="5587920" y="1783080"/>
                <a:chExt cx="635400" cy="3621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602680" y="1788480"/>
                  <a:ext cx="6058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87920" y="1783080"/>
                  <a:ext cx="6354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223680" y="1783080"/>
                <a:ext cx="723600" cy="362160"/>
                <a:chOff x="6223680" y="1783080"/>
                <a:chExt cx="723600" cy="362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238440" y="1788480"/>
                  <a:ext cx="6940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23680" y="1783080"/>
                  <a:ext cx="723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948000" y="1783080"/>
                <a:ext cx="794880" cy="362160"/>
                <a:chOff x="6948000" y="1783080"/>
                <a:chExt cx="794880" cy="3621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62760" y="1788480"/>
                  <a:ext cx="7650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48000" y="1783080"/>
                  <a:ext cx="7948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743600" y="1783080"/>
                <a:ext cx="858600" cy="362160"/>
                <a:chOff x="7743600" y="1783080"/>
                <a:chExt cx="858600" cy="362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58000" y="1788480"/>
                  <a:ext cx="8298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5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43600" y="1783080"/>
                  <a:ext cx="858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64400" y="2157120"/>
                <a:ext cx="677160" cy="456120"/>
                <a:chOff x="464400" y="2157120"/>
                <a:chExt cx="677160" cy="4561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78800" y="216288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V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64400" y="2157120"/>
                  <a:ext cx="6771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1920" y="2157120"/>
                <a:ext cx="880920" cy="456120"/>
                <a:chOff x="1141920" y="2157120"/>
                <a:chExt cx="880920" cy="456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156680" y="216288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1920" y="215712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023200" y="2157120"/>
                <a:ext cx="880920" cy="456120"/>
                <a:chOff x="2023200" y="2157120"/>
                <a:chExt cx="880920" cy="456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037960" y="216288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16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023200" y="215712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04480" y="2157120"/>
                <a:ext cx="782640" cy="456120"/>
                <a:chOff x="2904480" y="2157120"/>
                <a:chExt cx="782640" cy="45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216288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9.1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04480" y="2157120"/>
                  <a:ext cx="782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687840" y="2157120"/>
                <a:ext cx="954360" cy="456120"/>
                <a:chOff x="3687840" y="2157120"/>
                <a:chExt cx="954360" cy="456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02240" y="216288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87840" y="2157120"/>
                  <a:ext cx="9543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642560" y="2157120"/>
                <a:ext cx="944640" cy="456120"/>
                <a:chOff x="4642560" y="2157120"/>
                <a:chExt cx="944640" cy="4561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657320" y="216288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42560" y="2157120"/>
                  <a:ext cx="944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587920" y="2157120"/>
                <a:ext cx="635400" cy="456120"/>
                <a:chOff x="5587920" y="2157120"/>
                <a:chExt cx="635400" cy="4561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602680" y="216288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587920" y="2157120"/>
                  <a:ext cx="6354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223680" y="2157120"/>
                <a:ext cx="723600" cy="456120"/>
                <a:chOff x="6223680" y="2157120"/>
                <a:chExt cx="723600" cy="456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238440" y="216288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23680" y="2157120"/>
                  <a:ext cx="723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948000" y="2157120"/>
                <a:ext cx="794880" cy="456120"/>
                <a:chOff x="6948000" y="2157120"/>
                <a:chExt cx="794880" cy="45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962760" y="216288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29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48000" y="2157120"/>
                  <a:ext cx="79488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743600" y="2157120"/>
                <a:ext cx="858600" cy="456120"/>
                <a:chOff x="7743600" y="2157120"/>
                <a:chExt cx="858600" cy="456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58000" y="216288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6.27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3600" y="2157120"/>
                  <a:ext cx="858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64400" y="2625120"/>
                <a:ext cx="677160" cy="362160"/>
                <a:chOff x="464400" y="2625120"/>
                <a:chExt cx="677160" cy="362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78800" y="2630520"/>
                  <a:ext cx="6483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4400" y="2625120"/>
                  <a:ext cx="6771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141920" y="2625120"/>
                <a:ext cx="880920" cy="362160"/>
                <a:chOff x="1141920" y="2625120"/>
                <a:chExt cx="880920" cy="3621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156680" y="2630520"/>
                  <a:ext cx="8514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82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41920" y="2625120"/>
                  <a:ext cx="88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023200" y="2625120"/>
                <a:ext cx="880920" cy="362160"/>
                <a:chOff x="2023200" y="2625120"/>
                <a:chExt cx="880920" cy="362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037960" y="2630520"/>
                  <a:ext cx="8514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.96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023200" y="2625120"/>
                  <a:ext cx="88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904480" y="2625120"/>
                <a:ext cx="782640" cy="362160"/>
                <a:chOff x="2904480" y="2625120"/>
                <a:chExt cx="782640" cy="3621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919240" y="2630520"/>
                  <a:ext cx="753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904480" y="2625120"/>
                  <a:ext cx="782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687840" y="2625120"/>
                <a:ext cx="954360" cy="362160"/>
                <a:chOff x="3687840" y="2625120"/>
                <a:chExt cx="9543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702240" y="2630520"/>
                  <a:ext cx="9255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687840" y="2625120"/>
                  <a:ext cx="9543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642560" y="2625120"/>
                <a:ext cx="944640" cy="362160"/>
                <a:chOff x="4642560" y="2625120"/>
                <a:chExt cx="94464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657320" y="2630520"/>
                  <a:ext cx="91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42560" y="2625120"/>
                  <a:ext cx="944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587920" y="2625120"/>
                <a:ext cx="635400" cy="362160"/>
                <a:chOff x="5587920" y="2625120"/>
                <a:chExt cx="6354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602680" y="2630520"/>
                  <a:ext cx="6058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587920" y="2625120"/>
                  <a:ext cx="6354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23680" y="2625120"/>
                <a:ext cx="723600" cy="362160"/>
                <a:chOff x="6223680" y="2625120"/>
                <a:chExt cx="72360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38440" y="2630520"/>
                  <a:ext cx="6940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23680" y="2625120"/>
                  <a:ext cx="723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948000" y="2625120"/>
                <a:ext cx="794880" cy="362160"/>
                <a:chOff x="6948000" y="2625120"/>
                <a:chExt cx="79488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962760" y="2630520"/>
                  <a:ext cx="7650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8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948000" y="2625120"/>
                  <a:ext cx="7948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743600" y="2625120"/>
                <a:ext cx="858600" cy="362160"/>
                <a:chOff x="7743600" y="2625120"/>
                <a:chExt cx="8586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758000" y="2630520"/>
                  <a:ext cx="8298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.79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743600" y="2625120"/>
                  <a:ext cx="858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4400" y="2999160"/>
                <a:ext cx="677160" cy="362520"/>
                <a:chOff x="464400" y="2999160"/>
                <a:chExt cx="677160" cy="362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8800" y="3004920"/>
                  <a:ext cx="6483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4400" y="2999160"/>
                  <a:ext cx="67716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41920" y="2999160"/>
                <a:ext cx="880920" cy="362520"/>
                <a:chOff x="1141920" y="2999160"/>
                <a:chExt cx="880920" cy="362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156680" y="3004920"/>
                  <a:ext cx="8514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.28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141920" y="2999160"/>
                  <a:ext cx="88092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023200" y="2999160"/>
                <a:ext cx="880920" cy="362520"/>
                <a:chOff x="2023200" y="2999160"/>
                <a:chExt cx="880920" cy="362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037960" y="3004920"/>
                  <a:ext cx="8514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11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23200" y="2999160"/>
                  <a:ext cx="88092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904480" y="2999160"/>
                <a:ext cx="782640" cy="362520"/>
                <a:chOff x="2904480" y="2999160"/>
                <a:chExt cx="782640" cy="362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919240" y="3004920"/>
                  <a:ext cx="753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904480" y="2999160"/>
                  <a:ext cx="78264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687840" y="2999160"/>
                <a:ext cx="954360" cy="362520"/>
                <a:chOff x="3687840" y="2999160"/>
                <a:chExt cx="954360" cy="362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702240" y="3004920"/>
                  <a:ext cx="92556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687840" y="2999160"/>
                  <a:ext cx="95436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642560" y="2999160"/>
                <a:ext cx="944640" cy="362520"/>
                <a:chOff x="4642560" y="2999160"/>
                <a:chExt cx="944640" cy="362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657320" y="3004920"/>
                  <a:ext cx="9151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42560" y="2999160"/>
                  <a:ext cx="94464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587920" y="2999160"/>
                <a:ext cx="635400" cy="362520"/>
                <a:chOff x="5587920" y="2999160"/>
                <a:chExt cx="635400" cy="3625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602680" y="3004920"/>
                  <a:ext cx="6058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87920" y="2999160"/>
                  <a:ext cx="63540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223680" y="2999160"/>
                <a:ext cx="723600" cy="362520"/>
                <a:chOff x="6223680" y="2999160"/>
                <a:chExt cx="723600" cy="362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238440" y="3004920"/>
                  <a:ext cx="69408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23680" y="2999160"/>
                  <a:ext cx="72360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948000" y="2999160"/>
                <a:ext cx="794880" cy="362520"/>
                <a:chOff x="6948000" y="2999160"/>
                <a:chExt cx="794880" cy="3625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62760" y="3004920"/>
                  <a:ext cx="7650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4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948000" y="2999160"/>
                  <a:ext cx="79488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743600" y="2999160"/>
                <a:ext cx="858600" cy="362520"/>
                <a:chOff x="7743600" y="2999160"/>
                <a:chExt cx="858600" cy="3625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758000" y="3004920"/>
                  <a:ext cx="8298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.8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43600" y="2999160"/>
                  <a:ext cx="858600" cy="3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4400" y="3373560"/>
                <a:ext cx="677160" cy="455760"/>
                <a:chOff x="464400" y="3373560"/>
                <a:chExt cx="677160" cy="455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8800" y="337896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4400" y="3373560"/>
                  <a:ext cx="67716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141920" y="3373560"/>
                <a:ext cx="880920" cy="455760"/>
                <a:chOff x="1141920" y="3373560"/>
                <a:chExt cx="880920" cy="4557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156680" y="337896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2.69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141920" y="3373560"/>
                  <a:ext cx="88092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023200" y="3373560"/>
                <a:ext cx="880920" cy="455760"/>
                <a:chOff x="2023200" y="3373560"/>
                <a:chExt cx="880920" cy="455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037960" y="337896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6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023200" y="3373560"/>
                  <a:ext cx="88092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04480" y="3373560"/>
                <a:ext cx="782640" cy="455760"/>
                <a:chOff x="2904480" y="3373560"/>
                <a:chExt cx="782640" cy="455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919240" y="337896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04480" y="3373560"/>
                  <a:ext cx="78264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687840" y="3373560"/>
                <a:ext cx="954360" cy="455760"/>
                <a:chOff x="3687840" y="3373560"/>
                <a:chExt cx="954360" cy="455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702240" y="337896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687840" y="3373560"/>
                  <a:ext cx="95436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642560" y="3373560"/>
                <a:ext cx="944640" cy="455760"/>
                <a:chOff x="4642560" y="3373560"/>
                <a:chExt cx="944640" cy="4557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657320" y="337896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42560" y="3373560"/>
                  <a:ext cx="94464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587920" y="3373560"/>
                <a:ext cx="635400" cy="455760"/>
                <a:chOff x="5587920" y="3373560"/>
                <a:chExt cx="635400" cy="455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602680" y="337896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2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587920" y="3373560"/>
                  <a:ext cx="63540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223680" y="3373560"/>
                <a:ext cx="723600" cy="455760"/>
                <a:chOff x="6223680" y="3373560"/>
                <a:chExt cx="723600" cy="455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238440" y="337896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223680" y="3373560"/>
                  <a:ext cx="72360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48000" y="3373560"/>
                <a:ext cx="794880" cy="455760"/>
                <a:chOff x="6948000" y="3373560"/>
                <a:chExt cx="794880" cy="4557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962760" y="337896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29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48000" y="3373560"/>
                  <a:ext cx="79488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743600" y="3373560"/>
                <a:ext cx="858600" cy="455760"/>
                <a:chOff x="7743600" y="3373560"/>
                <a:chExt cx="858600" cy="4557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758000" y="337896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3.83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743600" y="3373560"/>
                  <a:ext cx="85860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4400" y="3841560"/>
                <a:ext cx="677160" cy="456120"/>
                <a:chOff x="464400" y="3841560"/>
                <a:chExt cx="677160" cy="456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78800" y="384732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I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4400" y="3841560"/>
                  <a:ext cx="6771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141920" y="3841560"/>
                <a:ext cx="880920" cy="456120"/>
                <a:chOff x="1141920" y="3841560"/>
                <a:chExt cx="880920" cy="4561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156680" y="384732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6.5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141920" y="384156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023200" y="3841560"/>
                <a:ext cx="880920" cy="456120"/>
                <a:chOff x="2023200" y="3841560"/>
                <a:chExt cx="880920" cy="456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037960" y="384732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2.8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3200" y="384156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904480" y="3841560"/>
                <a:ext cx="782640" cy="456120"/>
                <a:chOff x="2904480" y="3841560"/>
                <a:chExt cx="782640" cy="456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919240" y="384732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04480" y="3841560"/>
                  <a:ext cx="782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687840" y="3841560"/>
                <a:ext cx="954360" cy="456120"/>
                <a:chOff x="3687840" y="3841560"/>
                <a:chExt cx="954360" cy="456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702240" y="384732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87840" y="3841560"/>
                  <a:ext cx="9543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42560" y="3841560"/>
                <a:ext cx="944640" cy="456120"/>
                <a:chOff x="4642560" y="3841560"/>
                <a:chExt cx="944640" cy="456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657320" y="384732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42560" y="3841560"/>
                  <a:ext cx="944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87920" y="3841560"/>
                <a:ext cx="635400" cy="456120"/>
                <a:chOff x="5587920" y="3841560"/>
                <a:chExt cx="635400" cy="4561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602680" y="384732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87920" y="3841560"/>
                  <a:ext cx="6354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223680" y="3841560"/>
                <a:ext cx="723600" cy="456120"/>
                <a:chOff x="6223680" y="3841560"/>
                <a:chExt cx="723600" cy="45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238440" y="384732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223680" y="3841560"/>
                  <a:ext cx="723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48000" y="3841560"/>
                <a:ext cx="794880" cy="456120"/>
                <a:chOff x="6948000" y="3841560"/>
                <a:chExt cx="794880" cy="4561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962760" y="384732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34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48000" y="3841560"/>
                  <a:ext cx="79488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743600" y="3841560"/>
                <a:ext cx="858600" cy="456120"/>
                <a:chOff x="7743600" y="3841560"/>
                <a:chExt cx="858600" cy="456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758000" y="384732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7.44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743600" y="3841560"/>
                  <a:ext cx="858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64400" y="4309200"/>
                <a:ext cx="677160" cy="456120"/>
                <a:chOff x="464400" y="4309200"/>
                <a:chExt cx="677160" cy="456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78800" y="431460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4400" y="4309200"/>
                  <a:ext cx="6771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141920" y="4309200"/>
                <a:ext cx="880920" cy="456120"/>
                <a:chOff x="1141920" y="4309200"/>
                <a:chExt cx="880920" cy="456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156680" y="431460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.36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141920" y="430920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023200" y="4309200"/>
                <a:ext cx="880920" cy="456120"/>
                <a:chOff x="2023200" y="4309200"/>
                <a:chExt cx="880920" cy="456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037960" y="431460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.27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23200" y="430920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904480" y="4309200"/>
                <a:ext cx="782640" cy="456120"/>
                <a:chOff x="2904480" y="4309200"/>
                <a:chExt cx="782640" cy="456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919240" y="431460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904480" y="4309200"/>
                  <a:ext cx="782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687840" y="4309200"/>
                <a:ext cx="954360" cy="456120"/>
                <a:chOff x="3687840" y="4309200"/>
                <a:chExt cx="954360" cy="456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702240" y="431460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687840" y="4309200"/>
                  <a:ext cx="9543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642560" y="4309200"/>
                <a:ext cx="944640" cy="456120"/>
                <a:chOff x="4642560" y="4309200"/>
                <a:chExt cx="944640" cy="456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657320" y="431460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642560" y="4309200"/>
                  <a:ext cx="944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587920" y="4309200"/>
                <a:ext cx="635400" cy="456120"/>
                <a:chOff x="5587920" y="4309200"/>
                <a:chExt cx="635400" cy="456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602680" y="431460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587920" y="4309200"/>
                  <a:ext cx="6354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223680" y="4309200"/>
                <a:ext cx="723600" cy="456120"/>
                <a:chOff x="6223680" y="4309200"/>
                <a:chExt cx="723600" cy="456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8440" y="431460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23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23680" y="4309200"/>
                  <a:ext cx="723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948000" y="4309200"/>
                <a:ext cx="794880" cy="456120"/>
                <a:chOff x="6948000" y="4309200"/>
                <a:chExt cx="794880" cy="456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962760" y="431460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64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48000" y="4309200"/>
                  <a:ext cx="79488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743600" y="4309200"/>
                <a:ext cx="858600" cy="456120"/>
                <a:chOff x="7743600" y="4309200"/>
                <a:chExt cx="858600" cy="456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758000" y="431460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7.8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743600" y="4309200"/>
                  <a:ext cx="858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64400" y="4777200"/>
                <a:ext cx="677160" cy="455760"/>
                <a:chOff x="464400" y="4777200"/>
                <a:chExt cx="677160" cy="4557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78800" y="478260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64400" y="4777200"/>
                  <a:ext cx="67716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141920" y="4777200"/>
                <a:ext cx="880920" cy="455760"/>
                <a:chOff x="1141920" y="4777200"/>
                <a:chExt cx="880920" cy="4557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156680" y="478260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4.62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141920" y="4777200"/>
                  <a:ext cx="88092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023200" y="4777200"/>
                <a:ext cx="880920" cy="455760"/>
                <a:chOff x="2023200" y="4777200"/>
                <a:chExt cx="880920" cy="4557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037960" y="478260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.8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023200" y="4777200"/>
                  <a:ext cx="88092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904480" y="4777200"/>
                <a:ext cx="782640" cy="455760"/>
                <a:chOff x="2904480" y="4777200"/>
                <a:chExt cx="782640" cy="455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919240" y="478260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904480" y="4777200"/>
                  <a:ext cx="78264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687840" y="4777200"/>
                <a:ext cx="954360" cy="455760"/>
                <a:chOff x="3687840" y="4777200"/>
                <a:chExt cx="954360" cy="455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702240" y="478260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87840" y="4777200"/>
                  <a:ext cx="95436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642560" y="4777200"/>
                <a:ext cx="944640" cy="455760"/>
                <a:chOff x="4642560" y="4777200"/>
                <a:chExt cx="944640" cy="455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657320" y="478260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642560" y="4777200"/>
                  <a:ext cx="94464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587920" y="4777200"/>
                <a:ext cx="635400" cy="455760"/>
                <a:chOff x="5587920" y="4777200"/>
                <a:chExt cx="635400" cy="4557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602680" y="478260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87920" y="4777200"/>
                  <a:ext cx="63540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223680" y="4777200"/>
                <a:ext cx="723600" cy="455760"/>
                <a:chOff x="6223680" y="4777200"/>
                <a:chExt cx="723600" cy="4557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238440" y="478260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68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223680" y="4777200"/>
                  <a:ext cx="72360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948000" y="4777200"/>
                <a:ext cx="794880" cy="455760"/>
                <a:chOff x="6948000" y="4777200"/>
                <a:chExt cx="794880" cy="4557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962760" y="478260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08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48000" y="4777200"/>
                  <a:ext cx="79488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743600" y="4777200"/>
                <a:ext cx="858600" cy="455760"/>
                <a:chOff x="7743600" y="4777200"/>
                <a:chExt cx="858600" cy="455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7758000" y="478260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8.47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743600" y="4777200"/>
                  <a:ext cx="85860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64400" y="5244840"/>
                <a:ext cx="677160" cy="456120"/>
                <a:chOff x="464400" y="5244840"/>
                <a:chExt cx="677160" cy="456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8800" y="525060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64400" y="5244840"/>
                  <a:ext cx="6771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141920" y="5244840"/>
                <a:ext cx="880920" cy="456120"/>
                <a:chOff x="1141920" y="5244840"/>
                <a:chExt cx="880920" cy="456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156680" y="525060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41920" y="524484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023200" y="5244840"/>
                <a:ext cx="880920" cy="456120"/>
                <a:chOff x="2023200" y="5244840"/>
                <a:chExt cx="880920" cy="45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037960" y="525060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23200" y="524484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904480" y="5244840"/>
                <a:ext cx="782640" cy="456120"/>
                <a:chOff x="2904480" y="5244840"/>
                <a:chExt cx="782640" cy="456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19240" y="525060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04480" y="5244840"/>
                  <a:ext cx="782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687840" y="5244840"/>
                <a:ext cx="954360" cy="456120"/>
                <a:chOff x="3687840" y="5244840"/>
                <a:chExt cx="954360" cy="456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702240" y="525060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687840" y="5244840"/>
                  <a:ext cx="9543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642560" y="5244840"/>
                <a:ext cx="944640" cy="456120"/>
                <a:chOff x="4642560" y="5244840"/>
                <a:chExt cx="944640" cy="456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657320" y="525060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642560" y="5244840"/>
                  <a:ext cx="944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587920" y="5244840"/>
                <a:ext cx="635400" cy="456120"/>
                <a:chOff x="5587920" y="5244840"/>
                <a:chExt cx="635400" cy="456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02680" y="525060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587920" y="5244840"/>
                  <a:ext cx="6354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223680" y="5244840"/>
                <a:ext cx="723600" cy="456120"/>
                <a:chOff x="6223680" y="5244840"/>
                <a:chExt cx="723600" cy="456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238440" y="525060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32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223680" y="5244840"/>
                  <a:ext cx="723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948000" y="5244840"/>
                <a:ext cx="794880" cy="456120"/>
                <a:chOff x="6948000" y="5244840"/>
                <a:chExt cx="794880" cy="456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962760" y="525060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3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948000" y="5244840"/>
                  <a:ext cx="79488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743600" y="5244840"/>
                <a:ext cx="858600" cy="456120"/>
                <a:chOff x="7743600" y="5244840"/>
                <a:chExt cx="858600" cy="456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758000" y="525060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36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743600" y="5244840"/>
                  <a:ext cx="858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464400" y="5712840"/>
                <a:ext cx="677160" cy="456120"/>
                <a:chOff x="464400" y="5712840"/>
                <a:chExt cx="677160" cy="456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78800" y="5718240"/>
                  <a:ext cx="648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64400" y="5712840"/>
                  <a:ext cx="6771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141920" y="5712840"/>
                <a:ext cx="880920" cy="456120"/>
                <a:chOff x="1141920" y="5712840"/>
                <a:chExt cx="880920" cy="456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156680" y="571824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420.0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141920" y="571284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023200" y="5712840"/>
                <a:ext cx="880920" cy="456120"/>
                <a:chOff x="2023200" y="5712840"/>
                <a:chExt cx="880920" cy="456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037960" y="5718240"/>
                  <a:ext cx="851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7.2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023200" y="5712840"/>
                  <a:ext cx="88092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904480" y="5712840"/>
                <a:ext cx="782640" cy="456120"/>
                <a:chOff x="2904480" y="5712840"/>
                <a:chExt cx="782640" cy="456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919240" y="5718240"/>
                  <a:ext cx="753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9.3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904480" y="5712840"/>
                  <a:ext cx="782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687840" y="5712840"/>
                <a:ext cx="954360" cy="456120"/>
                <a:chOff x="3687840" y="5712840"/>
                <a:chExt cx="954360" cy="456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702240" y="5718240"/>
                  <a:ext cx="925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6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87840" y="5712840"/>
                  <a:ext cx="95436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642560" y="5712840"/>
                <a:ext cx="944640" cy="456120"/>
                <a:chOff x="4642560" y="5712840"/>
                <a:chExt cx="944640" cy="456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657320" y="5718240"/>
                  <a:ext cx="915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1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42560" y="5712840"/>
                  <a:ext cx="94464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587920" y="5712840"/>
                <a:ext cx="635400" cy="456120"/>
                <a:chOff x="5587920" y="5712840"/>
                <a:chExt cx="635400" cy="456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602680" y="5718240"/>
                  <a:ext cx="605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587920" y="5712840"/>
                  <a:ext cx="6354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223680" y="5712840"/>
                <a:ext cx="723600" cy="456120"/>
                <a:chOff x="6223680" y="5712840"/>
                <a:chExt cx="723600" cy="456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238440" y="5718240"/>
                  <a:ext cx="694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6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223680" y="5712840"/>
                  <a:ext cx="723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948000" y="5712840"/>
                <a:ext cx="794880" cy="456120"/>
                <a:chOff x="6948000" y="5712840"/>
                <a:chExt cx="794880" cy="456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962760" y="5718240"/>
                  <a:ext cx="765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.69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948000" y="5712840"/>
                  <a:ext cx="79488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743600" y="5712840"/>
                <a:ext cx="858600" cy="456120"/>
                <a:chOff x="7743600" y="5712840"/>
                <a:chExt cx="858600" cy="456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758000" y="5718240"/>
                  <a:ext cx="8298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881.92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743600" y="5712840"/>
                  <a:ext cx="858600" cy="45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457200" y="1219320"/>
              <a:ext cx="815292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GENERACIÓN DEL RECURSO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El DL 701 permitió aumentar el nivel de plantaciones a través de la bonificación del 75% del costo de plantación. Fue aprovechado, en sus inicios, mayoritariamente por las grandes empresas.</a:t>
            </a:r>
            <a:br>
              <a:rPr sz="2000"/>
            </a:b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Las plantaciones forestales han permitido forestar zonas degradadas, además han disminuido significativamente la presión sobre el bosque nativo.</a:t>
            </a:r>
            <a:br>
              <a:rPr sz="2000"/>
            </a:b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No ha sido igualmente exitoso el nivel de plantaciones con la modificación del DL701, que pretendía apoyar a pequeños y medianos propietarios.</a:t>
            </a:r>
            <a:br>
              <a:rPr sz="2000"/>
            </a:b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Se ha avanzado poco en la diversificación de especies plantadas, excepto en Eucalipto.</a:t>
            </a:r>
            <a:br>
              <a:rPr sz="2000"/>
            </a:br>
            <a:r>
              <a:rPr b="1" lang="es-ES_tradnl" sz="2000" spc="-1" strike="noStrike">
                <a:solidFill>
                  <a:srgbClr val="660033"/>
                </a:solidFill>
                <a:latin typeface="Times New Roman"/>
              </a:rPr>
              <a:t>Es materia de gran preocupación aumentar la eficiencia en aspectos como; Viveros, Mejoramiento genético, Manejo sustentable y Silvicul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237960" y="228600"/>
            <a:ext cx="8667720" cy="4210200"/>
            <a:chOff x="237960" y="228600"/>
            <a:chExt cx="8667720" cy="4210200"/>
          </a:xfrm>
        </p:grpSpPr>
        <p:sp>
          <p:nvSpPr>
            <p:cNvPr id="411" name=""/>
            <p:cNvSpPr/>
            <p:nvPr/>
          </p:nvSpPr>
          <p:spPr>
            <a:xfrm>
              <a:off x="237960" y="228600"/>
              <a:ext cx="866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En el caso de la silvicultura, las cosechas se obtienen después de esperar decenas de años, dependiendo de la especie que se trate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7960" y="99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7960" y="4010040"/>
              <a:ext cx="2692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4" name="silvicultura01" descr=""/>
          <p:cNvPicPr/>
          <p:nvPr/>
        </p:nvPicPr>
        <p:blipFill>
          <a:blip r:embed="rId1"/>
          <a:stretch/>
        </p:blipFill>
        <p:spPr>
          <a:xfrm>
            <a:off x="380880" y="1060560"/>
            <a:ext cx="83059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MEJORAMIENTO GENÉ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37160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de las primeras herramientas utilizadas por la biotecnología, para obtener como resultado mejoramiento en ciertas características de los individuos, vegetales o animales con fines de aumentar sus potencialidades genéticas, de comercialización o de rendimiento, sea cualitativo o cuantitativo. En el campo forestal, aumento de crecimiento volumétrico, madera libre de nudos, madera de mayor peso específico, madera más resistente a plagas o enferme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28600" y="228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SILVIC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137160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técnicas de tratamiento de los bosques, a través de las cuales se modifican las conductas normales de crecimiento de un recurso. Como las principales herramientas se reconocen: espaciamiento inicial de plantación, las podas, raleos, fertilización, etc. En el caso de bosques naturales son aplicables a prácticas tales clareos, enriquecimiento del bosque, raleo por lo bajo o por lo alto, que conducen directamente o indirectamente a la modificación de la estructura normal del bosque con un objetivo de protección, de conservación o económ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MANEJO SUSTE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écnica de tratamiento económico del bosque, en el cual, las herramientas silviculturales y de manejo, conducen a mantener un recurso sostenible en el tiempo. Esta idea conlleva al concepto que un conjunto de normas legales, biológicas y económicas hacen que un recurso natural renovable (en este caso bosque), no cambie de composición florística o de fauna de forma irreversible. Sustentable, en el tiempo, significa que a pesar de todas las intervenciones antrópicas (del hombre), el recurso mantiene su IDENT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75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179280" y="228600"/>
            <a:ext cx="3554280" cy="2972160"/>
            <a:chOff x="179280" y="228600"/>
            <a:chExt cx="3554280" cy="2972160"/>
          </a:xfrm>
        </p:grpSpPr>
        <p:sp>
          <p:nvSpPr>
            <p:cNvPr id="422" name=""/>
            <p:cNvSpPr/>
            <p:nvPr/>
          </p:nvSpPr>
          <p:spPr>
            <a:xfrm>
              <a:off x="179280" y="228600"/>
              <a:ext cx="355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Verdana"/>
                </a:rPr>
                <a:t>Resultados de la poda en la Madera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9280" y="760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280" y="3200400"/>
              <a:ext cx="360" cy="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5" name="madera_snudos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429000" cy="2629080"/>
          </a:xfrm>
          <a:prstGeom prst="rect">
            <a:avLst/>
          </a:prstGeom>
          <a:ln w="0">
            <a:noFill/>
          </a:ln>
        </p:spPr>
      </p:pic>
      <p:pic>
        <p:nvPicPr>
          <p:cNvPr id="426" name="madera_con_nudos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429000" cy="2629080"/>
          </a:xfrm>
          <a:prstGeom prst="rect">
            <a:avLst/>
          </a:prstGeom>
          <a:ln w="0">
            <a:noFill/>
          </a:ln>
        </p:spPr>
      </p:pic>
      <p:pic>
        <p:nvPicPr>
          <p:cNvPr id="427" name="manejo01" descr=""/>
          <p:cNvPicPr/>
          <p:nvPr/>
        </p:nvPicPr>
        <p:blipFill>
          <a:blip r:embed="rId3"/>
          <a:stretch/>
        </p:blipFill>
        <p:spPr>
          <a:xfrm>
            <a:off x="3714840" y="228600"/>
            <a:ext cx="171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5:47:13Z</dcterms:created>
  <dc:creator>user</dc:creator>
  <dc:description/>
  <dc:language>en-US</dc:language>
  <cp:lastModifiedBy>user</cp:lastModifiedBy>
  <dcterms:modified xsi:type="dcterms:W3CDTF">2002-06-26T20:59:13Z</dcterms:modified>
  <cp:revision>27</cp:revision>
  <dc:subject/>
  <dc:title>Contexto actual y futuro del recurso forestal del país</dc:title>
</cp:coreProperties>
</file>