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F00-90F2-4A2B-A467-3CC818EDE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6E3B-7F28-44E9-BD18-0B069FC0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05D-1021-4FD7-9BAB-35384190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4689-D59D-46DC-8F6F-789DDB89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B3EF-7F6E-4B5C-B62B-EE215794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606-6922-4CAA-879B-09E2F56A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1B22-1CA2-49C9-BF2A-6C2607B4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515-66E8-4508-89F4-A52414C3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5453-DA6F-473C-B15E-0F4406C7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E22D-BCBC-44CC-89CA-F17669AA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6075-4968-43D3-98D4-34F8ED90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FA7-7562-4524-8028-0901151E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C1BC-2DDE-45E7-AD74-6B1644AE9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59640" y="4797360"/>
            <a:ext cx="2311200" cy="193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nfoques para la Participación y Conflictos 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ccesibilidad (posibilidad de hacer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Deseo (interé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ocimiento respecto a las posibilidades de participación y su efec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articipación Ciudadana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onflictos Socio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cances de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3920" y="1110600"/>
            <a:ext cx="8158320" cy="5325840"/>
            <a:chOff x="493920" y="1110600"/>
            <a:chExt cx="8158320" cy="5325840"/>
          </a:xfrm>
        </p:grpSpPr>
        <p:sp>
          <p:nvSpPr>
            <p:cNvPr id="67" name="_s15390"/>
            <p:cNvSpPr/>
            <p:nvPr/>
          </p:nvSpPr>
          <p:spPr>
            <a:xfrm flipV="1">
              <a:off x="4571640" y="254448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5389"/>
            <p:cNvSpPr/>
            <p:nvPr/>
          </p:nvSpPr>
          <p:spPr>
            <a:xfrm>
              <a:off x="3512880" y="1110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Tomar las decision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(Gobernar-Gobernanza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5386"/>
            <p:cNvSpPr/>
            <p:nvPr/>
          </p:nvSpPr>
          <p:spPr>
            <a:xfrm flipV="1">
              <a:off x="5576040" y="3534120"/>
              <a:ext cx="100980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5383"/>
            <p:cNvSpPr/>
            <p:nvPr/>
          </p:nvSpPr>
          <p:spPr>
            <a:xfrm>
              <a:off x="6534720" y="25974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apac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lui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en la to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eci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5388"/>
            <p:cNvSpPr/>
            <p:nvPr/>
          </p:nvSpPr>
          <p:spPr>
            <a:xfrm>
              <a:off x="5190840" y="4557240"/>
              <a:ext cx="627120" cy="58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5387"/>
            <p:cNvSpPr/>
            <p:nvPr/>
          </p:nvSpPr>
          <p:spPr>
            <a:xfrm>
              <a:off x="5378760" y="50029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cceso a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5385"/>
            <p:cNvSpPr/>
            <p:nvPr/>
          </p:nvSpPr>
          <p:spPr>
            <a:xfrm flipH="1">
              <a:off x="3327480" y="4555080"/>
              <a:ext cx="621720" cy="58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5374"/>
            <p:cNvSpPr/>
            <p:nvPr/>
          </p:nvSpPr>
          <p:spPr>
            <a:xfrm>
              <a:off x="1644120" y="50011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rganiz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5384"/>
            <p:cNvSpPr/>
            <p:nvPr/>
          </p:nvSpPr>
          <p:spPr>
            <a:xfrm flipH="1" flipV="1">
              <a:off x="2554560" y="3535920"/>
              <a:ext cx="1015920" cy="21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5372"/>
            <p:cNvSpPr/>
            <p:nvPr/>
          </p:nvSpPr>
          <p:spPr>
            <a:xfrm>
              <a:off x="493920" y="2595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osibil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Hacer púb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as opin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5370"/>
            <p:cNvSpPr/>
            <p:nvPr/>
          </p:nvSpPr>
          <p:spPr>
            <a:xfrm>
              <a:off x="3512880" y="326304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Niveles d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Participación Soci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Cuáles son los límites de la participación social en la gestión social de los bosqu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2708280"/>
            <a:ext cx="1800000" cy="1440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AC en  el marc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la Institu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mbiental vig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05000"/>
            <a:ext cx="3132000" cy="936720"/>
          </a:xfrm>
          <a:prstGeom prst="rightArrowCallout">
            <a:avLst>
              <a:gd name="adj1" fmla="val 25002"/>
              <a:gd name="adj2" fmla="val 25000"/>
              <a:gd name="adj3" fmla="val 55726"/>
              <a:gd name="adj4" fmla="val 7840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blema ambiental relacionado 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manejo de la basura y de agu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rvidas en las ciu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4365720"/>
            <a:ext cx="2087640" cy="2160360"/>
          </a:xfrm>
          <a:prstGeom prst="upArrowCallout">
            <a:avLst>
              <a:gd name="adj1" fmla="val 27095"/>
              <a:gd name="adj2" fmla="val 25000"/>
              <a:gd name="adj3" fmla="val 9884"/>
              <a:gd name="adj4" fmla="val 3334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Factores Contextu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ja influencia comunita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 gestión del terri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dominio de Inter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conó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mitaciones en el ac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fusión respecto a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cances de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2920" y="2637000"/>
            <a:ext cx="2521080" cy="57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umplimiento de resol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10560" y="3500280"/>
            <a:ext cx="1333440" cy="1008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terioro 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ital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38920" y="5013360"/>
            <a:ext cx="23050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rcepción de Exclusión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7640" y="3429000"/>
            <a:ext cx="1513080" cy="1152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érdid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dibil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s instit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mocrática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1989000"/>
            <a:ext cx="26272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utorizaciones a empres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gnorando las observ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/o el rechazo ciudad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2349360"/>
            <a:ext cx="976320" cy="2016360"/>
          </a:xfrm>
          <a:custGeom>
            <a:avLst/>
            <a:gdLst>
              <a:gd name="textAreaLeft" fmla="*/ 152280 w 976320"/>
              <a:gd name="textAreaRight" fmla="*/ 854280 w 976320"/>
              <a:gd name="textAreaTop" fmla="*/ 504000 h 2016360"/>
              <a:gd name="textAreaBottom" fmla="*/ 1512360 h 201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141300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1268280"/>
            <a:ext cx="936360" cy="914400"/>
          </a:xfrm>
          <a:prstGeom prst="downArrowCallout">
            <a:avLst>
              <a:gd name="adj1" fmla="val 25603"/>
              <a:gd name="adj2" fmla="val 2560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poy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NG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26828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134136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ovi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Prot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76280"/>
            <a:ext cx="223200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rategias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4000" y="836640"/>
            <a:ext cx="1689120" cy="914400"/>
          </a:xfrm>
          <a:prstGeom prst="downArrowCallout">
            <a:avLst>
              <a:gd name="adj1" fmla="val 46185"/>
              <a:gd name="adj2" fmla="val 46181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84640"/>
            <a:ext cx="3276720" cy="576000"/>
          </a:xfrm>
          <a:prstGeom prst="rightArrowCallout">
            <a:avLst>
              <a:gd name="adj1" fmla="val 25002"/>
              <a:gd name="adj2" fmla="val 25000"/>
              <a:gd name="adj3" fmla="val 94813"/>
              <a:gd name="adj4" fmla="val 7820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 con alto impacto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erca de asentamientos hum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05360"/>
            <a:ext cx="3022560" cy="792000"/>
          </a:xfrm>
          <a:prstGeom prst="rightArrowCallout">
            <a:avLst>
              <a:gd name="adj1" fmla="val 24975"/>
              <a:gd name="adj2" fmla="val 25000"/>
              <a:gd name="adj3" fmla="val 64984"/>
              <a:gd name="adj4" fmla="val 7626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terés y preocupación de 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dades por amena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a su calidad de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85080" y="4581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524000" y="2350440"/>
            <a:ext cx="433440" cy="2016000"/>
          </a:xfrm>
          <a:custGeom>
            <a:avLst/>
            <a:gdLst>
              <a:gd name="textAreaLeft" fmla="*/ 67680 w 433440"/>
              <a:gd name="textAreaRight" fmla="*/ 312480 w 433440"/>
              <a:gd name="textAreaTop" fmla="*/ 514080 h 2016000"/>
              <a:gd name="textAreaBottom" fmla="*/ 1501920 h 2016000"/>
            </a:gdLst>
            <a:ahLst/>
            <a:rect l="textAreaLeft" t="textAreaTop" r="textAreaRight" b="textAreaBottom"/>
            <a:pathLst>
              <a:path w="21600" h="21600">
                <a:moveTo>
                  <a:pt x="3375" y="5510"/>
                </a:moveTo>
                <a:lnTo>
                  <a:pt x="9300" y="5510"/>
                </a:lnTo>
                <a:lnTo>
                  <a:pt x="9300" y="0"/>
                </a:lnTo>
                <a:lnTo>
                  <a:pt x="21600" y="10800"/>
                </a:lnTo>
                <a:lnTo>
                  <a:pt x="9300" y="21600"/>
                </a:lnTo>
                <a:lnTo>
                  <a:pt x="9300" y="16090"/>
                </a:lnTo>
                <a:lnTo>
                  <a:pt x="3375" y="16090"/>
                </a:lnTo>
                <a:close/>
              </a:path>
              <a:path w="21600" h="21600">
                <a:moveTo>
                  <a:pt x="0" y="5510"/>
                </a:moveTo>
                <a:lnTo>
                  <a:pt x="675" y="5510"/>
                </a:lnTo>
                <a:lnTo>
                  <a:pt x="675" y="16090"/>
                </a:lnTo>
                <a:lnTo>
                  <a:pt x="0" y="16090"/>
                </a:lnTo>
                <a:close/>
              </a:path>
              <a:path w="21600" h="21600">
                <a:moveTo>
                  <a:pt x="1350" y="5510"/>
                </a:moveTo>
                <a:lnTo>
                  <a:pt x="2700" y="5510"/>
                </a:lnTo>
                <a:lnTo>
                  <a:pt x="2700" y="16090"/>
                </a:lnTo>
                <a:lnTo>
                  <a:pt x="1350" y="1609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116000" y="486864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id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duccion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  los conflic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des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olítica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2771640" y="472392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ínima influenci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AC en el SE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limitado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bservaci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6093000"/>
            <a:ext cx="1214280" cy="54900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73440 h 549000"/>
              <a:gd name="textAreaBottom" fmla="*/ 4755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Necesidad de modificar la P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definir los alcances y sentidos de la PAC en la institucionalidad ambiental, asumiendo que su carácter no vinculante puede desencadenar altos niveles de tensión social y su normativa favorece el desarrollo de conflicto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los casos estudiados la institucionalidad creada ha demostrado tanto su ineficacia para resolver conflictos como su falta de legitimidad en la ciudadanía al momento de poner a prueba el diseño de las políticas de medio ambiente y en particular el SEI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4052880"/>
            <a:ext cx="38545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uestas de Modificación al Reglamento del SE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28a8a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si en  condiciones de ser una ley verificada empíricamente, se puede sostener que a mayor sensación de dominio o control, capacidad y autonomía de que disponga una persona o grupo, mayor será la posibilidad que tenga de establecer y acordar reglas aceptadas que favorezcan una mayor justicia entre sus miembros, y ejercer a la vez mayor control sobre quienes tienen el mandato de cumplir con el ejercicio de los poderes público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e Lellis,2006:174-1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708280"/>
            <a:ext cx="2232000" cy="3241800"/>
          </a:xfrm>
          <a:prstGeom prst="rightArrowCallout">
            <a:avLst>
              <a:gd name="adj1" fmla="val 36314"/>
              <a:gd name="adj2" fmla="val 3631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dif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 regl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155736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xtensión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lazos (60 días)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angos equi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os que dem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Un E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341360"/>
            <a:ext cx="1922400" cy="11527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rement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os can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ifu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puerta a puer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os masiv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981000"/>
            <a:ext cx="1922400" cy="1081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bildos Abier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vios al inici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3284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able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enerales para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393372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 en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monitore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21600" y="2060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ación de Ent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ad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5640" y="278136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orporación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mpactos psicológ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el S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5589720"/>
            <a:ext cx="5040360" cy="1008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icipación Ciudadana Vinc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conflicto ambiental como crisis de 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en la Institucionalidad Ambiental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en la gestión social de los recursos natur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gitimar y valorar las diversas formas de participación  y de organización que existen en una com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vorecer el reconocimiento de una comunidad de necesidades, intereses y desafí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levar las manifestaciones culturales como expresiones públicas de diversidad e ide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5157720"/>
            <a:ext cx="583236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generación de espacios de encuentro y dialogo formales e infor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responsabilización por las propias conductas (individuales y colectivas) y sus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ir a la recuperación de la confianza en el actuar individual y colectivo para promover mejoras en la calidad de vida y buscar soluciones para problemas inmedi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na definición de 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Un proceso organizado, colectivo, libre, incluyente, en el cual hay una variedad de actores, de actividades y de grados de compromiso, que está orientado por valores y objetivos compartidos, en cuya consecución se producen transformaciones comunitarias e individua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. Montero, 2004:2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4581360"/>
            <a:ext cx="4444920" cy="20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participación implica un proceso en el que los individuos influyen-y son influidos-en las decisiones de un colectivo en relación con asuntos que son de su interé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ntenegro,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s referimos al involucramiento activo de las personas en el desarrollo de su entorno social: barrio, ciudad, país, lugar de trabajo, mundo glob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no implica el ser dirigente social o político, aunque no lo exclu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uando a través de la exteriorización(expresión pública) de opiniones , prácticas y/o identidades (colectivas e individu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zando acciones directas para abordar temáticas relevantes para el grupo o la socie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ante agrupaciones espontáneas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ndo organizaciones y rede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riendo espacios de encuentro y diá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nfoques para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articipación polític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el conjunto de actividades realizadas por un individuo o grupo con la finalidad de incidir en una u otra medida en los asunt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delos explic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s Movimientos de m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a privación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movilización de recursos (histór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os nuevos movimiento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identitarios-60’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vimientos sociales contemporáne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Global y 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pacios de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Formal e In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Quién es el que particip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de la Psicología Comunitaria, se asum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con un ser activo y no re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construye realidad y que protagoniza la vida coti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de alguien que posee conocimientos y que continuamente los produce; por lo tanto es alguien que piensa, actúa y crea, cuyo conocimiento llamado conocimiento popular debe ser tomado en cu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la comunidad tiene un rol activo y todos sus miembros tienen derecho a participar en la toma de decisiones sobre aquellos asuntos que les conciernen, al igual que tienen el compromiso de llevarlos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tero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6:43:41Z</dcterms:created>
  <dc:creator>Prof. Sapiains</dc:creator>
  <dc:description/>
  <dc:language>en-US</dc:language>
  <cp:lastModifiedBy>Rodolfo</cp:lastModifiedBy>
  <dcterms:modified xsi:type="dcterms:W3CDTF">2008-12-29T15:23:09Z</dcterms:modified>
  <cp:revision>4</cp:revision>
  <dc:subject/>
  <dc:title>Participación Ciudadana  y Conflictos Socioambientales</dc:title>
</cp:coreProperties>
</file>