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DF2-DCCA-4DF4-A453-33C7D57B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ABA-0490-465E-A2AE-94B70E27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C12-A257-4851-8CBE-986C09D5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141-72D7-4417-B7DE-AE5A1B9C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93D-9068-4886-B41D-3148D06F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C3C-A5FC-4AE6-80B8-43FF9136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BCD-B619-4C74-9C1C-94F1798F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F50-F8B0-41CA-BB83-266E67C0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065-E09B-460F-963A-FF72C0E2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BFD-1B62-46C0-A052-4FF31B28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579-7322-4236-82AB-0FA8D2C3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0C2-3EC0-4C87-BF40-6EB05208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8D55-FCB2-4D3D-A6D0-C709ACFAA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2311200" cy="193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foques para la Participación y Conflictos 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ccesibilidad (posibilidad de hacer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seo (inter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respecto a las posibilidades de participación y su efe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articipación Ciudadan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nflictos Socio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cances de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3920" y="1110600"/>
            <a:ext cx="8158320" cy="5325840"/>
            <a:chOff x="493920" y="1110600"/>
            <a:chExt cx="8158320" cy="5325840"/>
          </a:xfrm>
        </p:grpSpPr>
        <p:sp>
          <p:nvSpPr>
            <p:cNvPr id="67" name="_s15390"/>
            <p:cNvSpPr/>
            <p:nvPr/>
          </p:nvSpPr>
          <p:spPr>
            <a:xfrm flipV="1">
              <a:off x="4571640" y="254448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5389"/>
            <p:cNvSpPr/>
            <p:nvPr/>
          </p:nvSpPr>
          <p:spPr>
            <a:xfrm>
              <a:off x="3512880" y="1110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Tomar las decision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(Gobernar-Gobernanza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5386"/>
            <p:cNvSpPr/>
            <p:nvPr/>
          </p:nvSpPr>
          <p:spPr>
            <a:xfrm flipV="1">
              <a:off x="5576040" y="3534120"/>
              <a:ext cx="100980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83"/>
            <p:cNvSpPr/>
            <p:nvPr/>
          </p:nvSpPr>
          <p:spPr>
            <a:xfrm>
              <a:off x="6534720" y="25974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apac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lui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to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ci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5388"/>
            <p:cNvSpPr/>
            <p:nvPr/>
          </p:nvSpPr>
          <p:spPr>
            <a:xfrm>
              <a:off x="5190840" y="4557240"/>
              <a:ext cx="627120" cy="5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5387"/>
            <p:cNvSpPr/>
            <p:nvPr/>
          </p:nvSpPr>
          <p:spPr>
            <a:xfrm>
              <a:off x="5378760" y="50029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cceso a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5385"/>
            <p:cNvSpPr/>
            <p:nvPr/>
          </p:nvSpPr>
          <p:spPr>
            <a:xfrm flipH="1">
              <a:off x="3327480" y="4555080"/>
              <a:ext cx="621720" cy="58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374"/>
            <p:cNvSpPr/>
            <p:nvPr/>
          </p:nvSpPr>
          <p:spPr>
            <a:xfrm>
              <a:off x="1644120" y="50011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gan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5384"/>
            <p:cNvSpPr/>
            <p:nvPr/>
          </p:nvSpPr>
          <p:spPr>
            <a:xfrm flipH="1" flipV="1">
              <a:off x="2554560" y="3535920"/>
              <a:ext cx="101592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72"/>
            <p:cNvSpPr/>
            <p:nvPr/>
          </p:nvSpPr>
          <p:spPr>
            <a:xfrm>
              <a:off x="493920" y="2595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bil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acer púb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as opin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370"/>
            <p:cNvSpPr/>
            <p:nvPr/>
          </p:nvSpPr>
          <p:spPr>
            <a:xfrm>
              <a:off x="3512880" y="326304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Niveles d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Participación Soc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Cuáles son los límites de la participación social en la gestión social de los bosq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708280"/>
            <a:ext cx="1800000" cy="1440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C en  el marc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a Institu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mbiental vi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5000"/>
            <a:ext cx="3132000" cy="936720"/>
          </a:xfrm>
          <a:prstGeom prst="rightArrowCallout">
            <a:avLst>
              <a:gd name="adj1" fmla="val 25002"/>
              <a:gd name="adj2" fmla="val 25000"/>
              <a:gd name="adj3" fmla="val 55726"/>
              <a:gd name="adj4" fmla="val 784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blema ambiental relacionad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manejo de la basura y de ag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rvidas en las ciu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4365720"/>
            <a:ext cx="2087640" cy="2160360"/>
          </a:xfrm>
          <a:prstGeom prst="upArrowCallout">
            <a:avLst>
              <a:gd name="adj1" fmla="val 27095"/>
              <a:gd name="adj2" fmla="val 25000"/>
              <a:gd name="adj3" fmla="val 9884"/>
              <a:gd name="adj4" fmla="val 3334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Factores Context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ja influencia comunita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 gest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dominio de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mitaciones en el 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fusión respecto a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cances de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2920" y="2637000"/>
            <a:ext cx="252108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umplimiento de resol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0560" y="3500280"/>
            <a:ext cx="133344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terioro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ital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5013360"/>
            <a:ext cx="23050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cepción de Exclusión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3429000"/>
            <a:ext cx="1513080" cy="1152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érdid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dibil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s instit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ocrátic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1989000"/>
            <a:ext cx="26272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utorizaciones a empre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gnorando las 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/o el rechazo ciuda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2349360"/>
            <a:ext cx="976320" cy="2016360"/>
          </a:xfrm>
          <a:custGeom>
            <a:avLst/>
            <a:gdLst>
              <a:gd name="textAreaLeft" fmla="*/ 152280 w 976320"/>
              <a:gd name="textAreaRight" fmla="*/ 854280 w 976320"/>
              <a:gd name="textAreaTop" fmla="*/ 504000 h 2016360"/>
              <a:gd name="textAreaBottom" fmla="*/ 1512360 h 201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41300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1268280"/>
            <a:ext cx="936360" cy="914400"/>
          </a:xfrm>
          <a:prstGeom prst="downArrowCallout">
            <a:avLst>
              <a:gd name="adj1" fmla="val 25603"/>
              <a:gd name="adj2" fmla="val 2560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poy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NG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134136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ovi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Prot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76280"/>
            <a:ext cx="22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ategia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836640"/>
            <a:ext cx="1689120" cy="914400"/>
          </a:xfrm>
          <a:prstGeom prst="downArrowCallout">
            <a:avLst>
              <a:gd name="adj1" fmla="val 46185"/>
              <a:gd name="adj2" fmla="val 4618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4640"/>
            <a:ext cx="3276720" cy="576000"/>
          </a:xfrm>
          <a:prstGeom prst="rightArrowCallout">
            <a:avLst>
              <a:gd name="adj1" fmla="val 25002"/>
              <a:gd name="adj2" fmla="val 25000"/>
              <a:gd name="adj3" fmla="val 94813"/>
              <a:gd name="adj4" fmla="val 7820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 con alto impacto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erca de asentamientos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05360"/>
            <a:ext cx="3022560" cy="792000"/>
          </a:xfrm>
          <a:prstGeom prst="rightArrowCallout">
            <a:avLst>
              <a:gd name="adj1" fmla="val 24975"/>
              <a:gd name="adj2" fmla="val 25000"/>
              <a:gd name="adj3" fmla="val 64984"/>
              <a:gd name="adj4" fmla="val 762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terés y preocupación de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dades por 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a su calidad de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4581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524000" y="2350440"/>
            <a:ext cx="433440" cy="2016000"/>
          </a:xfrm>
          <a:custGeom>
            <a:avLst/>
            <a:gdLst>
              <a:gd name="textAreaLeft" fmla="*/ 67680 w 433440"/>
              <a:gd name="textAreaRight" fmla="*/ 312480 w 433440"/>
              <a:gd name="textAreaTop" fmla="*/ 514080 h 2016000"/>
              <a:gd name="textAreaBottom" fmla="*/ 1501920 h 2016000"/>
            </a:gdLst>
            <a:ahLst/>
            <a:rect l="textAreaLeft" t="textAreaTop" r="textAreaRight" b="textAreaBottom"/>
            <a:pathLst>
              <a:path w="21600" h="21600">
                <a:moveTo>
                  <a:pt x="3375" y="5510"/>
                </a:moveTo>
                <a:lnTo>
                  <a:pt x="9300" y="5510"/>
                </a:lnTo>
                <a:lnTo>
                  <a:pt x="9300" y="0"/>
                </a:lnTo>
                <a:lnTo>
                  <a:pt x="21600" y="10800"/>
                </a:lnTo>
                <a:lnTo>
                  <a:pt x="9300" y="21600"/>
                </a:lnTo>
                <a:lnTo>
                  <a:pt x="9300" y="16090"/>
                </a:lnTo>
                <a:lnTo>
                  <a:pt x="3375" y="16090"/>
                </a:lnTo>
                <a:close/>
              </a:path>
              <a:path w="21600" h="21600">
                <a:moveTo>
                  <a:pt x="0" y="5510"/>
                </a:moveTo>
                <a:lnTo>
                  <a:pt x="675" y="5510"/>
                </a:lnTo>
                <a:lnTo>
                  <a:pt x="675" y="16090"/>
                </a:lnTo>
                <a:lnTo>
                  <a:pt x="0" y="16090"/>
                </a:lnTo>
                <a:close/>
              </a:path>
              <a:path w="21600" h="21600">
                <a:moveTo>
                  <a:pt x="1350" y="5510"/>
                </a:moveTo>
                <a:lnTo>
                  <a:pt x="2700" y="5510"/>
                </a:lnTo>
                <a:lnTo>
                  <a:pt x="2700" y="16090"/>
                </a:lnTo>
                <a:lnTo>
                  <a:pt x="1350" y="1609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16000" y="486864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id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uccion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 los confli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des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olític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2771640" y="472392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ínima infl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AC en el S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limitad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serva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6093000"/>
            <a:ext cx="1214280" cy="549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ecesidad de modificar la P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definir los alcances y sentidos de la PAC en la institucionalidad ambiental, asumiendo que su carácter no vinculante puede desencadenar altos niveles de tensión social y su normativa favorece el desarrollo de conflicto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os casos estudiados la institucionalidad creada ha demostrado tanto su ineficacia para resolver conflictos como su falta de legitimidad en la ciudadanía al momento de poner a prueba el diseño de las políticas de medio ambiente y en particular el SE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4052880"/>
            <a:ext cx="38545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uestas de Modificación al Reglamento del S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28a8a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i en  condiciones de ser una ley verificada empíricamente, se puede sostener que a mayor sensación de dominio o control, capacidad y autonomía de que disponga una persona o grupo, mayor será la posibilidad que tenga de establecer y acordar reglas aceptadas que favorezcan una mayor justicia entre sus miembros, y ejercer a la vez mayor control sobre quienes tienen el mandato de cumplir con el ejercicio de los poderes público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e Lellis,2006:174-1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708280"/>
            <a:ext cx="2232000" cy="3241800"/>
          </a:xfrm>
          <a:prstGeom prst="rightArrowCallout">
            <a:avLst>
              <a:gd name="adj1" fmla="val 36314"/>
              <a:gd name="adj2" fmla="val 3631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d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 reg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55736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xtensión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lazos (60 días)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angos equ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os que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n E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341360"/>
            <a:ext cx="1922400" cy="1152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reme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os can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puerta a puer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os masiv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981000"/>
            <a:ext cx="1922400" cy="1081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bildos Abier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vios al inici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3284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enerales para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93372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 en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monitore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21600" y="2060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ación de Ent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78136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orpor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actos psicoló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el S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5589720"/>
            <a:ext cx="5040360" cy="100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Ciudadana Vin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conflicto ambiental como crisis d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en la Institucionalidad Ambiental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en la gestión social de los recursos natu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gitimar y valorar las diversas formas de participación  y de organización que existen en una 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vorecer el reconocimiento de una comunidad de necesidades, intereses y desafí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levar las manifestaciones culturales como expresiones públicas de diversidad 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58323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generación de espacios de encuentro y dialogo formales e inf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responsabilización por las propias conductas (individuales y colectivas) y su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ir a la recuperación de la confianza en el actuar individual y colectivo para promover mejoras en la calidad de vida y buscar soluciones para problemas inmedi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a definición de 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Un proceso organizado, colectivo, libre, incluyente, en el cual hay una variedad de actores, de actividades y de grados de compromiso, que está orientado por valores y objetivos compartidos, en cuya consecución se producen transformaciones comunitarias e individu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. Montero, 2004:2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4444920" cy="20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participación implica un proceso en el que los individuos influyen-y son influidos-en las decisiones de un colectivo en relación con asuntos que son de su interé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ntenegro,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referimos al involucramiento activo de las personas en el desarrollo de su entorno social: barrio, ciudad, país, lugar de trabajo, mundo glob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no implica el ser dirigente social o político, aunque no lo excl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ndo a través de la exteriorización(expresión pública) de opiniones , prácticas y/o identidades (colectivas e individu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zando acciones directas para abordar temáticas relevantes para el grupo o la socie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agrupaciones espontáneas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ndo organizaciones y red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espacios de encuentro y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foques para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l conjunto de actividades realizadas por un individuo o grupo con la finalidad de incidir en una u otra medida en los asunt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elos expli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s Movimientos de m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a privación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movilización de recursos (histór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os nuevos movimiento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identitarios-60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vimientos sociales contemporán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Global y 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pacios de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Formal e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ién es el que particip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de la Psicología Comunitaria, se asum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con un ser activo y no re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construye realidad y que protagoniza la vid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de alguien que posee conocimientos y que continuamente los produce; por lo tanto es alguien que piensa, actúa y crea, cuyo conocimiento llamado conocimiento popular debe ser tomado en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 comunidad tiene un rol activo y todos sus miembros tienen derecho a participar en la toma de decisiones sobre aquellos asuntos que les conciernen, al igual que tienen el compromiso de llevarlos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ero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43:41Z</dcterms:created>
  <dc:creator>Prof. Sapiains</dc:creator>
  <dc:description/>
  <dc:language>en-US</dc:language>
  <cp:lastModifiedBy>Rodolfo</cp:lastModifiedBy>
  <dcterms:modified xsi:type="dcterms:W3CDTF">2008-12-29T15:23:09Z</dcterms:modified>
  <cp:revision>4</cp:revision>
  <dc:subject/>
  <dc:title>Participación Ciudadana  y Conflictos Socioambientales</dc:title>
</cp:coreProperties>
</file>