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90F4-88AE-4B0E-8ED1-1E05A184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49BB-379B-478C-BA44-94AAE33E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89EE-16AE-4DD4-B7A0-E7C1ADF0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9A98-1D98-4B9B-A8C3-34FBEBE0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C7CE-261A-4CED-B826-4B5A3833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B8D6-A42E-4BD6-8E0F-DFD1113F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B159-9AA3-46D7-A281-0D8C2AFF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BBE8-5EA4-4292-96D9-01BA7606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0948-76D2-4836-B134-E816EBCF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71E1-CDF9-4FE1-A37F-73CA97D3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01D6-A2BE-4B44-8485-E713D893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2B3A-0A4E-4E43-9C9D-733ED760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8515-0CCC-4EE2-B2E0-214697CC8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659640" y="4797360"/>
            <a:ext cx="2311200" cy="193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Enfoques para la Participación y Conflictos Ambi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¿Por qué-cuando- participan las personas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ccesibilidad (posibilidad de hacer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Deseo (interé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ocimiento respecto a las posibilidades de participación y su efect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articipación Ciudadana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y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onflictos Socioambi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cances de la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3920" y="1110600"/>
            <a:ext cx="8158320" cy="5325840"/>
            <a:chOff x="493920" y="1110600"/>
            <a:chExt cx="8158320" cy="5325840"/>
          </a:xfrm>
        </p:grpSpPr>
        <p:sp>
          <p:nvSpPr>
            <p:cNvPr id="67" name="_s15390"/>
            <p:cNvSpPr/>
            <p:nvPr/>
          </p:nvSpPr>
          <p:spPr>
            <a:xfrm flipV="1">
              <a:off x="4571640" y="2544480"/>
              <a:ext cx="0" cy="71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5389"/>
            <p:cNvSpPr/>
            <p:nvPr/>
          </p:nvSpPr>
          <p:spPr>
            <a:xfrm>
              <a:off x="3512880" y="11106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Tomar las decision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(Gobernar-Gobernanza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5386"/>
            <p:cNvSpPr/>
            <p:nvPr/>
          </p:nvSpPr>
          <p:spPr>
            <a:xfrm flipV="1">
              <a:off x="5576040" y="3534120"/>
              <a:ext cx="100980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5383"/>
            <p:cNvSpPr/>
            <p:nvPr/>
          </p:nvSpPr>
          <p:spPr>
            <a:xfrm>
              <a:off x="6534720" y="25974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apacidad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influi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en la toma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decis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5388"/>
            <p:cNvSpPr/>
            <p:nvPr/>
          </p:nvSpPr>
          <p:spPr>
            <a:xfrm>
              <a:off x="5190840" y="4557240"/>
              <a:ext cx="627120" cy="58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5387"/>
            <p:cNvSpPr/>
            <p:nvPr/>
          </p:nvSpPr>
          <p:spPr>
            <a:xfrm>
              <a:off x="5378760" y="500292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cceso a 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5385"/>
            <p:cNvSpPr/>
            <p:nvPr/>
          </p:nvSpPr>
          <p:spPr>
            <a:xfrm flipH="1">
              <a:off x="3327480" y="4555080"/>
              <a:ext cx="621720" cy="58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5374"/>
            <p:cNvSpPr/>
            <p:nvPr/>
          </p:nvSpPr>
          <p:spPr>
            <a:xfrm>
              <a:off x="1644120" y="500112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rganiz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So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5384"/>
            <p:cNvSpPr/>
            <p:nvPr/>
          </p:nvSpPr>
          <p:spPr>
            <a:xfrm flipH="1" flipV="1">
              <a:off x="2554560" y="3535920"/>
              <a:ext cx="1015920" cy="21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5372"/>
            <p:cNvSpPr/>
            <p:nvPr/>
          </p:nvSpPr>
          <p:spPr>
            <a:xfrm>
              <a:off x="493920" y="25956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osibilidad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Hacer públ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las opin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5370"/>
            <p:cNvSpPr/>
            <p:nvPr/>
          </p:nvSpPr>
          <p:spPr>
            <a:xfrm>
              <a:off x="3512880" y="326304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Niveles d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Participación Soci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¿Cuáles son los límites de la participación social en la gestión social de los bosqu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2708280"/>
            <a:ext cx="1800000" cy="1440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AC en  el marc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la Institucion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Ambiental vig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205000"/>
            <a:ext cx="3132000" cy="936720"/>
          </a:xfrm>
          <a:prstGeom prst="rightArrowCallout">
            <a:avLst>
              <a:gd name="adj1" fmla="val 25002"/>
              <a:gd name="adj2" fmla="val 25000"/>
              <a:gd name="adj3" fmla="val 55726"/>
              <a:gd name="adj4" fmla="val 7840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au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blema ambiental relacionado 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manejo de la basura y de agu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rvidas en las ciu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4365720"/>
            <a:ext cx="2087640" cy="2160360"/>
          </a:xfrm>
          <a:prstGeom prst="upArrowCallout">
            <a:avLst>
              <a:gd name="adj1" fmla="val 27095"/>
              <a:gd name="adj2" fmla="val 25000"/>
              <a:gd name="adj3" fmla="val 9884"/>
              <a:gd name="adj4" fmla="val 33349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Factores Contextu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aja influencia comunita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a gestión del territo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edominio de Inter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conó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imitaciones en el ac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 la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fusión respecto a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cances de la 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22920" y="2637000"/>
            <a:ext cx="2521080" cy="57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umplimiento de resoluci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810560" y="3500280"/>
            <a:ext cx="1333440" cy="1008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terioro 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pital Soc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38920" y="5013360"/>
            <a:ext cx="230508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ercepción de Exclusión Soc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27640" y="3429000"/>
            <a:ext cx="1513080" cy="1152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érdida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redibilid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as instituci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mocrática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1989000"/>
            <a:ext cx="262728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utorizaciones a empres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gnorando las observ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/o el rechazo ciudad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2349360"/>
            <a:ext cx="976320" cy="2016360"/>
          </a:xfrm>
          <a:custGeom>
            <a:avLst/>
            <a:gdLst>
              <a:gd name="textAreaLeft" fmla="*/ 152280 w 976320"/>
              <a:gd name="textAreaRight" fmla="*/ 854280 w 976320"/>
              <a:gd name="textAreaTop" fmla="*/ 504000 h 2016360"/>
              <a:gd name="textAreaBottom" fmla="*/ 1512360 h 201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141300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stitu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1268280"/>
            <a:ext cx="936360" cy="914400"/>
          </a:xfrm>
          <a:prstGeom prst="downArrowCallout">
            <a:avLst>
              <a:gd name="adj1" fmla="val 25603"/>
              <a:gd name="adj2" fmla="val 2560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poy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NG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126828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muni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134136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ovi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 Prot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476280"/>
            <a:ext cx="223200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rategias de 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04000" y="836640"/>
            <a:ext cx="1689120" cy="914400"/>
          </a:xfrm>
          <a:prstGeom prst="downArrowCallout">
            <a:avLst>
              <a:gd name="adj1" fmla="val 46185"/>
              <a:gd name="adj2" fmla="val 46181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84640"/>
            <a:ext cx="3276720" cy="576000"/>
          </a:xfrm>
          <a:prstGeom prst="rightArrowCallout">
            <a:avLst>
              <a:gd name="adj1" fmla="val 25002"/>
              <a:gd name="adj2" fmla="val 25000"/>
              <a:gd name="adj3" fmla="val 94813"/>
              <a:gd name="adj4" fmla="val 7820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yectos con alto impacto 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erca de asentamientos huma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005360"/>
            <a:ext cx="3022560" cy="792000"/>
          </a:xfrm>
          <a:prstGeom prst="rightArrowCallout">
            <a:avLst>
              <a:gd name="adj1" fmla="val 24975"/>
              <a:gd name="adj2" fmla="val 25000"/>
              <a:gd name="adj3" fmla="val 64984"/>
              <a:gd name="adj4" fmla="val 7626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terés y preocupación de 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munidades por amena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 a su calidad de v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378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85080" y="4581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7524000" y="2350440"/>
            <a:ext cx="433440" cy="2016000"/>
          </a:xfrm>
          <a:custGeom>
            <a:avLst/>
            <a:gdLst>
              <a:gd name="textAreaLeft" fmla="*/ 67680 w 433440"/>
              <a:gd name="textAreaRight" fmla="*/ 312480 w 433440"/>
              <a:gd name="textAreaTop" fmla="*/ 514080 h 2016000"/>
              <a:gd name="textAreaBottom" fmla="*/ 1501920 h 2016000"/>
            </a:gdLst>
            <a:ahLst/>
            <a:rect l="textAreaLeft" t="textAreaTop" r="textAreaRight" b="textAreaBottom"/>
            <a:pathLst>
              <a:path w="21600" h="21600">
                <a:moveTo>
                  <a:pt x="3375" y="5510"/>
                </a:moveTo>
                <a:lnTo>
                  <a:pt x="9300" y="5510"/>
                </a:lnTo>
                <a:lnTo>
                  <a:pt x="9300" y="0"/>
                </a:lnTo>
                <a:lnTo>
                  <a:pt x="21600" y="10800"/>
                </a:lnTo>
                <a:lnTo>
                  <a:pt x="9300" y="21600"/>
                </a:lnTo>
                <a:lnTo>
                  <a:pt x="9300" y="16090"/>
                </a:lnTo>
                <a:lnTo>
                  <a:pt x="3375" y="16090"/>
                </a:lnTo>
                <a:close/>
              </a:path>
              <a:path w="21600" h="21600">
                <a:moveTo>
                  <a:pt x="0" y="5510"/>
                </a:moveTo>
                <a:lnTo>
                  <a:pt x="675" y="5510"/>
                </a:lnTo>
                <a:lnTo>
                  <a:pt x="675" y="16090"/>
                </a:lnTo>
                <a:lnTo>
                  <a:pt x="0" y="16090"/>
                </a:lnTo>
                <a:close/>
              </a:path>
              <a:path w="21600" h="21600">
                <a:moveTo>
                  <a:pt x="1350" y="5510"/>
                </a:moveTo>
                <a:lnTo>
                  <a:pt x="2700" y="5510"/>
                </a:lnTo>
                <a:lnTo>
                  <a:pt x="2700" y="16090"/>
                </a:lnTo>
                <a:lnTo>
                  <a:pt x="1350" y="1609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1116000" y="4868640"/>
            <a:ext cx="1584360" cy="1584360"/>
          </a:xfrm>
          <a:prstGeom prst="right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ide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duccion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  los conflic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 des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Política 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2771640" y="4723920"/>
            <a:ext cx="1584360" cy="1584360"/>
          </a:xfrm>
          <a:prstGeom prst="right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ínima influenci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PAC en el SE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limitado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bservacio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6093000"/>
            <a:ext cx="1214280" cy="54900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73440 h 549000"/>
              <a:gd name="textAreaBottom" fmla="*/ 475560 h 54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Necesidad de modificar la P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gradFill rotWithShape="0">
            <a:gsLst>
              <a:gs pos="0">
                <a:srgbClr val="7c949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definir los alcances y sentidos de la PAC en la institucionalidad ambiental, asumiendo que su carácter no vinculante puede desencadenar altos niveles de tensión social y su normativa favorece el desarrollo de conflicto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los casos estudiados la institucionalidad creada ha demostrado tanto su ineficacia para resolver conflictos como su falta de legitimidad en la ciudadanía al momento de poner a prueba el diseño de las políticas de medio ambiente y en particular el SEI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84360" y="4052880"/>
            <a:ext cx="38545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puestas de Modificación al Reglamento del SE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28a8a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si en  condiciones de ser una ley verificada empíricamente, se puede sostener que a mayor sensación de dominio o control, capacidad y autonomía de que disponga una persona o grupo, mayor será la posibilidad que tenga de establecer y acordar reglas aceptadas que favorezcan una mayor justicia entre sus miembros, y ejercer a la vez mayor control sobre quienes tienen el mandato de cumplir con el ejercicio de los poderes público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De Lellis,2006:174-1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708280"/>
            <a:ext cx="2232000" cy="3241800"/>
          </a:xfrm>
          <a:prstGeom prst="rightArrowCallout">
            <a:avLst>
              <a:gd name="adj1" fmla="val 36314"/>
              <a:gd name="adj2" fmla="val 3631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odif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 regl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l S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1557360"/>
            <a:ext cx="1922400" cy="14400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xtensión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lazos (60 días)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angos equi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 los que dem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Un EI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1341360"/>
            <a:ext cx="1922400" cy="11527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remento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os canale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ifu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puerta a puer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edios masiv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2720" y="981000"/>
            <a:ext cx="1922400" cy="1081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rganiza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bildos Abier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evios al inici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328464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table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Generales para la 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20000" y="3933720"/>
            <a:ext cx="1922400" cy="14400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C en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 monitoreo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21600" y="206064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reación de Ent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ediad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5640" y="278136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orporación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mpactos psicológ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el S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5589720"/>
            <a:ext cx="5040360" cy="100800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ticipación Ciudadana Vincu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noción de participa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foques para la participación socia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conflicto ambiental como crisis de particip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noción de participación en la Institucionalidad Ambiental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foques para la Participación Social en la gestión social de los recursos natur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gitimar y valorar las diversas formas de participación  y de organización que existen en una comun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vorecer el reconocimiento de una comunidad de necesidades, intereses y desafí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levar las manifestaciones culturales como expresiones públicas de diversidad e ident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5157720"/>
            <a:ext cx="5832360" cy="15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vorecer la generación de espacios de encuentro y dialogo formales e infor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vorecer la responsabilización por las propias conductas (individuales y colectivas) y sus consecu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ir a la recuperación de la confianza en el actuar individual y colectivo para promover mejoras en la calidad de vida y buscar soluciones para problemas inmedi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na definición de participación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Un proceso organizado, colectivo, libre, incluyente, en el cual hay una variedad de actores, de actividades y de grados de compromiso, que está orientado por valores y objetivos compartidos, en cuya consecución se producen transformaciones comunitarias e individua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. Montero, 2004:2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32000" y="4581360"/>
            <a:ext cx="4444920" cy="20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participación implica un proceso en el que los individuos influyen-y son influidos-en las decisiones de un colectivo en relación con asuntos que son de su interé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ntenegro,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915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articipación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s referimos al involucramiento activo de las personas en el desarrollo de su entorno social: barrio, ciudad, país, lugar de trabajo, mundo globa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no implica el ser dirigente social o político, aunque no lo exclu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uando a través de la exteriorización(expresión pública) de opiniones , prácticas y/o identidades (colectivas e individu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alizando acciones directas para abordar temáticas relevantes para el grupo o la socie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ante agrupaciones espontáneas,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ndo organizaciones y rede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briendo espacios de encuentro y diá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nfoques para la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articipación política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el conjunto de actividades realizadas por un individuo o grupo con la finalidad de incidir en una u otra medida en los asuntos púb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delos explic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os Movimientos de m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la privación re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movilización de recursos (histór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los nuevos movimiento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(identitarios-60’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vimientos sociales contemporáne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(Global y Lo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spacios de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Institu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Instituy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Formal e In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¿Quién es el que particip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de la Psicología Comunitaria, se asume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trata con un ser activo y no rea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construye realidad y que protagoniza la vida cotid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trata de alguien que posee conocimientos y que continuamente los produce; por lo tanto es alguien que piensa, actúa y crea, cuyo conocimiento llamado conocimiento popular debe ser tomado en cu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la comunidad tiene un rol activo y todos sus miembros tienen derecho a participar en la toma de decisiones sobre aquellos asuntos que les conciernen, al igual que tienen el compromiso de llevarlos a ca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ntero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¿Por qué-cuando- participan las persona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6:43:41Z</dcterms:created>
  <dc:creator>Prof. Sapiains</dc:creator>
  <dc:description/>
  <dc:language>en-US</dc:language>
  <cp:lastModifiedBy>Rodolfo</cp:lastModifiedBy>
  <dcterms:modified xsi:type="dcterms:W3CDTF">2008-12-29T15:23:09Z</dcterms:modified>
  <cp:revision>4</cp:revision>
  <dc:subject/>
  <dc:title>Participación Ciudadana  y Conflictos Socioambientales</dc:title>
</cp:coreProperties>
</file>