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8FF7-D4AF-46D9-B557-7996C487F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6BD8-8899-4C5A-B498-63638D56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6BFE-C373-4377-85B1-48BF2195D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9E78-9DD0-4472-8E63-AB7B19ED7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6B65-2AD1-47A4-A2E8-3CF74B41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329A-418E-46F1-995F-D0BA44BE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AA1F-EAF6-4484-8A2F-54DF7A38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022B-B0C2-45AD-BA05-4854CEFE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E822-76DF-4180-8792-0531F41E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124A-DF4D-4127-AC59-D7D3836F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9A3A-CC02-4DC1-9E4D-CD9A0606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A54C-050E-4225-9C17-CF51300F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0418-8FD6-4B0D-9120-AD96707A1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659640" y="4797360"/>
            <a:ext cx="2311200" cy="193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Enfoques para la Participación y Conflictos Ambient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¿Por qué-cuando- participan las personas?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Accesibilidad (posibilidad de hacerl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l Deseo (interé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nocimiento respecto a las posibilidades de participación y su efectiv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articipación Ciudadana 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y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Conflictos Socioambient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lcances de la Particip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93920" y="1110600"/>
            <a:ext cx="8158320" cy="5325840"/>
            <a:chOff x="493920" y="1110600"/>
            <a:chExt cx="8158320" cy="5325840"/>
          </a:xfrm>
        </p:grpSpPr>
        <p:sp>
          <p:nvSpPr>
            <p:cNvPr id="67" name="_s15390"/>
            <p:cNvSpPr/>
            <p:nvPr/>
          </p:nvSpPr>
          <p:spPr>
            <a:xfrm flipV="1">
              <a:off x="4571640" y="2544480"/>
              <a:ext cx="0" cy="71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5389"/>
            <p:cNvSpPr/>
            <p:nvPr/>
          </p:nvSpPr>
          <p:spPr>
            <a:xfrm>
              <a:off x="3512880" y="111060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000000"/>
                  </a:solidFill>
                  <a:latin typeface="Arial"/>
                </a:rPr>
                <a:t>Tomar las decision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000000"/>
                  </a:solidFill>
                  <a:latin typeface="Arial"/>
                </a:rPr>
                <a:t>(Gobernar-Gobernanza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5386"/>
            <p:cNvSpPr/>
            <p:nvPr/>
          </p:nvSpPr>
          <p:spPr>
            <a:xfrm flipV="1">
              <a:off x="5576040" y="3534120"/>
              <a:ext cx="1009800" cy="223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5383"/>
            <p:cNvSpPr/>
            <p:nvPr/>
          </p:nvSpPr>
          <p:spPr>
            <a:xfrm>
              <a:off x="6534720" y="259740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Capacidad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influi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en la toma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decis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5388"/>
            <p:cNvSpPr/>
            <p:nvPr/>
          </p:nvSpPr>
          <p:spPr>
            <a:xfrm>
              <a:off x="5190840" y="4557240"/>
              <a:ext cx="627120" cy="581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5387"/>
            <p:cNvSpPr/>
            <p:nvPr/>
          </p:nvSpPr>
          <p:spPr>
            <a:xfrm>
              <a:off x="5378760" y="500292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Acceso a 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Inform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5385"/>
            <p:cNvSpPr/>
            <p:nvPr/>
          </p:nvSpPr>
          <p:spPr>
            <a:xfrm flipH="1">
              <a:off x="3327480" y="4555080"/>
              <a:ext cx="621720" cy="58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5374"/>
            <p:cNvSpPr/>
            <p:nvPr/>
          </p:nvSpPr>
          <p:spPr>
            <a:xfrm>
              <a:off x="1644120" y="500112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Organizació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So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5384"/>
            <p:cNvSpPr/>
            <p:nvPr/>
          </p:nvSpPr>
          <p:spPr>
            <a:xfrm flipH="1" flipV="1">
              <a:off x="2554560" y="3535920"/>
              <a:ext cx="1015920" cy="219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5372"/>
            <p:cNvSpPr/>
            <p:nvPr/>
          </p:nvSpPr>
          <p:spPr>
            <a:xfrm>
              <a:off x="493920" y="259560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Posibilidad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Hacer públ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las opin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5370"/>
            <p:cNvSpPr/>
            <p:nvPr/>
          </p:nvSpPr>
          <p:spPr>
            <a:xfrm>
              <a:off x="3512880" y="326304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000000"/>
                  </a:solidFill>
                  <a:latin typeface="Arial"/>
                </a:rPr>
                <a:t>Niveles de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000000"/>
                  </a:solidFill>
                  <a:latin typeface="Arial"/>
                </a:rPr>
                <a:t>Participación Socia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¿Cuáles son los límites de la participación social en la gestión social de los bosqu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2708280"/>
            <a:ext cx="1800000" cy="1440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AC en  el marco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la Instituciona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Ambiental vig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205000"/>
            <a:ext cx="3132000" cy="936720"/>
          </a:xfrm>
          <a:prstGeom prst="rightArrowCallout">
            <a:avLst>
              <a:gd name="adj1" fmla="val 25002"/>
              <a:gd name="adj2" fmla="val 25000"/>
              <a:gd name="adj3" fmla="val 55726"/>
              <a:gd name="adj4" fmla="val 7840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au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oblema ambiental relacionado 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manejo de la basura y de agu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rvidas en las ciu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4365720"/>
            <a:ext cx="2087640" cy="2160360"/>
          </a:xfrm>
          <a:prstGeom prst="upArrowCallout">
            <a:avLst>
              <a:gd name="adj1" fmla="val 27095"/>
              <a:gd name="adj2" fmla="val 25000"/>
              <a:gd name="adj3" fmla="val 9884"/>
              <a:gd name="adj4" fmla="val 33349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Factores Contextu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Baja influencia comunita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a gestión del territo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edominio de Inter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conó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imitaciones en el acc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 la infor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fusión respecto a 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lcances de la P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622920" y="2637000"/>
            <a:ext cx="2521080" cy="576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cumplimiento de resoluci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mbient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810560" y="3500280"/>
            <a:ext cx="1333440" cy="1008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eterioro d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apital Soc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38920" y="5013360"/>
            <a:ext cx="2305080" cy="576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ercepción de Exclusión Soc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227640" y="3429000"/>
            <a:ext cx="1513080" cy="1152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érdida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redibilid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as instituci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emocrática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16720" y="1989000"/>
            <a:ext cx="2627280" cy="576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utorizaciones a empres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gnorando las observ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y/o el rechazo ciudad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2349360"/>
            <a:ext cx="976320" cy="2016360"/>
          </a:xfrm>
          <a:custGeom>
            <a:avLst/>
            <a:gdLst>
              <a:gd name="textAreaLeft" fmla="*/ 152280 w 976320"/>
              <a:gd name="textAreaRight" fmla="*/ 854280 w 976320"/>
              <a:gd name="textAreaTop" fmla="*/ 504000 h 2016360"/>
              <a:gd name="textAreaBottom" fmla="*/ 1512360 h 2016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68360" y="1413000"/>
            <a:ext cx="936720" cy="914400"/>
          </a:xfrm>
          <a:prstGeom prst="downArrowCallout">
            <a:avLst>
              <a:gd name="adj1" fmla="val 25612"/>
              <a:gd name="adj2" fmla="val 25610"/>
              <a:gd name="adj3" fmla="val 16667"/>
              <a:gd name="adj4" fmla="val 6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stitu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1268280"/>
            <a:ext cx="936360" cy="914400"/>
          </a:xfrm>
          <a:prstGeom prst="downArrowCallout">
            <a:avLst>
              <a:gd name="adj1" fmla="val 25603"/>
              <a:gd name="adj2" fmla="val 25600"/>
              <a:gd name="adj3" fmla="val 16667"/>
              <a:gd name="adj4" fmla="val 6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poyo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ONG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56000" y="1268280"/>
            <a:ext cx="936720" cy="914400"/>
          </a:xfrm>
          <a:prstGeom prst="downArrowCallout">
            <a:avLst>
              <a:gd name="adj1" fmla="val 25612"/>
              <a:gd name="adj2" fmla="val 25610"/>
              <a:gd name="adj3" fmla="val 16667"/>
              <a:gd name="adj4" fmla="val 6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Organ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munit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35640" y="1341360"/>
            <a:ext cx="936720" cy="914400"/>
          </a:xfrm>
          <a:prstGeom prst="downArrowCallout">
            <a:avLst>
              <a:gd name="adj1" fmla="val 25612"/>
              <a:gd name="adj2" fmla="val 25610"/>
              <a:gd name="adj3" fmla="val 16667"/>
              <a:gd name="adj4" fmla="val 6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ovil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Y Prote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úbl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476280"/>
            <a:ext cx="2232000" cy="43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rategias de 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04000" y="836640"/>
            <a:ext cx="1689120" cy="914400"/>
          </a:xfrm>
          <a:prstGeom prst="downArrowCallout">
            <a:avLst>
              <a:gd name="adj1" fmla="val 46185"/>
              <a:gd name="adj2" fmla="val 46181"/>
              <a:gd name="adj3" fmla="val 16667"/>
              <a:gd name="adj4" fmla="val 6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secu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284640"/>
            <a:ext cx="3276720" cy="576000"/>
          </a:xfrm>
          <a:prstGeom prst="rightArrowCallout">
            <a:avLst>
              <a:gd name="adj1" fmla="val 25002"/>
              <a:gd name="adj2" fmla="val 25000"/>
              <a:gd name="adj3" fmla="val 94813"/>
              <a:gd name="adj4" fmla="val 7820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oyectos con alto impacto ambi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erca de asentamientos huma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005360"/>
            <a:ext cx="3022560" cy="792000"/>
          </a:xfrm>
          <a:prstGeom prst="rightArrowCallout">
            <a:avLst>
              <a:gd name="adj1" fmla="val 24975"/>
              <a:gd name="adj2" fmla="val 25000"/>
              <a:gd name="adj3" fmla="val 64984"/>
              <a:gd name="adj4" fmla="val 7626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terés y preocupación de 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munidades por amenaz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mbientales a su calidad de v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1600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16000" y="378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885080" y="458136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7524000" y="2350440"/>
            <a:ext cx="433440" cy="2016000"/>
          </a:xfrm>
          <a:custGeom>
            <a:avLst/>
            <a:gdLst>
              <a:gd name="textAreaLeft" fmla="*/ 67680 w 433440"/>
              <a:gd name="textAreaRight" fmla="*/ 312480 w 433440"/>
              <a:gd name="textAreaTop" fmla="*/ 514080 h 2016000"/>
              <a:gd name="textAreaBottom" fmla="*/ 1501920 h 2016000"/>
            </a:gdLst>
            <a:ahLst/>
            <a:rect l="textAreaLeft" t="textAreaTop" r="textAreaRight" b="textAreaBottom"/>
            <a:pathLst>
              <a:path w="21600" h="21600">
                <a:moveTo>
                  <a:pt x="3375" y="5510"/>
                </a:moveTo>
                <a:lnTo>
                  <a:pt x="9300" y="5510"/>
                </a:lnTo>
                <a:lnTo>
                  <a:pt x="9300" y="0"/>
                </a:lnTo>
                <a:lnTo>
                  <a:pt x="21600" y="10800"/>
                </a:lnTo>
                <a:lnTo>
                  <a:pt x="9300" y="21600"/>
                </a:lnTo>
                <a:lnTo>
                  <a:pt x="9300" y="16090"/>
                </a:lnTo>
                <a:lnTo>
                  <a:pt x="3375" y="16090"/>
                </a:lnTo>
                <a:close/>
              </a:path>
              <a:path w="21600" h="21600">
                <a:moveTo>
                  <a:pt x="0" y="5510"/>
                </a:moveTo>
                <a:lnTo>
                  <a:pt x="675" y="5510"/>
                </a:lnTo>
                <a:lnTo>
                  <a:pt x="675" y="16090"/>
                </a:lnTo>
                <a:lnTo>
                  <a:pt x="0" y="16090"/>
                </a:lnTo>
                <a:close/>
              </a:path>
              <a:path w="21600" h="21600">
                <a:moveTo>
                  <a:pt x="1350" y="5510"/>
                </a:moveTo>
                <a:lnTo>
                  <a:pt x="2700" y="5510"/>
                </a:lnTo>
                <a:lnTo>
                  <a:pt x="2700" y="16090"/>
                </a:lnTo>
                <a:lnTo>
                  <a:pt x="1350" y="1609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1116000" y="4868640"/>
            <a:ext cx="1584360" cy="1584360"/>
          </a:xfrm>
          <a:prstGeom prst="right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ide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reduccioni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e  los conflict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mbientales des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a Política Públ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2771640" y="4723920"/>
            <a:ext cx="1584360" cy="1584360"/>
          </a:xfrm>
          <a:prstGeom prst="right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ínima influencia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a PAC en el SE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(limitado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observacio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00360" y="6093000"/>
            <a:ext cx="1214280" cy="54900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73440 h 549000"/>
              <a:gd name="textAreaBottom" fmla="*/ 475560 h 54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Necesidad de modificar la P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49520"/>
          </a:xfrm>
          <a:prstGeom prst="rect">
            <a:avLst/>
          </a:prstGeom>
          <a:gradFill rotWithShape="0">
            <a:gsLst>
              <a:gs pos="0">
                <a:srgbClr val="7c949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definir los alcances y sentidos de la PAC en la institucionalidad ambiental, asumiendo que su carácter no vinculante puede desencadenar altos niveles de tensión social y su normativa favorece el desarrollo de conflictos so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los casos estudiados la institucionalidad creada ha demostrado tanto su ineficacia para resolver conflictos como su falta de legitimidad en la ciudadanía al momento de poner a prueba el diseño de las políticas de medio ambiente y en particular el SEIA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484360" y="4052880"/>
            <a:ext cx="38545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opuestas de Modificación al Reglamento del SE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28a8a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si en  condiciones de ser una ley verificada empíricamente, se puede sostener que a mayor sensación de dominio o control, capacidad y autonomía de que disponga una persona o grupo, mayor será la posibilidad que tenga de establecer y acordar reglas aceptadas que favorezcan una mayor justicia entre sus miembros, y ejercer a la vez mayor control sobre quienes tienen el mandato de cumplir con el ejercicio de los poderes público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De Lellis,2006:174-17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2708280"/>
            <a:ext cx="2232000" cy="3241800"/>
          </a:xfrm>
          <a:prstGeom prst="rightArrowCallout">
            <a:avLst>
              <a:gd name="adj1" fmla="val 36314"/>
              <a:gd name="adj2" fmla="val 36310"/>
              <a:gd name="adj3" fmla="val 16667"/>
              <a:gd name="adj4" fmla="val 6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odific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l regl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l SE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1557360"/>
            <a:ext cx="1922400" cy="14400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xtensión de 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lazos (60 días)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Rangos equival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 los que dema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Un EI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16360" y="1341360"/>
            <a:ext cx="1922400" cy="11527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cremento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os canales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ifu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(puerta a puer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edios masivo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32720" y="981000"/>
            <a:ext cx="1922400" cy="108108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Organización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abildos Abier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evios al inicio 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16360" y="3284640"/>
            <a:ext cx="1922400" cy="143964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stable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ocedi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Generales para la P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20000" y="3933720"/>
            <a:ext cx="1922400" cy="14400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AC en 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Y monitoreo de 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oyec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21600" y="2060640"/>
            <a:ext cx="1922400" cy="143964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reación de Ent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ediad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35640" y="2781360"/>
            <a:ext cx="1922400" cy="143964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corporación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mpactos psicológ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el S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11280" y="5589720"/>
            <a:ext cx="5040360" cy="100800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articipación Ciudadana Vincul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ropuestas de Acción para el Dialogo Social y la Particip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noción de participación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nfoques para la participación social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l conflicto ambiental como crisis de particip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noción de participación en la Institucionalidad Ambiental de C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nfoques para la Participación Social en la gestión social de los recursos natur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Propuestas de Acción para el Dialogo Social y la Particip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egitimar y valorar las diversas formas de participación  y de organización que existen en una comun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avorecer el reconocimiento de una comunidad de necesidades, intereses y desafí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levar las manifestaciones culturales como expresiones públicas de diversidad e ident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5157720"/>
            <a:ext cx="5832360" cy="15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Propuestas de Acción para el Dialogo Social y la Particip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avorecer la generación de espacios de encuentro y dialogo formales e infor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avorecer la responsabilización por las propias conductas (individuales y colectivas) y sus consecu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Propuestas de Acción para el Dialogo Social y la Particip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ir a la recuperación de la confianza en el actuar individual y colectivo para promover mejoras en la calidad de vida y buscar soluciones para problemas inmedi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Una definición de participación 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Un proceso organizado, colectivo, libre, incluyente, en el cual hay una variedad de actores, de actividades y de grados de compromiso, que está orientado por valores y objetivos compartidos, en cuya consecución se producen transformaciones comunitarias e individual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. Montero, 2004:2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332000" y="4581360"/>
            <a:ext cx="4444920" cy="20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a participación implica un proceso en el que los individuos influyen-y son influidos-en las decisiones de un colectivo en relación con asuntos que son de su interé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ontenegro,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9152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articipación 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s referimos al involucramiento activo de las personas en el desarrollo de su entorno social: barrio, ciudad, país, lugar de trabajo, mundo globaliz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ue no implica el ser dirigente social o político, aunque no lo exclu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uando a través de la exteriorización(expresión pública) de opiniones , prácticas y/o identidades (colectivas e individu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alizando acciones directas para abordar temáticas relevantes para el grupo o la socie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diante agrupaciones espontáneas,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eando organizaciones y redes so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briendo espacios de encuentro y diá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nfoques para la particip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articipación política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 el conjunto de actividades realizadas por un individuo o grupo con la finalidad de incidir en una u otra medida en los asuntos púb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odelos explic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os Movimientos de m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Teoría de la privación rel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Teoría de movilización de recursos (históric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Teoría de los nuevos movimientos so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(identitarios-60’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ovimientos sociales contemporáne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(Global y Lo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spacios de particip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articipación Institu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articipación Instituy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articipación Formal e Inf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¿Quién es el que particip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de la Psicología Comunitaria, se asume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trata con un ser activo y no reac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ue construye realidad y que protagoniza la vida cotid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trata de alguien que posee conocimientos y que continuamente los produce; por lo tanto es alguien que piensa, actúa y crea, cuyo conocimiento llamado conocimiento popular debe ser tomado en cu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lo tanto, la comunidad tiene un rol activo y todos sus miembros tienen derecho a participar en la toma de decisiones sobre aquellos asuntos que les conciernen, al igual que tienen el compromiso de llevarlos a cab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ntero,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¿Por qué-cuando- participan las persona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6:43:41Z</dcterms:created>
  <dc:creator>Prof. Sapiains</dc:creator>
  <dc:description/>
  <dc:language>en-US</dc:language>
  <cp:lastModifiedBy>Rodolfo</cp:lastModifiedBy>
  <dcterms:modified xsi:type="dcterms:W3CDTF">2008-12-29T15:23:09Z</dcterms:modified>
  <cp:revision>4</cp:revision>
  <dc:subject/>
  <dc:title>Participación Ciudadana  y Conflictos Socioambientales</dc:title>
</cp:coreProperties>
</file>