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7.jpeg" ContentType="image/jpeg"/>
  <Override PartName="/ppt/media/image9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91074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523-064E-4A4A-8579-1370514D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CC4-07CC-44DE-A571-38279E59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090-2516-48B8-BA0F-894BCF1B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A63B-19BF-4037-A98A-CF0D39A5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708-BD60-4D7C-BDF7-45170C63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FB34-298E-4CA7-B477-9A46B27A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648-4E28-46B7-AD32-C18881B4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4B20-DAEC-4275-95B4-97003D38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9A7-3FE4-4CD7-A51C-022776B9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EDEC-5B5A-48CC-91F6-006165EA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D267-6C3E-4ACD-9B73-971F17C5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B11-32C8-48D5-8214-15B0F170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2E01-E55B-46A5-848D-1EF37D92A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1447920"/>
            <a:ext cx="8001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imes New Roman"/>
              </a:rPr>
              <a:t>Uso Múltiple en la Ordenación Territoria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105520"/>
            <a:ext cx="8336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Diplomado “Gestión Social de los Bosques y del Medio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Módulo Gestión de los Recursos Naturales y Desarrollo Sostenible del Territorio: El Caso del Bos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7 de noviembre de 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695160" cy="1050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7280" y="412920"/>
            <a:ext cx="3456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Calibri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Calibri"/>
              </a:rPr>
              <a:t>Facultad de Ciencias Fores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Calibri"/>
              </a:rPr>
              <a:t>Escuela de Postgrado y Postítul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31640" y="54936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aíces del uso mú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0720" y="101520"/>
            <a:ext cx="464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ilosóficas – Teológicas – So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atemá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64000" y="101520"/>
            <a:ext cx="358560" cy="1311480"/>
          </a:xfrm>
          <a:custGeom>
            <a:avLst/>
            <a:gdLst>
              <a:gd name="textAreaLeft" fmla="*/ 228960 w 358560"/>
              <a:gd name="textAreaRight" fmla="*/ 358560 w 358560"/>
              <a:gd name="textAreaTop" fmla="*/ 34200 h 1311480"/>
              <a:gd name="textAreaBottom" fmla="*/ 1277280 h 131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0360" y="1616040"/>
            <a:ext cx="8604360" cy="52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ffffff"/>
                </a:solidFill>
                <a:uFillTx/>
                <a:latin typeface="Arial"/>
              </a:rPr>
              <a:t>Visión Bíblic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reación del mundo: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GEN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os instruyó: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reced y multiplicaos y llenad la tierr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(seres human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os creó al hombre a su imagen y semejanza: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reced y multiplicaos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lenad la tierra y dominadla y gobernad sobre los peces del océan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el cielo y sobre cualquier organismo vivo que se mue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os vio que lo que había creado estaba b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riunvirat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os – Naturaleza – Homb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staba b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naturaleza se creó primero y estaba b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adición del hombre fue muy bue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strucciones de dominarla y gobernar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un mundo perfect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os – Naturaleza – Homb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stá b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ía continuar en un modo perf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836640"/>
            <a:ext cx="85327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Jardín del Edén: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ada árbol placentero a la vista y de calida co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li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os: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ultivad y cuidad el jardí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unción: Silvicultura y conservacion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tricción: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el árbol del bien y del mal no comerá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rpiente: presente en la natura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hombre como gestor no gestó y siguió el consejo de la serp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belde y comió del árb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secuenci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obediencia de la gestión y fracaso de la gest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racaso de proteger. Éste árbol debía protege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ecado original: contra Dios y contra la natura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333360"/>
            <a:ext cx="8748720" cy="65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ffffff"/>
                </a:solidFill>
                <a:uFillTx/>
                <a:latin typeface="Arial"/>
              </a:rPr>
              <a:t>Visión de los filósofo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Platón</a:t>
            </a:r>
            <a:r>
              <a:rPr b="1" i="1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cosas hechas por la naturaleza son el trabajo de u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rte divi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no existen elementos universales, entonces los particulares no interes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Aristóte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á claro que la naturalez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es una caus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esta causa opera con un propós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Identifica los elemen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la naturaleza: tierra, aire, agua y fu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Marco Aureli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sidera a la naturaleza como u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istema del univer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con el hombre como componente de l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estructura cósmic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iendo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ios inher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 la natural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1187280"/>
            <a:ext cx="8153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366840"/>
            <a:ext cx="8748720" cy="62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Leonardo da Vinci</a:t>
            </a:r>
            <a:r>
              <a:rPr b="1" i="1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uchó co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o universal y lo partic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particul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ólo conduce a u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mecanic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Bac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Empir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escerrajó los secre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la natura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ició l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revolución científ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Boyle, Newton y Pasc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a naturaleza hay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eyes natur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y el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método científ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be emplearlas para encontrar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a ver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i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 el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reador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u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mundo lóg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y su diseñador, y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puede ser conocido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las investig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1187280"/>
            <a:ext cx="8153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366840"/>
            <a:ext cx="8748720" cy="60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Voltaire</a:t>
            </a:r>
            <a:r>
              <a:rPr b="1" i="1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ombre y naturaleza so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perfeccion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Descart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ficiencia total de la perso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Matemátic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roporcion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unidad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las investig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Rousseau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adre del romantic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ilusión con la razón y volcó a l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emo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ombre primitivo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noble salvaj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 Adaptado a la natura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r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uperior al hombre civiliz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amó a u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retorno a la natura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1187280"/>
            <a:ext cx="8153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66840"/>
            <a:ext cx="8748720" cy="53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Hume</a:t>
            </a:r>
            <a:r>
              <a:rPr b="1" i="1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riticó la razón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mo un método de llegar a la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ver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ó l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experiencia hum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Hege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universo se está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esdoblando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y también la capacidad de comprensión del hombre. Tesis – Anti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Kan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rató de producir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unidad. Conocimiento unific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l hombre m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o que ocurre es progreso hacia la ver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260280"/>
            <a:ext cx="8748720" cy="66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Resum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Visión bíblica</a:t>
            </a:r>
            <a:r>
              <a:rPr b="1" i="1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ecesidad del hombre de reconciliarse con su crea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Visión ilustra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hombre puede razonar el problema social y ambiental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método científ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Visión romántic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relación con la naturaleza debe ser más natu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Visión humanist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ser humano es lo más impor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Evolucionism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brevivencia de los mejores adap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naturaleza y el hombre cambi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Misticismo orient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Humanismo secul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Materialism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ienes materiales son lo más impor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3049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écnicas y métodos para resolver problemas de 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801800"/>
            <a:ext cx="81536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conómic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álisis de sistem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dioambien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ltur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anificación territor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rcad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304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Matemáticas de sist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168560"/>
            <a:ext cx="8153640" cy="54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Análisis de sistem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s un intento de integrar subsistemas en un proyecto global que resulta en el desarrollo de un nuevo tipo de pensamient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stablecer objetiv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stablecer estructur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Usar modelo matemátic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imular el sist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Programación lineal y multicriteri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s un algoritmo de asignación de recursos limitados entre actividades competitivas en forma óptima. La función objetivo optimiza o minimiza ciertas partes del sist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conom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212840"/>
            <a:ext cx="815364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Eficiencia económic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 economía concierne prioritariamente a la satisfacción de los deseos ilimitados del hombre de una cantidad finita de recurs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Oportunidades de producció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 la combinación de produ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laciones de preci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 una medida de su valor. Precios varía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urva de indiferenci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 logran productividades adicionales de un producto sin desprenderse del ot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Mezcla óptima de product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200" y="684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Hasta Siglo X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920" y="114444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Hasta Siglo 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920" y="343692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Siglo XX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66920" y="4428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gricultura genera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112068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ra de la Espe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34131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Uso múlt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125360"/>
            <a:ext cx="4572000" cy="21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xploraciones geográf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os mundos: Primero y Ter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aradigma analí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conomía de eca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shumanización del terri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ecnologías d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ociedad de la opulencia y de la mis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3484440"/>
            <a:ext cx="4572000" cy="33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aradigma de 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rogramación multicrite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istemas de Información Geográ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omp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G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ensores remo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Monitor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art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mocr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pul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ecnologías nuevas: motor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lásticos, automóvil, avión, bo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866880"/>
            <a:ext cx="0" cy="277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943280"/>
            <a:ext cx="0" cy="1469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843280" y="1943280"/>
            <a:ext cx="288720" cy="1469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32000" y="1943280"/>
            <a:ext cx="216000" cy="1469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32000" y="1943280"/>
            <a:ext cx="432000" cy="1469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qu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212840"/>
            <a:ext cx="815364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cceso a bienes escasos y públic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tamiento igualitario a todos los miembros de la socieda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0600" y="2205000"/>
            <a:ext cx="89154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ffffff"/>
                </a:solidFill>
                <a:latin typeface="Arial"/>
              </a:rPr>
              <a:t>Postulados básicos del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ffffff"/>
                </a:solidFill>
                <a:latin typeface="Arial"/>
              </a:rPr>
              <a:t>Uso Múltipl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ostulado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2219400"/>
            <a:ext cx="8153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xisten numerosas clases de ámbitos y ecosistemas, cada uno de los cuales difiere en sus limitaciones y potencialidades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539640" y="333360"/>
          <a:ext cx="540072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33360"/>
                    <a:ext cx="540072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281400" y="3906720"/>
          <a:ext cx="5394240" cy="254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1400" y="3906720"/>
                    <a:ext cx="5394240" cy="25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443640" y="333360"/>
            <a:ext cx="223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ábitats característicos de la avifauna del norte de la provincia de Valladol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3906720"/>
            <a:ext cx="223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quema de la distribución de los biotopos en los ueds del interior (sabana sahelo-desértic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522936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autas del paisaje geomorfológico de la zona del norte de El Pardo. Resaltan los aspectos vectoriales de la estructura geosisté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15960" y="1052640"/>
          <a:ext cx="6080400" cy="38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5960" y="1052640"/>
                    <a:ext cx="608040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ngruencia Diversidad – 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084400"/>
            <a:ext cx="8153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versidad biológica y ecológica d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or y uso de la divers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ervación y manejo de la divers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189000"/>
            <a:ext cx="8153640" cy="65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Informació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valúa la organización o el desorden del sist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ormación y diversidad son igu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= K log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 eficiencia del sistema aumenta al aumentar la complejidad organiz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Diversida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versidad (una comunid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versidad (gradiente de comunid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versidad (en una cuenc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Orden desde el ord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 mecanismo de solución de orden desde el orden opera aumentando la cantidad de información hasta alcanzar un límite, por ejemplo, el clímax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14440" y="1065240"/>
            <a:ext cx="632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33360"/>
            <a:ext cx="8207280" cy="60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87280" y="879480"/>
          <a:ext cx="6769440" cy="507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879480"/>
                    <a:ext cx="676944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Diversidad de ámbi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112392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Vege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45080" y="112536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Fau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7080" y="112392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7080" y="1987560"/>
            <a:ext cx="1871640" cy="429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ober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37080" y="3068640"/>
            <a:ext cx="187164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Diversidad de ámbi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41452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li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321300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Geofo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407664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Si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21440" y="241452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99120" y="321300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99120" y="407664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37080" y="4538520"/>
            <a:ext cx="1871640" cy="93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coto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Interf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602460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Vege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45080" y="602604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Fau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37080" y="602460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54200" y="2347920"/>
            <a:ext cx="289080" cy="222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COTO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00720" y="1944720"/>
            <a:ext cx="289080" cy="314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OPOLO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572000" y="1550520"/>
            <a:ext cx="0" cy="43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843280" y="1550520"/>
            <a:ext cx="1728720" cy="43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572000" y="1552680"/>
            <a:ext cx="2449440" cy="434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572000" y="2414160"/>
            <a:ext cx="0" cy="654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830760"/>
            <a:ext cx="0" cy="67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842920" y="3500280"/>
            <a:ext cx="793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08720" y="350028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692360" y="2637000"/>
            <a:ext cx="861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050920" y="3500280"/>
            <a:ext cx="454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692360" y="4292640"/>
            <a:ext cx="812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89800" y="2637000"/>
            <a:ext cx="790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89800" y="3500280"/>
            <a:ext cx="790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89800" y="4292640"/>
            <a:ext cx="790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5468760"/>
            <a:ext cx="0" cy="55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5468760"/>
            <a:ext cx="2017800" cy="55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843280" y="5468760"/>
            <a:ext cx="1728720" cy="555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0920" y="549360"/>
            <a:ext cx="316872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Pautas repetitivas del paisaje de Taig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aiga + turbe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aiga – pantano y la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anura de inun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aiga de montaña + val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aiga de montaña abrupta + val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51280" y="519120"/>
          <a:ext cx="409428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519120"/>
                    <a:ext cx="409428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8101080" y="100476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01080" y="180828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101080" y="263700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01080" y="378936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01080" y="504828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4917960"/>
            <a:ext cx="3168720" cy="18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oca Mad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errub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epòsitos deluviales y de soliflu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orre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La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Napa freá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30492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eríodo de postguerra Mund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nflictos previos reservas nacion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349360"/>
            <a:ext cx="728676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Ganadería productiva en tierras públic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Forestería productiva en tierras públic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Población urbana demandante de espacios silvest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ostulad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2219400"/>
            <a:ext cx="8153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xisten múltiples necesidades de la población que pueden ser satisfechas a través del uso y productividad de la tierra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1457280"/>
            <a:ext cx="8424720" cy="52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squema de necesidades existenciales múltiples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26920" y="1643040"/>
          <a:ext cx="7561440" cy="48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643040"/>
                    <a:ext cx="7561440" cy="48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Dimensiones del espacio según fu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571760"/>
            <a:ext cx="815364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Deóntic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iones transformadoras. Deber ser y hac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Estétic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tencionado a partir de la bel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Cognosci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pacio aprehendido por las facultades del conocimiento desde los sentidos a la raz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Indici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la expresión interna y cultural de la identidad del que organiza el espacio. Da identidad a la relación del sistema con su propiet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Administ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limita la relación legal o consuetudinaria de pertenencia al sector so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squema de la multiplicidad de espacios existentes en un área d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63640" y="1916280"/>
            <a:ext cx="561672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60640" y="2133720"/>
          <a:ext cx="5032440" cy="40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0640" y="2133720"/>
                    <a:ext cx="5032440" cy="40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ostulado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219400"/>
            <a:ext cx="8153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as clases de ambitos son la resultante de sus diferencias inherentes y de la cultura de la población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Relaciones semánticas de las fu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00160" y="2219400"/>
            <a:ext cx="2751120" cy="27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Cognosciti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Deón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Sintomá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Esté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Administrati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64000" y="2205000"/>
            <a:ext cx="2751480" cy="27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Arial"/>
              </a:rPr>
              <a:t>Sens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Arial"/>
              </a:rPr>
              <a:t>Herramien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Arial"/>
              </a:rPr>
              <a:t>Másca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Arial"/>
              </a:rPr>
              <a:t>Adorn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Arial"/>
              </a:rPr>
              <a:t>Lin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2492280"/>
            <a:ext cx="15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1280" y="2997360"/>
            <a:ext cx="15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51280" y="3573360"/>
            <a:ext cx="15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4149720"/>
            <a:ext cx="15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653000"/>
            <a:ext cx="15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Unidad e Identidad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052640"/>
            <a:ext cx="8153640" cy="55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Sumativida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cambios en la totalidad del sistema obedecen a una ecuación de la misma configuración que las par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Holism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comportamiento de un elemento cualquiera de un sistema es diferente a su comportamiento en aisl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Segregación progresiv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establece al pasar el sistema desde un estado holístico a un estado de independencia de los ele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Centraliz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gunos de los elementos lideran al sistema y sus partes dependen o actúan en torno a é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Mecanicis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ostulado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2219400"/>
            <a:ext cx="81536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as múltiples necesidades de la población están condicionadas por una cultura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Fragmentar como generador de diver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925640"/>
            <a:ext cx="8153640" cy="40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agmentación regresiva (retroceder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agmentación envolvente (rodear al hábitat con limpia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agmentación divisiva (separar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agmentación intrusiva (manchas en el interior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agmentación de cubrimientos (ambos costados, tal como un río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55897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amaño de cada espacio (A y B), en relación con su grado de heterogeneidad. Se indican, además, los ecotonos A –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404640"/>
            <a:ext cx="7345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871640" y="550800"/>
          <a:ext cx="5364360" cy="43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1640" y="550800"/>
                    <a:ext cx="5364360" cy="43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304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erspectivas del u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585800"/>
            <a:ext cx="8153640" cy="22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cológ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ferta y deman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entro. Hinterl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anific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Fragmentación: Vías de extin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925640"/>
            <a:ext cx="815364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xcluida de la fragmentación ini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ducción del territorio, inadecuado para la especi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yor riesgo de desaparecer en poblaciones pequeñ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ectar relaciones ecológicas importan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ostulado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700280"/>
            <a:ext cx="815364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s posible modificar los ámbitos a través de la modificación del ecosistema de acuerdo a su receptividad tecnológica y a los insumos aplicados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gricultura como origen de la diversidad artifi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8000" y="2421000"/>
            <a:ext cx="4896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195640" y="2421000"/>
                <a:ext cx="43923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: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→</m:t>
                        </m:r>
                      </m:e>
                    </m:nary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380880" y="1700280"/>
            <a:ext cx="876312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Agricultura (A) es el proceso de artificialización de la naturalez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ffff"/>
                </a:solidFill>
                <a:latin typeface="Arial"/>
              </a:rPr>
              <a:t>con aj &gt; a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Arial"/>
              </a:rPr>
              <a:t>Don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s-CL" sz="2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onjunto de operadores de artificializació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CL" sz="2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ecosistema en estado 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nivel de artificialización de la naturaleza para el estado 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redio como origen de diversidad artifi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746360"/>
            <a:ext cx="8153640" cy="42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 = f ( S, </a:t>
            </a:r>
            <a:r>
              <a:rPr b="1" lang="es-MX" sz="3200" spc="-1" strike="noStrike">
                <a:solidFill>
                  <a:srgbClr val="ffffff"/>
                </a:solidFill>
                <a:latin typeface="Symbol"/>
                <a:ea typeface="Symbol"/>
              </a:rPr>
              <a:t></a:t>
            </a:r>
            <a:r>
              <a:rPr b="1" lang="es-MX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on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 : espacio – tiempo. L</a:t>
            </a:r>
            <a:r>
              <a:rPr b="0" lang="es-MX" sz="2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 x T ( longitud </a:t>
            </a:r>
            <a:r>
              <a:rPr b="0" lang="es-MX" sz="2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 x tiempo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Symbol"/>
                <a:ea typeface="Symbol"/>
              </a:rPr>
              <a:t>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unidades espacio – temporales de recursos naturales renovables, tales como división de un campo de cultivo o un potre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Symbol"/>
                <a:ea typeface="Symbol"/>
              </a:rPr>
              <a:t>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flujo inter o intra de masa, energía o inform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MX" sz="2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: respuesta o output como función de la artificializació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Vectores de est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421000"/>
            <a:ext cx="4896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714760" y="2384280"/>
                <a:ext cx="37288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1908000" y="386568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s-CL" sz="2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= Variables de es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Diversidad (D) como indicador del Uso Múltiple del territo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746360"/>
            <a:ext cx="8153640" cy="29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= uf /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on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u : Número de us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es-MX" sz="2200" spc="-1" strike="noStrike">
                <a:solidFill>
                  <a:srgbClr val="ffffff"/>
                </a:solidFill>
                <a:latin typeface="Symbol"/>
                <a:ea typeface="Symbol"/>
              </a:rPr>
              <a:t>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Número de fluj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a : Categorías de ámbi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ausas de degradación de Medios Natu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1925640"/>
            <a:ext cx="815364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rtificialización por urbanización y plantación de exótic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Parcelación del territor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Degradación auditiva y por polulan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Banalización por: monocultivos, corrección de torrentes, desmonte de árboles viej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ltas frecuencias de intervencio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Variación de la diver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413000"/>
            <a:ext cx="81536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olíticas de traspase de deslindes prediales y comunidades individu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ábitat suficientemente grandes para especies de amplio rang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onitoreo de ecosistemas y especies problem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ntener diversidad necesaria para sociedad y ecosistemas (ambiente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formarse para corregir oportunamente los problem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Mecanismos de pérdida de diver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413000"/>
            <a:ext cx="815364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Fragmentación y pérdida de hábita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Especies introducid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Sobreexplotación de plantas y anim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ontaminación: suelo, agua, atmósfe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ambio global climátic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gricultura y forestería industr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26676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mponentes de la diversidad territorial en la comuna de Santo Domingo (V Regió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2227320"/>
            <a:ext cx="3686400" cy="45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Componen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li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istritos (geoform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itios (Edafoambient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Vege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omunidad de a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Bos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Agu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Borde cost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7280" y="2214720"/>
            <a:ext cx="5076720" cy="45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versidad de element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6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5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0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2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3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6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1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304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492280"/>
            <a:ext cx="815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El territorio debe ser destinado para la mejor combinación de usos sostenible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763640" y="189000"/>
          <a:ext cx="561672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89000"/>
                    <a:ext cx="561672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539640" y="5954760"/>
            <a:ext cx="80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apacidad de uso de la tierra del territorio americano de Ch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6093000"/>
            <a:ext cx="80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Grupos de estilos que conforman la agricultura moderna y el uso múltip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44280"/>
            <a:ext cx="6264360" cy="59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979640" y="260280"/>
          <a:ext cx="54007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60280"/>
                    <a:ext cx="54007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Formulación del Uso Múltiple (U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1746360"/>
            <a:ext cx="81536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UM = f ( n, f, c, lp, pr, p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on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n : Necesidad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f : Fun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 : Caprich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lp : Limitaciones y Potencialidad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pr : Prax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po : Poies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lementos fundamentales del 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925640"/>
            <a:ext cx="815364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racterísticas físicas del espacio: superficie y receptiv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acionalidad dada por: necesidades, funciones y caprich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cnología aplica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pacidad actuac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95280" y="404640"/>
            <a:ext cx="8497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11280" y="404640"/>
          <a:ext cx="615636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404640"/>
                    <a:ext cx="615636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539640" y="5589720"/>
            <a:ext cx="806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squema de las variaciones en el grado de artificialización en tres ámbitos diferentes, correspondientes a series de suelos de distintos grados de vulnerabilidad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Métodos de restau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557360"/>
            <a:ext cx="87631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arrollar modelos descriptiv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stablecer metas buscad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arrollar diseño global de metas y conexio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arrollar opciones basado 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ases de terren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ndien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racterísticas de la faun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Sociedad de la miseria a sociedad de la opul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1606680"/>
            <a:ext cx="815364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Florencia 1630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a 10 personas por habitación y 10 a 12 familias por casa, unas 100 personas. Sin agua ni servicios higién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Tirol siglo XV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hacía pan tres veces al año. Hambrunas frecu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Europa renacimient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0% de las personas pobres a muy pob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Francia siglo XVII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% de la población permanece indig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oloni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.000 mendigos de un total de 50.000 perso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692280"/>
            <a:ext cx="8153640" cy="52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nglaterra Siglo XVI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¼ de la población: miserables, pobres y cesa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uecia 1815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½ de la población sin tierra o mendig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iudades italianas s. XVI y XVI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% de los niños abandonados en las cal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París 1780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.000 niños abandonados, ¼ de todos los nacimiento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Sociedad de la opul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352520"/>
            <a:ext cx="8153640" cy="49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Cadenas distribuidor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on Marche (París), Hermanshy /Viena), Tietzen (Berlín), Ma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onald’s (USA), Kentucky Fried Chicken (USA), Coca Cola (Mundo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Automóvi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00 habían 8.000 automóviles en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30 habían 26 millones de automóviles en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45 habían 2.8 millones de automóviles en U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80 habían 23 millones de automóviles en U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50 habían 50 millones de automóviles en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80 habían 400 millones de automóviles en mund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Ferrocarri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porte masivo en los paí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333360"/>
            <a:ext cx="81536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Vacaciones pagad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 todos los trabajadores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Jornada labor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ho hora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Naturalismo popul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caciones en campo y play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Población urban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00 - 2.5% población urbana en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0 - 10% población urbana en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6 - 41% población urbana en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95 - 90% población urbana en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30 - 13% población urbana en Ch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90 - 84% población urbana en Ch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ndustrializ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rrollo de ciencia y tecnolog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304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ey de 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197000"/>
            <a:ext cx="8153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Es el manejo de todos los recursos renovables superficiales de las áreas naturales, de manera de ser utilizados en la combinación de usos que mejor se ajusten a las necesidades de la población; haciendo el uso más juicioso de la tierra para alguno o todos los recursos o servicios relativos a áreas relativamente grandes para proporcionar suficiente amplitud de ajustes periódicos en el uso para adecuarse a las necesidades y condiciones cambiantes; de manera de utilizar algunas tierras para menos que todos los recursos entre sí, sin dañar la productividad de la tierra, teniendo en cuenta el valor relativo de los variados recursos y no necesariamente la combinación de usos que produce más retorno monetario o la mayor productividad monetaria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260280"/>
            <a:ext cx="8153640" cy="62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Actividades de la vid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Trabaj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Feroz tormento, Trebelinu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Sueñ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Desconección del mundo exteri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Oci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Meditación. Vida interi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Llenar la vid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Tertulia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Comunicación entre actores en un escenario da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Bailar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Lugar. Compañí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Andar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Deambular en un escenario. Internarse en un entor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Cazar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Capturar material y sensorialmente el mundo exterior. Capturar el entor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260280"/>
            <a:ext cx="8153640" cy="63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Ética protestante (sajona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eparación discreta de la activida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8 horas de trabajo inten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8 horas de descanso (ocio) inten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8 horas de sueño inten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Ética latina (mediterránea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Mezcla e intercalación de las tres actividad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Trabajo – Ocio – Sueñ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Fuerzas y atractor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ociedad de la mise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ociedad de la opulenc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260280"/>
            <a:ext cx="8153640" cy="57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Vida y Oci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da nace vací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 instinto dirige y regula la existencia de cualquier criatu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 desaparecer el instinto en el hombre carece de directrices de la vida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→ ha de inventar su propia vida, dirigirla y llenar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Llenado de la vida: Sueño, trabajo y oc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Quien trabaja lo hace con el fin de dejar de hacerlo algún día y con ello ganar la liberación de su vida y comenzar de verdad a vivir. Una vez ocioso debe comenzar a llenar la vi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e genera una industria del oc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981000"/>
            <a:ext cx="8153640" cy="57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Tribu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ue parte de la vida. Diario quehacer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Aristóteles (en Política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conoce importancia de saber manejar tiempo li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Senec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queña parte de la vida en la que vivimos. Lo que nos queda no es vida sino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Cicer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ium” Tiempo para el descanso del cuerpo y la recreación del espíritu, indispensable para volver a dedicarse al trabajo o al servicio púb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Bibli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abath. Religión y medit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Historia del concepto de 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06200"/>
            <a:ext cx="8153640" cy="67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Época de los caballer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da ociosa fue signo de elevada posición social. Un medio para conseguir respeto de la comunidad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alvinistas s. XVI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io es la negación de la libertad sin ningún propósito produc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Revolución industri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bajo es el valor fundamental de la sociedad y ocio es criticado. Éxodo rural para trabajo asalariado en fábr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z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ómicamente improduc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ita consu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dispone a costumbres relajadas moral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ultura mediterráne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zcla: Trabajo, sueño, o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io v/s nego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854360"/>
            <a:ext cx="81536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cológica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Descanso, diversión, desarroll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ocial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Sociabilidad, simbólica, terapéut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Económica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Negocio, empre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Funciones del 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Definiciones y concep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1100160"/>
            <a:ext cx="8153640" cy="54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Oci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mpo del que dispone la persona después de haberse liberado de todos sus deberes y obligaciones comprendidas en el cumplimiento de un empleo o trabajo remuner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mpo restante v/s tiempo de c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Recre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una actividad plena de gozo en la que las alegrías del trabajo y del juego están unidas en plena secuencia. Se identifica con diver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Descans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rupción voluntaria del trabajo y cese voluntario de las actividades del hombre con el objeto de satisfacer las actividades vitales para así recuperar la fuerza y energía que exige so participación en la productiv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404640"/>
            <a:ext cx="815364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Tiempo lib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mpo que queda desconectado del tiempo de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Aburrimient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frir un estado de ánimo producto de la falta de estímulos, diversiones o distrac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Vici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sto especial o demasiado apetito de una cosa que incita a usar de ella frecuentemente o en ex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e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2219400"/>
            <a:ext cx="8153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xisten múltiples necesidades de la población que pueden ser satisfechas a través del uso y productividad de la tierra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e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557360"/>
            <a:ext cx="815364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ey de la naturaleza. (Wilderness Act, 196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ey de política ambiental. (Environmental Policy Act., 196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ey de planificación de Recursos Renovables de Bosques y Praderas. (Forest and Rangelands renewable resource planning Act., 197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ey de gestión y de políticas de tierras. (Land Policy And Management Act., 197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304920"/>
            <a:ext cx="83059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960 Definición de 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-Palabras claves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773360"/>
            <a:ext cx="8153640" cy="47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e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ursos superfi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Áreas na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tilizados en comb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ontrar 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Áreas suficientemente gra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justes periód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gunas tierras con meno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ejo coord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 dañar la produ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ando los valores rel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cesariamente mayor retorno o productividad uni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932360" y="0"/>
            <a:ext cx="3887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5435640" y="376200"/>
          <a:ext cx="2771640" cy="6066000"/>
        </p:xfrm>
        <a:graphic>
          <a:graphicData uri="http://schemas.openxmlformats.org/drawingml/2006/table">
            <a:tbl>
              <a:tblPr/>
              <a:tblGrid>
                <a:gridCol w="523800"/>
                <a:gridCol w="2247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ipologí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lases de U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) Cultivos arabl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2) Pasturas de rota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3) Praderas permanen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4) Cultivos forestal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5) Silvicultu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6) Arbustos maderables, (A7) Arbustos forrajer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8) Acuicultu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9) Extracción mine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0) Cosecha de agu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1) Drenaje, (A1) Canaliza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2) Asentamientos human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3) Construcciones rural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4) Fauna silvest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5) Plantas de tratamientos y de desech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re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) Velerism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) Esquí acuátic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3) Pesca de orill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4) Bajadas de río: pesca, piragüismo, kaja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5) Pesca lacust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6) Cinegétic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7) Cabalgadu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8) Observación de fau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9) Vagar, deambul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0) Merendero, (B11) Mirado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2) Esquí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3) Andinism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4) Senderism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5) Cicloví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6) Espeleologí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7) Alas delta y parapen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8) Acampada al natural y (B19) en campi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0) Motociclism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1) Fotografí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2) Recogida de productos naturales: frutos, flores, seta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3) Equitación, (B24) rodeo y (B25) arre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6) Ocio: medita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7) Descenso y ascenso de barranc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8) Parques y (B29) jardin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30) Canchas deportes terrestres: Fútbol, golf, chueca, ten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e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1) Defensas fluviales y mari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2) Protección de fauna y flo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3) Áreas natural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4) Conservación de lugares ecológicos y/o arqueológic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5) Conservación de lugares geológicos y físic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6) Conservación de la belleza aroma y sonido del paisaj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7) Cortafueg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8) Calidad del sonido/ (C9) Microclim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611280" y="1916280"/>
            <a:ext cx="307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Arial"/>
              </a:rPr>
              <a:t>Multiplicidad de usos del territor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692360" y="549360"/>
            <a:ext cx="5616360" cy="52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02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actores que limitan el desarrollo de las poblaciones de fauna silvestre de interés económico, de caza y para la vida human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979640" y="622440"/>
          <a:ext cx="5059440" cy="51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22440"/>
                    <a:ext cx="5059440" cy="51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6" name=""/>
          <p:cNvCxnSpPr/>
          <p:nvPr/>
        </p:nvCxnSpPr>
        <p:spPr>
          <a:xfrm flipH="1" rot="16200000">
            <a:off x="4558320" y="2574360"/>
            <a:ext cx="27720" cy="1782000"/>
          </a:xfrm>
          <a:prstGeom prst="curvedConnector5">
            <a:avLst>
              <a:gd name="adj1" fmla="val -857894"/>
              <a:gd name="adj2" fmla="val 49989"/>
              <a:gd name="adj3" fmla="val -857894"/>
            </a:avLst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297" name=""/>
          <p:cNvSpPr/>
          <p:nvPr/>
        </p:nvSpPr>
        <p:spPr>
          <a:xfrm>
            <a:off x="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20640"/>
            <a:ext cx="9144000" cy="42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365120" y="722160"/>
          <a:ext cx="6375600" cy="40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722160"/>
                    <a:ext cx="637560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0" y="5319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rdenación del área circundante a un embalse de un fundo, en un contexto de uso múlti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5319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fluencia de los setos en el desarrollo de fauna útil y una dañ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692280"/>
            <a:ext cx="7991280" cy="42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403280" y="907920"/>
          <a:ext cx="6245280" cy="39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907920"/>
                    <a:ext cx="6245280" cy="39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03040" y="189000"/>
            <a:ext cx="8748720" cy="1187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Arial Black"/>
                <a:ea typeface="Arial"/>
              </a:rPr>
              <a:t>PAI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Arial Black"/>
                <a:ea typeface="Arial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74600" y="371520"/>
            <a:ext cx="1865520" cy="790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EST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40600" y="396720"/>
            <a:ext cx="1865160" cy="79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SOSTEN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6530400">
            <a:off x="1472760" y="1439640"/>
            <a:ext cx="677520" cy="189000"/>
          </a:xfrm>
          <a:prstGeom prst="rightArrow">
            <a:avLst>
              <a:gd name="adj1" fmla="val 50000"/>
              <a:gd name="adj2" fmla="val 89619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4977800">
            <a:off x="6957720" y="1443960"/>
            <a:ext cx="677880" cy="189000"/>
          </a:xfrm>
          <a:prstGeom prst="rightArrow">
            <a:avLst>
              <a:gd name="adj1" fmla="val 50000"/>
              <a:gd name="adj2" fmla="val 89667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600" y="1549440"/>
            <a:ext cx="9144000" cy="53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37360" y="153972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00"/>
                </a:solidFill>
                <a:latin typeface="Arial"/>
                <a:ea typeface="Arial"/>
              </a:rPr>
              <a:t>ACTUACION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36520" y="1816200"/>
            <a:ext cx="8461080" cy="4978080"/>
            <a:chOff x="236520" y="1816200"/>
            <a:chExt cx="8461080" cy="4978080"/>
          </a:xfrm>
        </p:grpSpPr>
        <p:grpSp>
          <p:nvGrpSpPr>
            <p:cNvPr id="317" name=""/>
            <p:cNvGrpSpPr/>
            <p:nvPr/>
          </p:nvGrpSpPr>
          <p:grpSpPr>
            <a:xfrm>
              <a:off x="236520" y="1846440"/>
              <a:ext cx="2930400" cy="1574280"/>
              <a:chOff x="236520" y="1846440"/>
              <a:chExt cx="2930400" cy="1574280"/>
            </a:xfrm>
          </p:grpSpPr>
          <p:sp>
            <p:nvSpPr>
              <p:cNvPr id="318" name=""/>
              <p:cNvSpPr/>
              <p:nvPr/>
            </p:nvSpPr>
            <p:spPr>
              <a:xfrm>
                <a:off x="866520" y="1846440"/>
                <a:ext cx="178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MENSI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236520" y="2522520"/>
                <a:ext cx="2930400" cy="898200"/>
                <a:chOff x="236520" y="2522520"/>
                <a:chExt cx="2930400" cy="8982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75400" y="2522520"/>
                  <a:ext cx="2891520" cy="188640"/>
                </a:xfrm>
                <a:prstGeom prst="parallelogram">
                  <a:avLst>
                    <a:gd name="adj" fmla="val 383206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spacioestruc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36520" y="2758320"/>
                  <a:ext cx="2891520" cy="188640"/>
                </a:xfrm>
                <a:prstGeom prst="parallelogram">
                  <a:avLst>
                    <a:gd name="adj" fmla="val 383206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cnoestruc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36520" y="2995200"/>
                  <a:ext cx="2891520" cy="188640"/>
                </a:xfrm>
                <a:prstGeom prst="parallelogram">
                  <a:avLst>
                    <a:gd name="adj" fmla="val 383206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Hidroestruc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40120" y="3232080"/>
                  <a:ext cx="2891520" cy="188640"/>
                </a:xfrm>
                <a:prstGeom prst="parallelogram">
                  <a:avLst>
                    <a:gd name="adj" fmla="val 383206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iogeoestruc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1065240" y="4429080"/>
              <a:ext cx="3147480" cy="2365200"/>
              <a:chOff x="1065240" y="4429080"/>
              <a:chExt cx="3147480" cy="236520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1065240" y="5742000"/>
                <a:ext cx="3147480" cy="907920"/>
                <a:chOff x="1065240" y="5742000"/>
                <a:chExt cx="3147480" cy="9079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1188720" y="5742000"/>
                  <a:ext cx="3024000" cy="190800"/>
                </a:xfrm>
                <a:prstGeom prst="parallelogram">
                  <a:avLst>
                    <a:gd name="adj" fmla="val 396226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126080" y="5980320"/>
                  <a:ext cx="3024000" cy="190800"/>
                </a:xfrm>
                <a:prstGeom prst="parallelogram">
                  <a:avLst>
                    <a:gd name="adj" fmla="val 396226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126080" y="6219720"/>
                  <a:ext cx="3024000" cy="190800"/>
                </a:xfrm>
                <a:prstGeom prst="parallelogram">
                  <a:avLst>
                    <a:gd name="adj" fmla="val 396226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065240" y="6459120"/>
                  <a:ext cx="3024000" cy="190800"/>
                </a:xfrm>
                <a:prstGeom prst="parallelogram">
                  <a:avLst>
                    <a:gd name="adj" fmla="val 396226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298600" y="5646600"/>
                <a:ext cx="0" cy="1147680"/>
                <a:chOff x="2298600" y="5646600"/>
                <a:chExt cx="0" cy="11476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298600" y="56466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298600" y="59335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298600" y="617184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298600" y="64123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298600" y="66510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546280" y="5646600"/>
                <a:ext cx="0" cy="1147680"/>
                <a:chOff x="2546280" y="5646600"/>
                <a:chExt cx="0" cy="11476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546280" y="56466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546280" y="59335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546280" y="617184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546280" y="64123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546280" y="66510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2792160" y="5646600"/>
                <a:ext cx="0" cy="1147680"/>
                <a:chOff x="2792160" y="5646600"/>
                <a:chExt cx="0" cy="114768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2792160" y="56466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792160" y="59335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792160" y="617184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792160" y="64123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792160" y="66510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3038400" y="5646600"/>
                <a:ext cx="0" cy="1147680"/>
                <a:chOff x="3038400" y="5646600"/>
                <a:chExt cx="0" cy="1147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038400" y="56466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038400" y="59335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038400" y="617184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038400" y="64123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038400" y="66510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 rot="5400000">
                <a:off x="1828800" y="5022720"/>
                <a:ext cx="965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uncionalid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5400000">
                <a:off x="2242080" y="517140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stétic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5400000">
                <a:off x="2437920" y="5164560"/>
                <a:ext cx="712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mbien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5400000">
                <a:off x="2652120" y="5158800"/>
                <a:ext cx="798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da y oci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145960" y="4429080"/>
                <a:ext cx="105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SEÑ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4997520" y="4492800"/>
              <a:ext cx="2771280" cy="2199600"/>
              <a:chOff x="4997520" y="4492800"/>
              <a:chExt cx="2771280" cy="2199600"/>
            </a:xfrm>
          </p:grpSpPr>
          <p:sp>
            <p:nvSpPr>
              <p:cNvPr id="360" name=""/>
              <p:cNvSpPr/>
              <p:nvPr/>
            </p:nvSpPr>
            <p:spPr>
              <a:xfrm>
                <a:off x="6243480" y="4859280"/>
                <a:ext cx="290520" cy="1833120"/>
              </a:xfrm>
              <a:prstGeom prst="upArrow">
                <a:avLst>
                  <a:gd name="adj1" fmla="val 26472"/>
                  <a:gd name="adj2" fmla="val 104959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1" name=""/>
              <p:cNvGrpSpPr/>
              <p:nvPr/>
            </p:nvGrpSpPr>
            <p:grpSpPr>
              <a:xfrm>
                <a:off x="4997520" y="5600520"/>
                <a:ext cx="2771280" cy="882360"/>
                <a:chOff x="4997520" y="5600520"/>
                <a:chExt cx="2771280" cy="88236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5106240" y="5600520"/>
                  <a:ext cx="2662560" cy="185400"/>
                </a:xfrm>
                <a:prstGeom prst="parallelogram">
                  <a:avLst>
                    <a:gd name="adj" fmla="val 359029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051160" y="5832000"/>
                  <a:ext cx="2662560" cy="185400"/>
                </a:xfrm>
                <a:prstGeom prst="parallelogram">
                  <a:avLst>
                    <a:gd name="adj" fmla="val 359029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051160" y="6064560"/>
                  <a:ext cx="2662560" cy="185400"/>
                </a:xfrm>
                <a:prstGeom prst="parallelogram">
                  <a:avLst>
                    <a:gd name="adj" fmla="val 359029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97520" y="6297480"/>
                  <a:ext cx="2662560" cy="185400"/>
                </a:xfrm>
                <a:prstGeom prst="parallelogram">
                  <a:avLst>
                    <a:gd name="adj" fmla="val 359029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6351480" y="6267240"/>
                <a:ext cx="76320" cy="9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351480" y="6033960"/>
                <a:ext cx="76320" cy="9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51480" y="5798880"/>
                <a:ext cx="76320" cy="9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450400" y="4492800"/>
                <a:ext cx="188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SO MULTIP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5972040" y="1816200"/>
              <a:ext cx="2725560" cy="2028240"/>
              <a:chOff x="5972040" y="1816200"/>
              <a:chExt cx="2725560" cy="2028240"/>
            </a:xfrm>
          </p:grpSpPr>
          <p:sp>
            <p:nvSpPr>
              <p:cNvPr id="371" name=""/>
              <p:cNvSpPr/>
              <p:nvPr/>
            </p:nvSpPr>
            <p:spPr>
              <a:xfrm>
                <a:off x="5972040" y="1816200"/>
                <a:ext cx="272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ANSACCI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14840" y="2141280"/>
                <a:ext cx="1809720" cy="170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3" name=""/>
            <p:cNvSpPr/>
            <p:nvPr/>
          </p:nvSpPr>
          <p:spPr>
            <a:xfrm rot="2880600">
              <a:off x="1804680" y="3931920"/>
              <a:ext cx="677880" cy="189000"/>
            </a:xfrm>
            <a:prstGeom prst="rightArrow">
              <a:avLst>
                <a:gd name="adj1" fmla="val 50000"/>
                <a:gd name="adj2" fmla="val 89667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1160" y="4594320"/>
              <a:ext cx="677880" cy="188640"/>
            </a:xfrm>
            <a:prstGeom prst="rightArrow">
              <a:avLst>
                <a:gd name="adj1" fmla="val 50000"/>
                <a:gd name="adj2" fmla="val 89838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8922200">
              <a:off x="6427440" y="4125600"/>
              <a:ext cx="677880" cy="189000"/>
            </a:xfrm>
            <a:prstGeom prst="rightArrow">
              <a:avLst>
                <a:gd name="adj1" fmla="val 50000"/>
                <a:gd name="adj2" fmla="val 89667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6" name="" descr=""/>
            <p:cNvPicPr/>
            <p:nvPr/>
          </p:nvPicPr>
          <p:blipFill>
            <a:blip r:embed="rId2"/>
            <a:stretch/>
          </p:blipFill>
          <p:spPr>
            <a:xfrm>
              <a:off x="3132000" y="1898640"/>
              <a:ext cx="3151440" cy="2193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304920"/>
            <a:ext cx="85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secha sostenida de varios productos y serv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289240"/>
            <a:ext cx="8153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s el logro y mantención a perpetuidad de un alto nivel de períodos anuales o regulares de extracción de los variados recursos naturales renovables del territorio sin dañar la productividad de la tier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304920"/>
            <a:ext cx="85914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960 Definición de cosecha sosteni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-Palabras claves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205000"/>
            <a:ext cx="815364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os y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erpet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to n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racción anual o perió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ri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 dañar la productividad de la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9:15:07Z</dcterms:created>
  <dc:creator>Juan Gastó y Leonardo Vera</dc:creator>
  <dc:description/>
  <dc:language>en-US</dc:language>
  <cp:lastModifiedBy>Consuelo </cp:lastModifiedBy>
  <dcterms:modified xsi:type="dcterms:W3CDTF">2008-11-07T20:30:13Z</dcterms:modified>
  <cp:revision>222</cp:revision>
  <dc:subject/>
  <dc:title>Uso múltiple del territorio</dc:title>
</cp:coreProperties>
</file>