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8157-F078-4B0A-BDCA-BDBF1A621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BB81-DD93-4C10-9F06-A16B0C48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B87A-1A43-4C8E-B815-B93E8D42A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5C78-9C91-47A7-B47A-17D19D0AC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79CE-0F09-41DC-A788-503BE1212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83A0-57AC-408A-A813-8CF3E000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3F40-9C45-4B99-A0D1-DD0E72E6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85F7-414B-4CC2-82AB-66133B2B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EE32-BB88-4163-991D-4301F50E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1DF7-CF22-4122-9DC0-E9E6BA68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F7B7-994E-473D-BE20-9E512F0E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0A0B-A602-4CC6-B206-5CB462DF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E3F9-D5C2-4CC8-A7AE-E7535BAD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0AF6-5F2B-46EA-91EA-39B4569C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092B-6CE2-4CB8-859F-DD2F502B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F302-5210-4BB9-B839-D7682C19E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5C41-932B-406D-94C9-471463982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E3A8-E68B-4A92-B0B0-0EB57CA8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4FFB-6AB9-4924-B005-6BCED1F5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B5A9-C06E-496E-8BC9-9885D169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B035-59E8-4CF1-A290-CC7310C7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E011-7B28-49C8-9036-D15C25D1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2864-4946-4833-91CF-D2F484B7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22FB-842B-4AE9-88E2-2A1910D2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B2FE-D984-49CC-B24F-B75C0CED26F1}" type="slidenum">
              <a:rPr b="0" lang="es-C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1574-3279-40B4-BA66-6BBED5A0187C}" type="slidenum">
              <a:rPr b="0" lang="es-C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ejercicios%20de%20estadistica%20de%20la%20calidad.ppt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ejercicios%20de%20estadistica%20de%20la%20calidad.ppt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ejercicios%20de%20estadistica%20de%20la%20calidad.ppt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62864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 u="sng">
                <a:solidFill>
                  <a:srgbClr val="ff0000"/>
                </a:solidFill>
                <a:uFillTx/>
                <a:latin typeface="Verdana"/>
              </a:rPr>
              <a:t>Curso de control de calidad</a:t>
            </a:r>
            <a:r>
              <a:rPr b="1" i="1" lang="es-ES" sz="4000" spc="-1" strike="noStrike" u="sng">
                <a:solidFill>
                  <a:srgbClr val="0000ff"/>
                </a:solidFill>
                <a:uFillTx/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 u="sng">
                <a:solidFill>
                  <a:srgbClr val="3b812f"/>
                </a:solidFill>
                <a:uFillTx/>
                <a:latin typeface="Times New Roman"/>
              </a:rPr>
              <a:t>Ejercicios de estadístic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 u="sng">
                <a:solidFill>
                  <a:srgbClr val="3b812f"/>
                </a:solidFill>
                <a:uFillTx/>
                <a:latin typeface="Times New Roman"/>
              </a:rPr>
              <a:t>de la cal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5480" y="181080"/>
            <a:ext cx="576324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UNIVERSIDAD DE CHI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FACULTAD DE CIENCIAS FORES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DEPARTAMENTO DE INGENIERÍA DE LA MADERA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56000" y="63691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  <a:ea typeface="Arial"/>
              </a:rPr>
              <a:t>30 Agosto del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404640"/>
            <a:ext cx="777564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6633"/>
                </a:solidFill>
                <a:latin typeface="Arial"/>
              </a:rPr>
              <a:t>EJERCICIOS DE INTERVALO DE CONFIANZA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8137440" cy="1897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11280" y="2781360"/>
            <a:ext cx="784836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417672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3960720" cy="1076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7151760" cy="835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8360" y="2421000"/>
            <a:ext cx="8324640" cy="590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042920" y="3284640"/>
            <a:ext cx="7058160" cy="1062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611280" y="4653000"/>
            <a:ext cx="82454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268280"/>
            <a:ext cx="81756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99"/>
                </a:solidFill>
                <a:latin typeface="Trebuchet MS"/>
              </a:rPr>
              <a:t>Ejercicio de Histogra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958680"/>
            <a:ext cx="8496000" cy="1346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00000" y="2492280"/>
            <a:ext cx="669636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6633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19280" y="333360"/>
            <a:ext cx="4608360" cy="1465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55640" y="1989000"/>
            <a:ext cx="7561440" cy="2305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84360" y="4653000"/>
            <a:ext cx="806436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3456000" cy="3292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564000" y="2997360"/>
            <a:ext cx="526716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144880" y="0"/>
            <a:ext cx="450216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01:13:32Z</dcterms:created>
  <dc:creator>Francisco Rojo Callejas</dc:creator>
  <dc:description/>
  <dc:language>en-US</dc:language>
  <cp:lastModifiedBy>Rubén</cp:lastModifiedBy>
  <dcterms:modified xsi:type="dcterms:W3CDTF">2007-08-29T23:28:17Z</dcterms:modified>
  <cp:revision>30</cp:revision>
  <dc:subject/>
  <dc:title>Muestreo para la inspección por atributos</dc:title>
</cp:coreProperties>
</file>