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6AB-DDBF-4E03-84BF-B2CEBC48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397-C33F-4E8D-A581-21C4B82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88C-EEE0-418C-8BED-844F08AE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218-7964-4723-B9FD-79894C50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2064-48ED-445A-98A6-54B37B78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1005-25C1-4036-ACDF-8080120B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9C98-E29D-4513-9124-1A78AB96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8FAA-2C11-4281-A7DB-02B6360E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4C92-3689-46DA-A72B-5999D66E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7966-0F0A-46D6-A2F8-8F274025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9AB6-6C42-41E3-9E2F-234C4B1F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CE1-A44D-4591-A3D1-B2AF32EF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6D1C-FEFA-43A4-BE2D-E5E27AB4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BE75-57A9-4485-AA6B-DB9F8EB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0EDB-89B0-4B50-A615-909D0799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3A65-D7F1-4130-99F2-2E3760E0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C8DA-DC2D-49C0-AF03-72E3AB1A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A38-AE66-4D8A-A17E-A56AD490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2D7-62B5-4A06-8BFD-F521F060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2DC-1882-47C8-8F73-FAA87E02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523-8451-46EF-BEC4-748AA3BF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9FC-67BC-40DC-8E6B-B085AC1F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853-DD46-4B20-89BB-0CEEBB98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F92-1242-46E6-9795-A17B65A6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A53E-1132-47DD-8776-F1BD69ED3874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DE3A-669B-40AC-93FE-454F406A7ADD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ejercicios%20de%20estadistica%20de%20la%20calidad.ppt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28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ff0000"/>
                </a:solidFill>
                <a:uFillTx/>
                <a:latin typeface="Verdana"/>
              </a:rPr>
              <a:t>Curso de control de calidad</a:t>
            </a:r>
            <a:r>
              <a:rPr b="1" i="1" lang="es-ES" sz="40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Ejercicios de estadíst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de la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480" y="181080"/>
            <a:ext cx="57632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UNIVERSIDAD DE CHI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PARTAMENTO DE INGENIERÍA DE LA MADER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636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30 Agosto del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4640"/>
            <a:ext cx="77756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6633"/>
                </a:solidFill>
                <a:latin typeface="Arial"/>
              </a:rPr>
              <a:t>EJERCICIOS DE INTERVALO DE CONFIANZA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137440" cy="189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78483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176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960720" cy="1076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151760" cy="83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2421000"/>
            <a:ext cx="8324640" cy="59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042920" y="3284640"/>
            <a:ext cx="705816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82454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8175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99"/>
                </a:solidFill>
                <a:latin typeface="Trebuchet MS"/>
              </a:rPr>
              <a:t>Ejercicio de Histogra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958680"/>
            <a:ext cx="8496000" cy="134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6696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4608360" cy="146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56144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8064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56000" cy="329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267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5021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13:32Z</dcterms:created>
  <dc:creator>Francisco Rojo Callejas</dc:creator>
  <dc:description/>
  <dc:language>en-US</dc:language>
  <cp:lastModifiedBy>Rubén</cp:lastModifiedBy>
  <dcterms:modified xsi:type="dcterms:W3CDTF">2007-08-29T23:28:17Z</dcterms:modified>
  <cp:revision>30</cp:revision>
  <dc:subject/>
  <dc:title>Muestreo para la inspección por atributos</dc:title>
</cp:coreProperties>
</file>