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92C-3164-4DCC-A032-FF637897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3D8-52C6-4E4A-ABB6-FA14C616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361-1539-425D-B6FD-DD383870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1D5-8145-4AD7-A2A8-72F92C8E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AC26-C624-4DFA-A1ED-B3E8239C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5E37-2EC5-489C-9464-EC6B031F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18D0-90CD-43B3-B917-AB090A67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7D0-2E09-4903-B940-3674336B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0DD0-BF13-4838-B614-49E23D2F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43C4-25C7-4BDC-A5B0-9533A65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15BB-17F4-4A10-ADB9-5DEE104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E9E-4988-4053-AA4A-E773C045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DF99-C8C2-48AC-AFF1-2AFE209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9EF7-60BC-4683-BEDE-B5CBF034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4D3E-98EB-4391-B640-51F6A1DD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0F70-16D9-4FE4-BA32-A19AD815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6A7D-9C6A-4DE0-9B93-A28B929C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EDA-767A-4949-BDC0-B951BE7F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84C-D5B3-4CA6-A08F-1C7BC6BA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F52-3B4B-405A-BDA1-EBD1BACE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770-86DC-4718-A4DA-B752F0C9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275-62E8-44E7-AEFC-84AEEA11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075-361A-4E08-9067-2E9AE29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00F-356D-4E48-86E1-0C9912E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85B-6EEE-499C-9EBF-E4696D57181C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03B1-1825-4B3A-AF8C-5233B9F23E81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ejercicios%20de%20estadistica%20de%20la%20calidad.pp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28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ff0000"/>
                </a:solidFill>
                <a:uFillTx/>
                <a:latin typeface="Verdana"/>
              </a:rPr>
              <a:t>Curso de control de calidad</a:t>
            </a:r>
            <a:r>
              <a:rPr b="1" i="1" lang="es-ES" sz="40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Ejercicios de estadíst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de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80" y="181080"/>
            <a:ext cx="5763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UNIVERSIDAD DE CH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PARTAMENTO DE INGENIERÍA DE LA MADER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636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30 Agosto del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7756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6633"/>
                </a:solidFill>
                <a:latin typeface="Arial"/>
              </a:rPr>
              <a:t>EJERCICIOS DE INTERVALO DE CONFIANZA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37440" cy="189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848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176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960720" cy="1076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151760" cy="83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421000"/>
            <a:ext cx="832464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042920" y="3284640"/>
            <a:ext cx="705816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82454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8175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99"/>
                </a:solidFill>
                <a:latin typeface="Trebuchet MS"/>
              </a:rPr>
              <a:t>Ejercicio de Histogra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958680"/>
            <a:ext cx="849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669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4608360" cy="146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6144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8064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56000" cy="329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267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5021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13:32Z</dcterms:created>
  <dc:creator>Francisco Rojo Callejas</dc:creator>
  <dc:description/>
  <dc:language>en-US</dc:language>
  <cp:lastModifiedBy>Rubén</cp:lastModifiedBy>
  <dcterms:modified xsi:type="dcterms:W3CDTF">2007-08-29T23:28:17Z</dcterms:modified>
  <cp:revision>30</cp:revision>
  <dc:subject/>
  <dc:title>Muestreo para la inspección por atributos</dc:title>
</cp:coreProperties>
</file>