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169A-5AF4-4141-A635-66C3D2112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C9B4-2788-4B50-BDB3-501D99681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CE82-1DEA-46B2-BC73-13B3CE2C2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B16F-C2C7-4292-B77B-26C88863E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78352-9BA0-4699-984E-50538D85B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EAA50-BE10-4E05-8970-836FBF5BE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883C8-CFC1-4A92-AF6B-09E6AF437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59249-CC5B-4688-A68B-FE134F4FA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E4D20-1440-414D-BF77-8B07F65B3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377ED-096E-40AE-ADB9-8D9A3A5FF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BB137-29A3-423A-93AC-478ACC83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5205-7172-49DF-B7B6-30ACFAAC8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2A9F9-A608-4C10-98B3-E50DAE16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7C30C-7375-42F1-AF12-0F10D364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C22FF-A40A-4D52-83C7-62137561F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BECF0-139D-4FDC-90AD-B065CB4E4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D6876-F5A8-4BB2-99D3-C41CB4EBA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BC89-738B-4648-8895-89110C95D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76BF-CC5B-4B99-9DE5-B7C45B41D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AD63-BF61-4C92-B80D-F09B40E67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2C6D-6453-47D9-9CF3-66AA7B105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2F11-C8EA-4466-AF8A-B4C1A66E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ACD8-EF8C-42F4-98BB-1611B9D5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3B0C-B83B-45DD-AC42-0650CA3C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3D16-92E3-440F-B40B-B6516356625D}" type="slidenum">
              <a:rPr b="0" lang="es-C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A5B76-021A-47B6-8ED1-AA10F4DED616}" type="slidenum">
              <a:rPr b="0" lang="es-C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ejercicios%20de%20estadistica%20de%20la%20calidad.ppt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file:///ejercicios%20de%20estadistica%20de%20la%20calidad.ppt" TargetMode="External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ejercicios%20de%20estadistica%20de%20la%20calidad.ppt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162864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 u="sng">
                <a:solidFill>
                  <a:srgbClr val="ff0000"/>
                </a:solidFill>
                <a:uFillTx/>
                <a:latin typeface="Verdana"/>
              </a:rPr>
              <a:t>Curso de control de calidad</a:t>
            </a:r>
            <a:r>
              <a:rPr b="1" i="1" lang="es-ES" sz="4000" spc="-1" strike="noStrike" u="sng">
                <a:solidFill>
                  <a:srgbClr val="0000ff"/>
                </a:solidFill>
                <a:uFillTx/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 u="sng">
                <a:solidFill>
                  <a:srgbClr val="3b812f"/>
                </a:solidFill>
                <a:uFillTx/>
                <a:latin typeface="Times New Roman"/>
              </a:rPr>
              <a:t>Ejercicios de estadístic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 u="sng">
                <a:solidFill>
                  <a:srgbClr val="3b812f"/>
                </a:solidFill>
                <a:uFillTx/>
                <a:latin typeface="Times New Roman"/>
              </a:rPr>
              <a:t>de la calid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5480" y="181080"/>
            <a:ext cx="576324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UNIVERSIDAD DE CHI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FACULTAD DE CIENCIAS FOREST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DEPARTAMENTO DE INGENIERÍA DE LA MADERA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56000" y="636912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  <a:ea typeface="Arial"/>
              </a:rPr>
              <a:t>30 Agosto del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404640"/>
            <a:ext cx="7775640" cy="51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6633"/>
                </a:solidFill>
                <a:latin typeface="Arial"/>
              </a:rPr>
              <a:t>EJERCICIOS DE INTERVALO DE CONFIANZA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8137440" cy="18972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11280" y="2781360"/>
            <a:ext cx="784836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56000" y="981000"/>
            <a:ext cx="417672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700360" y="333360"/>
            <a:ext cx="3960720" cy="10764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39640" y="1484280"/>
            <a:ext cx="7151760" cy="8352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8360" y="2421000"/>
            <a:ext cx="8324640" cy="5904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042920" y="3284640"/>
            <a:ext cx="7058160" cy="1062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611280" y="4653000"/>
            <a:ext cx="824544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1268280"/>
            <a:ext cx="81756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99"/>
                </a:solidFill>
                <a:latin typeface="Trebuchet MS"/>
              </a:rPr>
              <a:t>Ejercicio de Histogram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24000" y="958680"/>
            <a:ext cx="8496000" cy="13464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900000" y="2492280"/>
            <a:ext cx="669636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6633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19280" y="333360"/>
            <a:ext cx="4608360" cy="1465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55640" y="1989000"/>
            <a:ext cx="7561440" cy="2305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84360" y="4653000"/>
            <a:ext cx="806436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3456000" cy="32925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564000" y="2997360"/>
            <a:ext cx="5267160" cy="35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144880" y="0"/>
            <a:ext cx="4502160" cy="717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7T01:13:32Z</dcterms:created>
  <dc:creator>Francisco Rojo Callejas</dc:creator>
  <dc:description/>
  <dc:language>en-US</dc:language>
  <cp:lastModifiedBy>Rubén</cp:lastModifiedBy>
  <dcterms:modified xsi:type="dcterms:W3CDTF">2007-08-29T23:28:17Z</dcterms:modified>
  <cp:revision>30</cp:revision>
  <dc:subject/>
  <dc:title>Muestreo para la inspección por atributos</dc:title>
</cp:coreProperties>
</file>