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6F1-551F-433F-861D-451DD19B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374-DB66-4ACD-B049-D84EBA5A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A6F-0F80-44BD-A6B1-9F45E937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555-DCB5-4937-B5BD-B887C474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C2C8-1020-4B46-83F0-64D65423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2F53-BE2B-4D5E-8C71-D8743005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5460-490B-4615-AE66-24982D4D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1B28-B223-4392-93B4-67D07D6F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FA89-F6D1-45BB-8D1F-6AB5FA8E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DD3B-121C-4F41-84E8-6D36EB2B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84E1-8562-4F8D-8043-0360777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8F2-ECF8-4F8C-A9A5-48978594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6706-D6FE-430B-AC59-718A6567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59E8-0469-45EC-AEEA-1A48155D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0E7F-0578-4155-ABD3-1A315BE1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A801-E543-465C-9E5B-D6A5DD9B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6BCD-8C49-4DE8-99CB-CF8705EB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65D-E77F-49EB-B557-BFAD294F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976-FD14-4D40-AFA3-351041C1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02B-072E-4D88-936D-E1CC84CD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B6C-FAC3-49FD-BDED-8A86D46B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1E7-7C2F-4146-9E3D-FC6F8E88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80A-1E88-4C46-94E7-92FEB06B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64F-A751-4A49-98B3-F67746D6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A970-28BF-4513-8CE7-F30FE28896B2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66F8-C590-4416-A410-291C0D8C8894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ejercicios%20de%20estadistica%20de%20la%20calidad.ppt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628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 u="sng">
                <a:solidFill>
                  <a:srgbClr val="ff0000"/>
                </a:solidFill>
                <a:uFillTx/>
                <a:latin typeface="Verdana"/>
              </a:rPr>
              <a:t>Curso de control de calidad</a:t>
            </a:r>
            <a:r>
              <a:rPr b="1" i="1" lang="es-ES" sz="40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Ejercicios de estadíst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de la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480" y="181080"/>
            <a:ext cx="57632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UNIVERSIDAD DE CHI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PARTAMENTO DE INGENIERÍA DE LA MADER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63691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30 Agosto del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04640"/>
            <a:ext cx="777564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6633"/>
                </a:solidFill>
                <a:latin typeface="Arial"/>
              </a:rPr>
              <a:t>EJERCICIOS DE INTERVALO DE CONFIANZA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137440" cy="1897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78483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176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960720" cy="1076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7151760" cy="83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2421000"/>
            <a:ext cx="8324640" cy="59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042920" y="3284640"/>
            <a:ext cx="705816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11280" y="4653000"/>
            <a:ext cx="82454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68280"/>
            <a:ext cx="8175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99"/>
                </a:solidFill>
                <a:latin typeface="Trebuchet MS"/>
              </a:rPr>
              <a:t>Ejercicio de Histogra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958680"/>
            <a:ext cx="8496000" cy="134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2492280"/>
            <a:ext cx="6696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4608360" cy="146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56144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8064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456000" cy="329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267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5021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1:13:32Z</dcterms:created>
  <dc:creator>Francisco Rojo Callejas</dc:creator>
  <dc:description/>
  <dc:language>en-US</dc:language>
  <cp:lastModifiedBy>Rubén</cp:lastModifiedBy>
  <dcterms:modified xsi:type="dcterms:W3CDTF">2007-08-29T23:28:17Z</dcterms:modified>
  <cp:revision>30</cp:revision>
  <dc:subject/>
  <dc:title>Muestreo para la inspección por atributos</dc:title>
</cp:coreProperties>
</file>