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8.jpeg" ContentType="image/jpeg"/>
  <Override PartName="/ppt/media/image10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F2F0-69E0-4A42-8123-572F9E57B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E8E4-49C2-41CC-B97B-7E868E2D0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FB37-AD3B-40AE-A73C-CBB66DA18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3BFA-B339-4750-9F5B-768079825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4FDD-88C6-4800-9A2D-2A8DE6CCF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4B52-9021-4587-A2DD-5EE274168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B068-2D18-4113-A790-E696C0B3B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EFB6-6576-4E79-A9FC-458AE472F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3699-D836-41CE-8E40-73604EB54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BF36-74B4-4CE6-B779-D5D87BF27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C391-B064-432D-9D35-5D5A8018D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995A-C306-4AED-B518-6463C297C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BF7EA-FEA2-4CDC-8445-D02ABA704C0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700360" y="2852640"/>
            <a:ext cx="410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HONGO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796000" y="5229360"/>
            <a:ext cx="3024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fesor: Matilde Lóp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urso: Biología Fores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imavera, 200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24000" y="404640"/>
            <a:ext cx="1152360" cy="1584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476360" y="62064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niversidad de Ch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acultad de ciencias forest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átedra de Biología fores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68360" y="620640"/>
            <a:ext cx="4535280" cy="20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comice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mprenden un gran grupo de hongos  (30.000 especies descrita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 denominan “hongos con sacos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cluye 300 especies de levaduras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2627280" y="3068640"/>
            <a:ext cx="439272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5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95280" y="692280"/>
            <a:ext cx="4824360" cy="30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Basidiomice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Incluyen los hongos mas conocidos como champiñ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Incluyen también géneros que se encuentran principalmente en su etapa anamórf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Se reproducen por basidiosporas (esporas sexualesproducidas en grandes cantidades por los bacidiomiceto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5364000" y="1484280"/>
            <a:ext cx="31878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9640" y="549360"/>
            <a:ext cx="6553440" cy="22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Deuteromice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Tradicionalmente se conocían como hongos imperfectos porque en ellos no se había podido encontrar la forma sexu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Actualmente se ha podido determinar que la mayoría de ellos pertenece al grupo de los ascomicetos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6372360" y="3933720"/>
            <a:ext cx="1726920" cy="18003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1692360" y="2924280"/>
            <a:ext cx="3233520" cy="36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3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1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611280" y="620640"/>
            <a:ext cx="6985080" cy="41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Importancia ecológic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Contribuyen al equilibrio ecológico del plane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al degradar desechos y organismos muertos, se libera agua, carbono y compuestos minerales, y de esta forma estos elementos pueden recircul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Algunos hongos son micorrizas ( del griego, hongos y raíces). El hongo micorrícico beneficia a la planta al descomponer materia orgánica del suelo. De esta forma pone a disposición agua y minerales como fósforo, mientras que las raíces aportan al hongo agua, azúcares, entre otras sustancias orgánic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4788000" y="4292640"/>
            <a:ext cx="3168720" cy="21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3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6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9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68360" y="476280"/>
            <a:ext cx="71992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s hongos tienen importancia económ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porcionan bebidas y alimentos al ser huma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ducen medicamentos y otras sustancias químicas valios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usan enfermedades a las plantas y a anim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2195640" y="3789360"/>
            <a:ext cx="476244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1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4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7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0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539640" y="620640"/>
            <a:ext cx="8064720" cy="71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Temas interesantes sobre los hong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El cultiv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Los hongos pueden ser cultivados en sótanos, cobertizos, cocheras, etc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Se requiere compost, en este caso paja de trigo y estiercol de caballo, ovejas, cerdos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Se agrega sulfato de calcio al compo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Se agrega agu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Se deja el compost alrededor de tres semanas,éste debe elevar su temperatura entre los 49º y los 62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El compost se deja enfriar y se siembra con hongos o micel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Si el micelio se está desarrollando , el compost tomará un color azul-gr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debe regarse ligeram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Las setas se recolectan mediante un movimiento rotativo de la ma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2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7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2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8" dur="5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1" dur="500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4" dur="500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7" dur="500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3" dur="500"/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6" dur="500"/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468360" y="620640"/>
            <a:ext cx="70563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-Diseño y evaluación de un contactor biológico rotatorio en el tratamiento de la celulosa que procesa los efluen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5219640" y="2060640"/>
            <a:ext cx="3405240" cy="44355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68360" y="2492280"/>
            <a:ext cx="4464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 ocupan hongos para el tratamiento de la celulos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etende mejorar el medio ambi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8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1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556000" y="2349360"/>
            <a:ext cx="4464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ffffff"/>
                </a:solidFill>
                <a:latin typeface="Arial"/>
              </a:rPr>
              <a:t>FIN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484360" y="2708280"/>
            <a:ext cx="4305240" cy="31813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755640" y="692280"/>
            <a:ext cx="453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asificación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6156360" y="1916280"/>
            <a:ext cx="1440000" cy="1008000"/>
          </a:xfrm>
          <a:prstGeom prst="line">
            <a:avLst/>
          </a:prstGeom>
          <a:ln w="442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24000" y="333360"/>
            <a:ext cx="53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escripció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68360" y="1197000"/>
            <a:ext cx="6119640" cy="646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Grupo diverso con mas de 81.000 especies conocid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Son seres vivos exentos de clorofila, por ende no fotosintetiz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Los hongos son eucarion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Paredes celulares compuestas de quiti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Son heterótrof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Obtienen moléculas orgánicas preformadas producidas por otros organism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Los hongos no ingieren alimentos, sino que secretan enzimas digestivas y después absorben el alimento predigerido a través de su pared celular y membrana plasmát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Obtienen nutrimentos de materia orgánica muerta o de organismos de los cuales parasit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Son </a:t>
            </a: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descomponedores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948360" y="2637000"/>
            <a:ext cx="167652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39640" y="549360"/>
            <a:ext cx="6985080" cy="327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s hongos se desarrollan mejor en ambientes húme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Se encuentran universalmente siempre que haya materia orgánica disponi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ueden obtener agua de una atmósfera húmeda, así como del medio en el que vive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oleran ambientes con PH de 2 a 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Los hongos prosperan en un amplio intervalo de temperatu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2556000" y="3429000"/>
            <a:ext cx="374472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84360" y="765000"/>
            <a:ext cx="74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lan corporal vegeta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0920" y="1700280"/>
            <a:ext cx="5616360" cy="368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 semilla del hongo no tiene origen sexual y se denomina “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ESPOR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s esporas envían filamentos exploratorios semejantes a raíces dentro del medio en que crecen y producen el fruto (el hongo en si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s filamentos (hifas), crecen de las esporas en busca de nutrien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recuentemente los filamentos se fusionan en multitud creando una masa conocida como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MICELIO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6156360" y="907920"/>
            <a:ext cx="280836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39640" y="836640"/>
            <a:ext cx="77774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 mayor parte de los hongos se reproducen por esporas microscópicas, que son transportadas por viento, agua o anim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s hongos pueden producir esporas de manera sexual o asexu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2195640" y="2421000"/>
            <a:ext cx="4076640" cy="40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11280" y="692280"/>
            <a:ext cx="7200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Ejemplos del reino fung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8360" y="1844640"/>
            <a:ext cx="8424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Filum              Tipos comunes             Rep. asexual                 Rep. Sexual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ffffff"/>
                </a:solidFill>
                <a:latin typeface="Arial"/>
              </a:rPr>
              <a:t>Chytridiomycota        Allomyces</a:t>
            </a: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i="1" lang="es-ES" sz="1200" spc="-1" strike="noStrike">
                <a:solidFill>
                  <a:srgbClr val="ffffff"/>
                </a:solidFill>
                <a:latin typeface="Arial"/>
              </a:rPr>
              <a:t>                 Zoosporas                                    Gametos flagelados 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                                    </a:t>
            </a:r>
            <a:r>
              <a:rPr b="1" i="1" lang="es-ES" sz="1200" spc="-1" strike="noStrike">
                <a:solidFill>
                  <a:srgbClr val="ffffff"/>
                </a:solidFill>
                <a:latin typeface="Arial"/>
              </a:rPr>
              <a:t>algunos quitridi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ffffff"/>
                </a:solidFill>
                <a:latin typeface="Arial"/>
              </a:rPr>
              <a:t>Zygomicota               Moho negro del pan                         Se forman esporas inmóviles      cigospor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ffffff"/>
                </a:solidFill>
                <a:latin typeface="Arial"/>
              </a:rPr>
              <a:t>Ascomycota             levaduras, mohos, trufas                los conidios se estrangulan          Ascopor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</a:t>
            </a:r>
            <a:r>
              <a:rPr b="1" i="1" lang="es-ES" sz="1200" spc="-1" strike="noStrike">
                <a:solidFill>
                  <a:srgbClr val="ffffff"/>
                </a:solidFill>
                <a:latin typeface="Arial"/>
              </a:rPr>
              <a:t>de los conidióforo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ffffff"/>
                </a:solidFill>
                <a:latin typeface="Arial"/>
              </a:rPr>
              <a:t>Basidiomycota        Setas, hongos, royas.                      Poco común                                   Basidiopor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ffffff"/>
                </a:solidFill>
                <a:latin typeface="Arial"/>
              </a:rPr>
              <a:t>Deuteromycota       Mohos                                               Conidios                                         No se observa fase sexu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68360" y="765000"/>
            <a:ext cx="4103640" cy="58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Quitridiomice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Hongos acuáticos pequeños relativamente sim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Constituyen el grupo mas primitivo de hongos vivos en la actualid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Son parásitos o descomponedores hallados principalmente en agua dulce, aunque algunas especies son terrestres o marin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Almacenan reservas de alimento en la forma de glucóge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Células móviles poseen un flagelo posteri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Se reproducen sexual o asexualm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796000" y="1341360"/>
            <a:ext cx="280836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539640" y="549360"/>
            <a:ext cx="5184720" cy="30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Cigomice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Producen esporas llamadas </a:t>
            </a:r>
            <a:r>
              <a:rPr b="1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Cigosporas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La mayoría son descomponedores que viven en el suelo sobre materia animal o vegetal en descomposi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Algunos son parásitos , y otros micorrícic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2195640" y="3716280"/>
            <a:ext cx="4929120" cy="22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0T04:18:06Z</dcterms:created>
  <dc:creator>Familia Melo Urra</dc:creator>
  <dc:description/>
  <dc:language>en-US</dc:language>
  <cp:lastModifiedBy>Matilde Lopez</cp:lastModifiedBy>
  <dcterms:modified xsi:type="dcterms:W3CDTF">2007-08-20T14:17:16Z</dcterms:modified>
  <cp:revision>2</cp:revision>
  <dc:subject/>
  <dc:title>Diapositiva 1</dc:title>
</cp:coreProperties>
</file>