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B88-E31F-40B3-98CC-C51CFFB4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D70-F5C7-4A8F-B25F-CC38CE38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44E-DB86-4D83-8E4C-314F2181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544-54DB-4737-9DA8-640E952A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6C0-865C-4521-B7FA-1B43614A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009-1C4B-4B86-97CA-1B448CD2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FFC-A9F9-4C7A-AF36-C0EE706F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65F-5A9C-48D6-9052-0E35721F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F7B-71BA-4737-90E2-6283A767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200E-2B84-4C59-9415-320A44AC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F2E-46B7-40C4-A221-E5508A01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93E-47AC-4D56-8554-3AC214D3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32D9-1DBE-40A7-BD49-07C568E134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iología Fores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actico 1: Evolu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ev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daptación a los factores ambient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lima influye en las especies y fuerzan la adaptación a esos factor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2738520" cy="3745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334880" y="64904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tenodytes forsteri G. R. Gray, 1844 -- Emperor Pengu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evolución cooperativa y coevolución por mutu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s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ng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5362560" cy="348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selección Na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selección natural es el principal motor que mantiene el funcionamiento de los mecanismos de la evolu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ctores ambientale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recuencia del éxito reproduct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a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erencia de los caracteres adaptativ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genotipos y fenot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aptación; principio de la especi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982960" cy="41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936320" y="3789000"/>
            <a:ext cx="30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iluropoda melanoleuc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avid, 1869) -- giant p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pervivencia del mas apt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70880" y="349992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iraffa camelopardali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innaeus, 1758) -- giraf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4679640" cy="398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homo sapien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273480" cy="5253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orig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énesis: “En un comienzo todo era oscuridad.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cosmogónica del origen del homb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origen de la vida sobre la tierr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dad media , edad moderna; Teoría de la Generación Espontán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glo X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uis Pasteu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1822 - 1895) químico francés cuyos descubrimientos tuvieron enorme importancia en la microbiología. A él se debe la técnica conocida como pasteurización. Y el rechazo de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teoría de la generación espontáne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2178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151240" cy="652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glo XX: Opar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eksandr Ivanovich Opari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 (1894 - 1980) fue un biólogo y bioquímico soviético que realizó avances con respecto al origen de la vida en la Tier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1879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os coacerva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arin; el entendimiento de las condiciones iniciales de la 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coacervado es un agregado de moléculas mantenidas unidas por fuerzas electrostáticas. Esas moléculas son sintetizadas abiót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2381040" cy="214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2381400" cy="21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Herencia de Opar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xperimento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xperimento de Miller y U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5616720" cy="449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 rot="20208000">
            <a:off x="2124000" y="5876640"/>
            <a:ext cx="1295640" cy="360360"/>
          </a:xfrm>
          <a:prstGeom prst="rightArrow">
            <a:avLst>
              <a:gd name="adj1" fmla="val 50000"/>
              <a:gd name="adj2" fmla="val 89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589720"/>
            <a:ext cx="1439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inoá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7640" y="-892080"/>
            <a:ext cx="5832720" cy="7750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 rot="5400000">
            <a:off x="-1333440" y="2781360"/>
            <a:ext cx="424800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volució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volución; la herencia de Darw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arles Robert Darwi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1809-1882), biólogo británico. Sentó las bases de la moderna teoría de la evolución, al plantear el concepto de evolución de las especies a través de un lento proceso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lección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1973160" cy="27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19:38:27Z</dcterms:created>
  <dc:creator>Diego Valencia</dc:creator>
  <dc:description/>
  <dc:language>en-US</dc:language>
  <cp:lastModifiedBy>Diego Valencia</cp:lastModifiedBy>
  <dcterms:modified xsi:type="dcterms:W3CDTF">2007-08-05T22:46:19Z</dcterms:modified>
  <cp:revision>6</cp:revision>
  <dc:subject/>
  <dc:title>Biología Forestal</dc:title>
</cp:coreProperties>
</file>