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81E-6BD9-49DD-8185-66984036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678-0C53-4D5F-9F0D-11468E6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DBD-843A-4B66-81D7-97851EA0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156-B100-47DF-A41F-7477E8D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4C6-8A40-4F6B-A706-49294E72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43F-E5EB-4FD1-944B-445B57B8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C33-182A-4D10-A486-DAAFA55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B28-5620-415E-A07E-2288EB2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CBD-B694-443F-BB2B-4E61C1DC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E30-1738-46D8-8312-0770D670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227-FF70-47A8-8672-D187497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555-1C60-4E30-BA14-6335D5AC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95D0-E0ED-4FF9-8E47-39FB9B7609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logía Fores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actico 1: Evol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aptación a los factores ambient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lima influye en las especies y fuerzan la adaptación a esos factor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738520" cy="374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334880" y="6490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tenodytes forsteri G. R. Gray, 1844 -- Emperor Peng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evolución cooperativa y coevolución por mutu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ng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362560" cy="34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selecci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lección natural es el principal motor que mantiene el funcionamiento de los mecanismos de la evol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tores ambiental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ecuencia del éxito reproduc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encia de los caracteres adapta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genotipos y feno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; principio de la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98296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936320" y="378900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luropoda melanoleuc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vid, 1869) -- giant p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ervivencia del mas ap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0880" y="349992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iraffa camelopardali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innaeus, 1758) -- giraf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679640" cy="39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homo sapien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273480" cy="525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orig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énesis: “En un comienzo todo era oscuridad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cosmogónica del origen del homb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origen de la vida sobre la tierr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ad media , edad moderna; Teoría de la Generación Espontá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lo X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822 - 1895) químico francés cuyos descubrimientos tuvieron enorme importancia en la microbiología. A él se debe la técnica conocida como pasteurización. Y el rechazo de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oría de la generación espontán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17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51240" cy="65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glo XX: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eksandr Ivanovich Opa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 (1894 - 1980) fue un biólogo y bioquímico soviético que realizó avances con respecto al origen de la vida en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187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os coacerv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arin; el entendimiento de las condiciones inicial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oacervado es un agregado de moléculas mantenidas unidas por fuerzas electrostáticas. Esas moléculas son sintetizadas abió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381040" cy="214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381400" cy="21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Herencia de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xperiment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erimento de Miller y U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44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 rot="20208000">
            <a:off x="2124000" y="587664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589720"/>
            <a:ext cx="143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inoá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-892080"/>
            <a:ext cx="5832720" cy="77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-1333440" y="2781360"/>
            <a:ext cx="4248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olu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; la herencia de Darw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1809-1882), biólogo británico. Sentó las bases de la moderna teoría de la evolución, al plantear el concepto de evolución de las especies a través de un lento proces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lección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97316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9:38:27Z</dcterms:created>
  <dc:creator>Diego Valencia</dc:creator>
  <dc:description/>
  <dc:language>en-US</dc:language>
  <cp:lastModifiedBy>Diego Valencia</cp:lastModifiedBy>
  <dcterms:modified xsi:type="dcterms:W3CDTF">2007-08-05T22:46:19Z</dcterms:modified>
  <cp:revision>6</cp:revision>
  <dc:subject/>
  <dc:title>Biología Forestal</dc:title>
</cp:coreProperties>
</file>