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F53F-B238-4AD9-BE0A-695F52EE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709A-8F9F-41EA-B9A6-08B51EAF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A948-FE01-46E0-80C5-C4B6A50C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50BF-F814-400E-9301-79D844B1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743F-AF48-41D1-BF0D-1D3B4B66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BE74-A104-4FEA-94AB-AE6BF56D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CC05-543C-4E73-83DE-BD6DF36A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FA31-1C26-4CD0-A3C2-9F670D28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4BD4-9676-426C-8314-4BBC9671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CB03-51FF-40B0-AE83-012E61B1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BDA3-7602-4A38-86F0-EA6D94E5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3B2A-CEBF-4570-9497-A8953ECC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AEA3-56FE-4051-AF8A-7651D4217A6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iología Fores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actico 1: Evolu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evolu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daptación a los factores ambient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clima influye en las especies y fuerzan la adaptación a esos factore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2738520" cy="3745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334880" y="64904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tenodytes forsteri G. R. Gray, 1844 -- Emperor Pengu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evolución cooperativa y coevolución por mutual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s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ongo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5362560" cy="3486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a selección Na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selección natural es el principal motor que mantiene el funcionamiento de los mecanismos de la evolu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actores ambientale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recuencia del éxito reproductiv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ap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erencia de los caracteres adaptativ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genotipos y fenoti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aptación; principio de la especi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2982960" cy="41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4936320" y="3789000"/>
            <a:ext cx="30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iluropoda melanoleuca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David, 1869) -- giant p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pervivencia del mas apt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70880" y="3499920"/>
            <a:ext cx="28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iraffa camelopardali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Linnaeus, 1758) -- giraf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4679640" cy="398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homo sapien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771640" y="1268280"/>
            <a:ext cx="3273480" cy="5253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orig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énesis: “En un comienzo todo era oscuridad..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sión cosmogónica del origen del hombr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l origen de la vida sobre la tierra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dad media , edad moderna; Teoría de la Generación Espontán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glo XI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uis Pasteu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1822 - 1895) químico francés cuyos descubrimientos tuvieron enorme importancia en la microbiología. A él se debe la técnica conocida como pasteurización. Y el rechazo de 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teoría de la generación espontáne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64000" y="3933720"/>
            <a:ext cx="21780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151240" cy="6524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glo XX: Opar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leksandr Ivanovich Opari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 (1894 - 1980) fue un biólogo y bioquímico soviético que realizó avances con respecto al origen de la vida en la Tier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360" y="3068640"/>
            <a:ext cx="18799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os coacervad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arin; el entendimiento de las condiciones iniciales de la ti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coacervado es un agregado de moléculas mantenidas unidas por fuerzas electrostáticas. Esas moléculas son sintetizadas abiótic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2381040" cy="2143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2381400" cy="21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a Herencia de Opar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experimento d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xperimento de Miller y Ur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5616720" cy="4494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 rot="20208000">
            <a:off x="2124000" y="5876640"/>
            <a:ext cx="1295640" cy="360360"/>
          </a:xfrm>
          <a:prstGeom prst="rightArrow">
            <a:avLst>
              <a:gd name="adj1" fmla="val 50000"/>
              <a:gd name="adj2" fmla="val 898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589720"/>
            <a:ext cx="1439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inoác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47640" y="-892080"/>
            <a:ext cx="5832720" cy="7750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 rot="5400000">
            <a:off x="-1333440" y="2781360"/>
            <a:ext cx="4248000" cy="790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volució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volución; la herencia de Darw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harles Robert Darwi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1809-1882), biólogo británico. Sentó las bases de la moderna teoría de la evolución, al plantear el concepto de evolución de las especies a través de un lento proceso d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lección na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348000" y="3357720"/>
            <a:ext cx="1973160" cy="273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4T19:38:27Z</dcterms:created>
  <dc:creator>Diego Valencia</dc:creator>
  <dc:description/>
  <dc:language>en-US</dc:language>
  <cp:lastModifiedBy>Diego Valencia</cp:lastModifiedBy>
  <dcterms:modified xsi:type="dcterms:W3CDTF">2007-08-05T22:46:19Z</dcterms:modified>
  <cp:revision>6</cp:revision>
  <dc:subject/>
  <dc:title>Biología Forestal</dc:title>
</cp:coreProperties>
</file>