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F41F-3220-42BE-9203-0F8F5077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A07-CF44-44FB-A918-7325BFBD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25D-CA5A-41B9-8528-D481D5FF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D1C-1252-45C4-B453-1658C2D0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22A-669A-476E-851B-D72907DE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B79-43B2-4572-BCDC-251A1E0B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416-A75D-4C2E-AFC4-772B97CC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3B7-E2A7-452D-9261-CDC39972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589-F858-4E20-A3BD-26C5B1F3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D06-51D2-4CA1-A525-71C2F420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FEE-E83B-4146-914B-5841216B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49B-087B-4560-A500-78B3D61C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1C13-60C8-4E86-BDF1-1C9874F550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ología Fores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actico 1: Evolu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aptación a los factores ambient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lima influye en las especies y fuerzan la adaptación a esos factor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2738520" cy="374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334880" y="64904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tenodytes forsteri G. R. Gray, 1844 -- Emperor Pengu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evolución cooperativa y coevolución por mutu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ng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5362560" cy="3486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selección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lección natural es el principal motor que mantiene el funcionamiento de los mecanismos de la evol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ctores ambiental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recuencia del éxito reproduc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erencia de los caracteres adaptativ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genotipos y fenot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aptación; principio de la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982960" cy="41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936320" y="3789000"/>
            <a:ext cx="30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luropoda melanoleuc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vid, 1869) -- giant p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pervivencia del mas apt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70880" y="349992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iraffa camelopardali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innaeus, 1758) -- giraf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4679640" cy="398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homo sapien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273480" cy="525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orige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énesis: “En un comienzo todo era oscuridad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cosmogónica del origen del homb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origen de la vida sobre la tierr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dad media , edad moderna; Teoría de la Generación Espontá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lo X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uis Pasteu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822 - 1895) químico francés cuyos descubrimientos tuvieron enorme importancia en la microbiología. A él se debe la técnica conocida como pasteurización. Y el rechazo de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teoría de la generación espontán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217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151240" cy="65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glo XX: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eksandr Ivanovich Opar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 (1894 - 1980) fue un biólogo y bioquímico soviético que realizó avances con respecto al origen de la vida en la Tier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360" y="3068640"/>
            <a:ext cx="1879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os coacerva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arin; el entendimiento de las condiciones iniciales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coacervado es un agregado de moléculas mantenidas unidas por fuerzas electrostáticas. Esas moléculas son sintetizadas abió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2381040" cy="214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381400" cy="21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Herencia de Opar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xperiment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erimento de Miller y U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16720" cy="449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 rot="20208000">
            <a:off x="2124000" y="587664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589720"/>
            <a:ext cx="143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inoá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-892080"/>
            <a:ext cx="5832720" cy="77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5400000">
            <a:off x="-1333440" y="2781360"/>
            <a:ext cx="424800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voluc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; la herencia de Darw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arles Robert Darw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1809-1882), biólogo británico. Sentó las bases de la moderna teoría de la evolución, al plantear el concepto de evolución de las especies a través de un lento proceso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lección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48000" y="3357720"/>
            <a:ext cx="1973160" cy="27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9:38:27Z</dcterms:created>
  <dc:creator>Diego Valencia</dc:creator>
  <dc:description/>
  <dc:language>en-US</dc:language>
  <cp:lastModifiedBy>Diego Valencia</cp:lastModifiedBy>
  <dcterms:modified xsi:type="dcterms:W3CDTF">2007-08-05T22:46:19Z</dcterms:modified>
  <cp:revision>6</cp:revision>
  <dc:subject/>
  <dc:title>Biología Forestal</dc:title>
</cp:coreProperties>
</file>