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6B0-FF2F-4EE8-9267-DB96201A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3FC-7E80-4D2C-809D-7257811C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981-DB24-4CCC-945B-BB4CC100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7B1-D2E4-4FE1-9292-BA6FC12A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39C-B0B3-4EA6-AE69-384D66EB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114-1F21-4573-9077-D17B7BB1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2D7-2BDF-42D6-A33F-6442D819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2C4-43C7-418C-83FD-8DD12B91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796-D6B7-4B5D-8ED0-030B4A14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D26-6C00-47E1-9BEC-AB3E6777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452F-E999-4A03-B7C6-E0B21BDF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960-9B2C-46D5-9A34-44C20654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2EEE-1E6A-4018-9B4A-B63432B693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0360" y="285264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ONG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5229360"/>
            <a:ext cx="30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fesor: Matilde Ló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o: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avera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152360" cy="15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6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ciencias fores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átedra de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20640"/>
            <a:ext cx="45352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renden un gran grupo de hongos  (30.000 especies descrit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denominan “hongos con sac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ye 300 especies de levadur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4392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692280"/>
            <a:ext cx="482436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s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los hongos mas conocidos como champiñ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también géneros que se encuentran principalmente en su etapa anamór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por basidiosporas (esporas sexualesproducidas en grandes cantidades por los bacidiomicet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18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549360"/>
            <a:ext cx="655344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uter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dicionalmente se conocían como hongos imperfectos porque en ellos no se había podido encontrar la forma 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ualmente se ha podido determinar que la mayoría de ellos pertenece al grupo de los ascomicet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72360" y="3933720"/>
            <a:ext cx="172692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692360" y="2924280"/>
            <a:ext cx="32335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620640"/>
            <a:ext cx="698508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mportancia ecol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yen al equilibrio ecológico del plan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 degradar desechos y organismos muertos, se libera agua, carbono y compuestos minerales, y de esta forma estos elementos pueden recir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hongos son micorrizas ( del griego, hongos y raíces). El hongo micorrícico beneficia a la planta al descomponer materia orgánica del suelo. De esta forma pone a disposición agua y minerales como fósforo, mientras que las raíces aportan al hongo agua, azúcares, entre otras sustancias orgá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88000" y="4292640"/>
            <a:ext cx="31687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76280"/>
            <a:ext cx="7199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hongos tienen importancia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n bebidas y alimentos al ser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en medicamentos y otras sustancias químicas val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an enfermedades a las plantas y a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476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620640"/>
            <a:ext cx="8064720" cy="71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mas interesantes sobre los hong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l cul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pueden ser cultivados en sótanos, cobertizos, cocheras, etc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quiere compost, en este caso paja de trigo y estiercol de caballo, ovejas, cerd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sulfato de calcio al comp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eja el compost alrededor de tres semanas,éste debe elevar su temperatura entre los 49º y los 62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ompost se deja enfriar y se siembra con hongos o micel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 el micelio se está desarrollando , el compost tomará un color azul-g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be regarse liger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setas se recolectan mediante un movimiento rotativo de la 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620640"/>
            <a:ext cx="705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Diseño y evaluación de un contactor biológico rotatorio en el tratamiento de la celulosa que procesa los eflu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405240" cy="4435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249228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ocupan hongos para el tratamiento de la celul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tende mejorar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56000" y="2349360"/>
            <a:ext cx="446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4305240" cy="318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69228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asificació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156360" y="1916280"/>
            <a:ext cx="1440000" cy="100800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33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crip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197000"/>
            <a:ext cx="61196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rupo diverso con mas de 81.000 especies conoc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seres vivos exentos de clorofila, por ende no fotosintetiz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son eucario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des celulares compuestas de qui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heterótrof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moléculas orgánicas preformadas producidas por otros 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no ingieren alimentos, sino que secretan enzimas digestivas y después absorben el alimento predigerido a través de su pared celular y membrana plas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nutrimentos de materia orgánica muerta o de organismos de los cuales parasi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scomponedor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676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549360"/>
            <a:ext cx="6985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se desarrollan mejor en ambientes húme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e encuentran universalmente siempre que haya materia orgánica dispon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eden obtener agua de una atmósfera húmeda, así como del medio en el que viv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leran ambientes con PH de 2 a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Los hongos prosperan en un amplio intervalo de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744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765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corporal vege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00280"/>
            <a:ext cx="5616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semilla del hongo no tiene origen sexual y se denomina 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PO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 esporas envían filamentos exploratorios semejantes a raíces dentro del medio en que crecen y producen el fruto (el hongo en 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filamentos (hifas), crecen de las esporas en busca de nutr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ecuentemente los filamentos se fusionan en multitud creando una masa conocida como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ICELI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6360" y="907920"/>
            <a:ext cx="2808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836640"/>
            <a:ext cx="777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mayor parte de los hongos se reproducen por esporas microscópicas, que son transportadas por viento, agua o ani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pueden producir esporas de manera sexual o a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407664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69228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jemplos del reino fung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844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ilum              Tipos comunes             Rep. asexual                 Rep. Sexu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hytridiomycota        Allomyces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Zoosporas                                    Gametos flagelados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lgunos quitri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Zygomicota               Moho negro del pan                         Se forman esporas inmóviles      cigos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scomycota             levaduras, mohos, trufas                los conidios se estrangulan          Ascop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 los conidiófo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Basidiomycota        Setas, hongos, royas.                      Poco común                                   Basidio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uteromycota       Mohos                                               Conidios                                         No se observa fase 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765000"/>
            <a:ext cx="4103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tr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ongos acuáticos pequeños relativamente si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stituyen el grupo mas primitivo de hongos vivos en la actu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parásitos o descomponedores hallados principalmente en agua dulce, aunque algunas especies son terrestres o mar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macenan reservas de alimento en la forma de glucó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élulas móviles poseen un flagelo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sexual o asexu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80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549360"/>
            <a:ext cx="518472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g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ducen esporas llamadas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igospora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mayoría son descomponedores que viven en el suelo sobre materia animal o vegetal en descom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son parásitos , y otros micorríc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195640" y="3716280"/>
            <a:ext cx="49291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04:18:06Z</dcterms:created>
  <dc:creator>Familia Melo Urra</dc:creator>
  <dc:description/>
  <dc:language>en-US</dc:language>
  <cp:lastModifiedBy>Matilde Lopez</cp:lastModifiedBy>
  <dcterms:modified xsi:type="dcterms:W3CDTF">2007-08-20T14:17:16Z</dcterms:modified>
  <cp:revision>2</cp:revision>
  <dc:subject/>
  <dc:title>Diapositiva 1</dc:title>
</cp:coreProperties>
</file>