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97F-8E97-4D49-8B16-C7532E10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03D-0A82-4478-A49C-D97B160A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9FB-F339-409C-9AD8-6B6CC76C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26E-629D-4943-99B9-29443775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784-2890-48CA-A652-96AD669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4A5-42E2-4933-B34A-C16BB086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64F-C8BA-482E-9DCD-3B3047FD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9DF-E9A5-4123-B424-CC0DAEBA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799-87BF-403D-BCE3-6C7548E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CB7-BBB2-4220-AD97-248DE3A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E13-D26E-4191-BD62-7489D6D5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95D-26E8-4F00-AB23-1D8D014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B236-E0DF-4DB0-8E3B-45C339E72034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63204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 cat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771640" y="2349360"/>
            <a:ext cx="3671640" cy="3746160"/>
            <a:chOff x="2771640" y="2349360"/>
            <a:chExt cx="3671640" cy="37461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2771640" y="2349360"/>
              <a:ext cx="367164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1640" y="2349360"/>
              <a:ext cx="3636720" cy="374616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976040" y="1219320"/>
            <a:ext cx="54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eoría de biogeografía de i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(MacArthur &amp; Wilson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0480" y="304920"/>
            <a:ext cx="88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EFECTO TAMAÑO Y DISTANCIA SOB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RIQU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námica de las metapob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lonización y extinción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s en K, r, y magnitud de fluctuacione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reglo espacial de los par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gunos parches son hábitat, otro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 de parches varía en escala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e cada factor del há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militud (sincronía) en fluctuaciones ambientales entre parches de há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: dos subpop con riesgo de extinción de 10% c/u, en un horizonte de 100 años, en ambientes no correlacionados. La probabilidad de extinción de ambas juntas es 0,1 x 0,1 = 0,01 =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os ambientes estan correlacionados, entonces la probabilidad de extinción para ambas juntas es de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ncron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1: recibe meno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che 2: recibe mas llu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mbos reciben menos lluvia cada 4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rrelación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 función de la distancia entre poblaciones: a mayor distancia menor cor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  usando las tasas de crecimiento de cada subpoblación, considerando la distancia entr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tron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 de organismos entre pob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tasa de dispersión depende de características específicas, de las características de los parches, de la distancia entre poblaciones, de la abundancia y de los eventos ale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spersión distancia depend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1916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4869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2133720"/>
            <a:ext cx="4680000" cy="2735280"/>
          </a:xfrm>
          <a:custGeom>
            <a:avLst/>
            <a:gdLst/>
            <a:ahLst/>
            <a:rect l="l" t="t" r="r" b="b"/>
            <a:pathLst>
              <a:path w="2948" h="1723">
                <a:moveTo>
                  <a:pt x="0" y="0"/>
                </a:moveTo>
                <a:cubicBezTo>
                  <a:pt x="162" y="264"/>
                  <a:pt x="325" y="529"/>
                  <a:pt x="816" y="816"/>
                </a:cubicBezTo>
                <a:cubicBezTo>
                  <a:pt x="1307" y="1103"/>
                  <a:pt x="2593" y="1572"/>
                  <a:pt x="2948" y="17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486900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7000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9240" y="25653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4520" y="157644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áme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edia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anci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máx 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tros factores de disp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bundancia: rel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dad o estado 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ocasti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poblaciones estan alejadas entre sí, la P de extinción  local es independiente entr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ello la metapoblación podría tener un menor riesgo de exti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otra parte, las tasas de dispersión serán menores que entre poblaciones que esten cerc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tanto hay siempre un compromiso entre ambientes similares y altas tasas de disp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eptos pobla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4370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lonia: trans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5720" y="3048120"/>
            <a:ext cx="8380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352680"/>
            <a:ext cx="83808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03848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438280"/>
            <a:ext cx="83844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057400"/>
            <a:ext cx="685800" cy="5335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81560" y="1511280"/>
            <a:ext cx="4711680" cy="5118120"/>
          </a:xfrm>
          <a:custGeom>
            <a:avLst/>
            <a:gdLst/>
            <a:ahLst/>
            <a:rect l="l" t="t" r="r" b="b"/>
            <a:pathLst>
              <a:path w="2968" h="3224">
                <a:moveTo>
                  <a:pt x="72" y="824"/>
                </a:moveTo>
                <a:cubicBezTo>
                  <a:pt x="8" y="1240"/>
                  <a:pt x="0" y="2152"/>
                  <a:pt x="312" y="2504"/>
                </a:cubicBezTo>
                <a:cubicBezTo>
                  <a:pt x="624" y="2856"/>
                  <a:pt x="1536" y="3224"/>
                  <a:pt x="1944" y="2936"/>
                </a:cubicBezTo>
                <a:cubicBezTo>
                  <a:pt x="2352" y="2648"/>
                  <a:pt x="2968" y="1264"/>
                  <a:pt x="2760" y="776"/>
                </a:cubicBezTo>
                <a:cubicBezTo>
                  <a:pt x="2552" y="288"/>
                  <a:pt x="1144" y="0"/>
                  <a:pt x="696" y="8"/>
                </a:cubicBezTo>
                <a:cubicBezTo>
                  <a:pt x="248" y="16"/>
                  <a:pt x="136" y="408"/>
                  <a:pt x="72" y="82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6576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acción entre dispersión y correlación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92360" y="4941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1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659640" y="213372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3933720"/>
            <a:ext cx="4967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2097000"/>
            <a:ext cx="4235400" cy="2712960"/>
          </a:xfrm>
          <a:custGeom>
            <a:avLst/>
            <a:gdLst/>
            <a:ahLst/>
            <a:rect l="l" t="t" r="r" b="b"/>
            <a:pathLst>
              <a:path w="2668" h="1709">
                <a:moveTo>
                  <a:pt x="0" y="1338"/>
                </a:moveTo>
                <a:cubicBezTo>
                  <a:pt x="552" y="1425"/>
                  <a:pt x="1104" y="1512"/>
                  <a:pt x="1542" y="1293"/>
                </a:cubicBezTo>
                <a:cubicBezTo>
                  <a:pt x="1980" y="1074"/>
                  <a:pt x="2592" y="0"/>
                  <a:pt x="2630" y="23"/>
                </a:cubicBezTo>
                <a:cubicBezTo>
                  <a:pt x="2668" y="46"/>
                  <a:pt x="2207" y="1149"/>
                  <a:pt x="1769" y="1429"/>
                </a:cubicBezTo>
                <a:cubicBezTo>
                  <a:pt x="1331" y="1709"/>
                  <a:pt x="295" y="1656"/>
                  <a:pt x="0" y="17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133720"/>
            <a:ext cx="1582560" cy="2808000"/>
          </a:xfrm>
          <a:custGeom>
            <a:avLst/>
            <a:gdLst/>
            <a:ahLst/>
            <a:rect l="l" t="t" r="r" b="b"/>
            <a:pathLst>
              <a:path w="997" h="1769">
                <a:moveTo>
                  <a:pt x="0" y="1769"/>
                </a:moveTo>
                <a:cubicBezTo>
                  <a:pt x="143" y="1712"/>
                  <a:pt x="287" y="1655"/>
                  <a:pt x="453" y="1360"/>
                </a:cubicBezTo>
                <a:cubicBezTo>
                  <a:pt x="619" y="1065"/>
                  <a:pt x="906" y="227"/>
                  <a:pt x="99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32360" y="2133720"/>
            <a:ext cx="934920" cy="2808000"/>
          </a:xfrm>
          <a:custGeom>
            <a:avLst/>
            <a:gdLst/>
            <a:ahLst/>
            <a:rect l="l" t="t" r="r" b="b"/>
            <a:pathLst>
              <a:path w="589" h="1769">
                <a:moveTo>
                  <a:pt x="0" y="1769"/>
                </a:moveTo>
                <a:cubicBezTo>
                  <a:pt x="109" y="1644"/>
                  <a:pt x="219" y="1519"/>
                  <a:pt x="317" y="1224"/>
                </a:cubicBezTo>
                <a:cubicBezTo>
                  <a:pt x="415" y="929"/>
                  <a:pt x="544" y="204"/>
                  <a:pt x="58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7080" y="3665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 únic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6880" y="1052640"/>
            <a:ext cx="10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ti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8480" y="544500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lación de fluctuaciones ambie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892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26360" y="488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29640" y="4024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94360" y="4456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7280" y="4600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74360" y="431316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51080" y="236844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blaciones ch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 distintas t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disp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9440" y="4724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8200" y="215280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1640" y="3448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Lev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mp(1-p) –Ep do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/dt = tasa de cambio en la proporcion de parches ocupados (colon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= prob de migración exitosa desde un parche a o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 = prob de extinción de un p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 = parche ocup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equilibrio esta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* = 1 – E/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istencia (p &gt; 0) de la pob depende de que m &gt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parches llenos o vac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riesgo de extinción por p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igual chance de col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pone que la extinción de cada subpob es in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considera número de individ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lic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) Reintroducción y translo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é es mejor: reintroducir 100 en un parche o 50 en cada uno de dos parches con igual superfic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) Diseño de reservas:  SLOSS: single large or several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) fragmentación: efecto de b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064360" cy="53895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685800" y="304920"/>
            <a:ext cx="8126280" cy="6324480"/>
            <a:chOff x="685800" y="304920"/>
            <a:chExt cx="8126280" cy="632448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4087800" cy="288792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1143000" y="3200400"/>
              <a:ext cx="2495520" cy="34290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6" name="" descr=""/>
            <p:cNvPicPr/>
            <p:nvPr/>
          </p:nvPicPr>
          <p:blipFill>
            <a:blip r:embed="rId3"/>
            <a:stretch/>
          </p:blipFill>
          <p:spPr>
            <a:xfrm>
              <a:off x="685800" y="304920"/>
              <a:ext cx="3352680" cy="251280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876920" y="304920"/>
              <a:ext cx="3887640" cy="2914560"/>
            </a:xfrm>
            <a:prstGeom prst="rect">
              <a:avLst/>
            </a:prstGeom>
            <a:ln w="38160">
              <a:solidFill>
                <a:srgbClr val="cc3300"/>
              </a:solidFill>
              <a:miter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839880"/>
            <a:ext cx="7772400" cy="58132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685080" y="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RIABLES DE FRAGM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80880" y="228600"/>
            <a:ext cx="8305200" cy="6395760"/>
            <a:chOff x="380880" y="228600"/>
            <a:chExt cx="8305200" cy="6395760"/>
          </a:xfrm>
        </p:grpSpPr>
        <p:grpSp>
          <p:nvGrpSpPr>
            <p:cNvPr id="251" name=""/>
            <p:cNvGrpSpPr/>
            <p:nvPr/>
          </p:nvGrpSpPr>
          <p:grpSpPr>
            <a:xfrm>
              <a:off x="380880" y="1302120"/>
              <a:ext cx="8305200" cy="5322240"/>
              <a:chOff x="380880" y="1302120"/>
              <a:chExt cx="8305200" cy="532224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302120"/>
                <a:ext cx="8305200" cy="4742280"/>
              </a:xfrm>
              <a:prstGeom prst="rect">
                <a:avLst/>
              </a:prstGeom>
              <a:ln w="38160">
                <a:solidFill>
                  <a:srgbClr val="cc3300"/>
                </a:solidFill>
                <a:miter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634560" y="6256080"/>
                <a:ext cx="161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800" spc="-1" strike="noStrike">
                    <a:solidFill>
                      <a:srgbClr val="000000"/>
                    </a:solidFill>
                    <a:latin typeface="Times New Roman"/>
                  </a:rPr>
                  <a:t>Primack (1993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314720" y="228600"/>
              <a:ext cx="564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200" spc="-1" strike="noStrike">
                  <a:solidFill>
                    <a:srgbClr val="000000"/>
                  </a:solidFill>
                  <a:latin typeface="Times New Roman"/>
                </a:rPr>
                <a:t>Efecto borde depende del </a:t>
              </a:r>
              <a:r>
                <a:rPr b="0" sz="3200" spc="-1" strike="noStrike">
                  <a:solidFill>
                    <a:srgbClr val="cc3300"/>
                  </a:solidFill>
                  <a:latin typeface="Times New Roman"/>
                </a:rPr>
                <a:t>tamañ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276720" y="1828800"/>
            <a:ext cx="2819160" cy="4343400"/>
            <a:chOff x="3276720" y="1828800"/>
            <a:chExt cx="2819160" cy="4343400"/>
          </a:xfrm>
        </p:grpSpPr>
        <p:sp>
          <p:nvSpPr>
            <p:cNvPr id="55" name=""/>
            <p:cNvSpPr/>
            <p:nvPr/>
          </p:nvSpPr>
          <p:spPr>
            <a:xfrm>
              <a:off x="3276720" y="1828800"/>
              <a:ext cx="2819160" cy="43434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352680" y="1905120"/>
              <a:ext cx="2713320" cy="4190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</p:grpSp>
      <p:sp>
        <p:nvSpPr>
          <p:cNvPr id="57" name=""/>
          <p:cNvSpPr/>
          <p:nvPr/>
        </p:nvSpPr>
        <p:spPr>
          <a:xfrm>
            <a:off x="3053160" y="68580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cc00"/>
                </a:solidFill>
                <a:latin typeface="Times New Roman"/>
              </a:rPr>
              <a:t>META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tapob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s subpoblaciones que se conectan por procesos de mig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subpoblaciones en lugares fuente y otras en lugares de resumid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72428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895480"/>
            <a:ext cx="838080" cy="990720"/>
          </a:xfrm>
          <a:custGeom>
            <a:avLst/>
            <a:gdLst>
              <a:gd name="textAreaLeft" fmla="*/ 0 w 838080"/>
              <a:gd name="textAreaRight" fmla="*/ 838440 w 838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arcTo wR="0" hR="0" stAng="16200000" swAng="-5400000"/>
                <a:lnTo>
                  <a:pt x="0" y="25532"/>
                </a:lnTo>
                <a:arcTo wR="0" hR="0" stAng="10800000" swAng="-5400000"/>
                <a:lnTo>
                  <a:pt x="21600" y="2553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1523880"/>
            <a:ext cx="1295280" cy="83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5181480"/>
            <a:ext cx="457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5486400"/>
            <a:ext cx="2057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327672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2670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2895480"/>
            <a:ext cx="4572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2578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7" idx="5"/>
            <a:endCxn id="65" idx="7"/>
          </p:cNvCxnSpPr>
          <p:nvPr/>
        </p:nvCxnSpPr>
        <p:spPr>
          <a:xfrm>
            <a:off x="6867360" y="4983120"/>
            <a:ext cx="223200" cy="6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7" idx="7"/>
          </p:cNvCxnSpPr>
          <p:nvPr/>
        </p:nvCxnSpPr>
        <p:spPr>
          <a:xfrm flipH="1">
            <a:off x="6866640" y="3733560"/>
            <a:ext cx="14364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7315200" y="3429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886200"/>
            <a:ext cx="75960" cy="762120"/>
          </a:xfrm>
          <a:prstGeom prst="upDownArrow">
            <a:avLst>
              <a:gd name="adj1" fmla="val 50000"/>
              <a:gd name="adj2" fmla="val 1997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8" idx="0"/>
            <a:endCxn id="60" idx="3"/>
          </p:cNvCxnSpPr>
          <p:nvPr/>
        </p:nvCxnSpPr>
        <p:spPr>
          <a:xfrm flipV="1" rot="16200000">
            <a:off x="6476400" y="2361240"/>
            <a:ext cx="6102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5" name=""/>
          <p:cNvCxnSpPr>
            <a:stCxn id="68" idx="5"/>
            <a:endCxn id="64" idx="0"/>
          </p:cNvCxnSpPr>
          <p:nvPr/>
        </p:nvCxnSpPr>
        <p:spPr>
          <a:xfrm flipH="1" rot="16200000">
            <a:off x="6876720" y="3905640"/>
            <a:ext cx="1570680" cy="981720"/>
          </a:xfrm>
          <a:prstGeom prst="bentConnector3">
            <a:avLst>
              <a:gd name="adj1" fmla="val 53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7"/>
            <a:endCxn id="63" idx="2"/>
          </p:cNvCxnSpPr>
          <p:nvPr/>
        </p:nvCxnSpPr>
        <p:spPr>
          <a:xfrm flipV="1">
            <a:off x="7171920" y="2361600"/>
            <a:ext cx="639000" cy="65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rigen de las metapob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 de la heterogeneidad espa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s de acciones hu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eterogeneidad espa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medioambientales están en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ntos ambientales se dan con diferentes inten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dinámica de extinciones y colonizaciones de p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érdida de hábi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y dis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2349360"/>
            <a:ext cx="2087640" cy="20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2133720"/>
            <a:ext cx="2519640" cy="25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4653000"/>
            <a:ext cx="792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197000"/>
            <a:ext cx="2087280" cy="20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4149720"/>
            <a:ext cx="187020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155736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4920" y="48164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7640" y="33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53640" y="604044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0,5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34000" y="10000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fecto de borde = 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34120" y="380880"/>
            <a:ext cx="2450520" cy="2057040"/>
            <a:chOff x="5334120" y="380880"/>
            <a:chExt cx="2450520" cy="2057040"/>
          </a:xfrm>
        </p:grpSpPr>
        <p:sp>
          <p:nvSpPr>
            <p:cNvPr id="92" name=""/>
            <p:cNvSpPr/>
            <p:nvPr/>
          </p:nvSpPr>
          <p:spPr>
            <a:xfrm>
              <a:off x="5651280" y="631080"/>
              <a:ext cx="1510920" cy="109440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40200" y="1801080"/>
              <a:ext cx="1900080" cy="40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9280" y="1827720"/>
              <a:ext cx="2025360" cy="61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amaño del par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465120"/>
              <a:ext cx="276120" cy="27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57160" y="49176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1280" y="380880"/>
              <a:ext cx="36360" cy="1334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51280" y="1719720"/>
              <a:ext cx="1758600" cy="3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403280" y="404640"/>
            <a:ext cx="2170080" cy="1807200"/>
            <a:chOff x="1403280" y="404640"/>
            <a:chExt cx="2170080" cy="1807200"/>
          </a:xfrm>
        </p:grpSpPr>
        <p:sp>
          <p:nvSpPr>
            <p:cNvPr id="100" name=""/>
            <p:cNvSpPr/>
            <p:nvPr/>
          </p:nvSpPr>
          <p:spPr>
            <a:xfrm>
              <a:off x="1795320" y="404640"/>
              <a:ext cx="36720" cy="135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4400" y="1741320"/>
              <a:ext cx="17589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79720" y="1900080"/>
              <a:ext cx="95724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1480" y="1906560"/>
              <a:ext cx="9777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3280" y="409320"/>
              <a:ext cx="4161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29560" y="4363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87400" y="687240"/>
              <a:ext cx="1511280" cy="1111320"/>
            </a:xfrm>
            <a:custGeom>
              <a:avLst/>
              <a:gdLst/>
              <a:ahLst/>
              <a:rect l="l" t="t" r="r" b="b"/>
              <a:pathLst>
                <a:path w="952" h="700">
                  <a:moveTo>
                    <a:pt x="14" y="0"/>
                  </a:moveTo>
                  <a:lnTo>
                    <a:pt x="0" y="17"/>
                  </a:lnTo>
                  <a:lnTo>
                    <a:pt x="938" y="700"/>
                  </a:lnTo>
                  <a:lnTo>
                    <a:pt x="952" y="68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852640"/>
            <a:ext cx="5749920" cy="3255840"/>
            <a:chOff x="1619280" y="2852640"/>
            <a:chExt cx="5749920" cy="3255840"/>
          </a:xfrm>
        </p:grpSpPr>
        <p:sp>
          <p:nvSpPr>
            <p:cNvPr id="108" name=""/>
            <p:cNvSpPr/>
            <p:nvPr/>
          </p:nvSpPr>
          <p:spPr>
            <a:xfrm>
              <a:off x="1619280" y="3376440"/>
              <a:ext cx="5686560" cy="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852640"/>
              <a:ext cx="3636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4920" y="2852640"/>
              <a:ext cx="36720" cy="3251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19280" y="4595760"/>
              <a:ext cx="568656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4680" y="3801960"/>
              <a:ext cx="14004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4680" y="3801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14680" y="4071960"/>
              <a:ext cx="14004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4680" y="407196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43240" y="4884480"/>
              <a:ext cx="38916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84680" y="4884480"/>
              <a:ext cx="388800" cy="3891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3240" y="5427360"/>
              <a:ext cx="38916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84680" y="5427360"/>
              <a:ext cx="388800" cy="387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51680" y="4727520"/>
              <a:ext cx="4111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36000" y="4727520"/>
              <a:ext cx="409320" cy="41436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3640" y="5697360"/>
              <a:ext cx="4114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57960" y="5697360"/>
              <a:ext cx="40968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44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44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7960" y="3665520"/>
              <a:ext cx="139680" cy="14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7960" y="434340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627720" y="3033720"/>
              <a:ext cx="269640" cy="136440"/>
              <a:chOff x="3627720" y="3033720"/>
              <a:chExt cx="269640" cy="136440"/>
            </a:xfrm>
          </p:grpSpPr>
          <p:sp>
            <p:nvSpPr>
              <p:cNvPr id="129" name=""/>
              <p:cNvSpPr/>
              <p:nvPr/>
            </p:nvSpPr>
            <p:spPr>
              <a:xfrm>
                <a:off x="3748320" y="3084480"/>
                <a:ext cx="28440" cy="34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277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67400" y="303840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0" y="83"/>
                    </a:moveTo>
                    <a:lnTo>
                      <a:pt x="82" y="43"/>
                    </a:lnTo>
                    <a:lnTo>
                      <a:pt x="0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523120" y="3033720"/>
              <a:ext cx="1082520" cy="139680"/>
              <a:chOff x="5523120" y="3033720"/>
              <a:chExt cx="1082520" cy="139680"/>
            </a:xfrm>
          </p:grpSpPr>
          <p:sp>
            <p:nvSpPr>
              <p:cNvPr id="133" name=""/>
              <p:cNvSpPr/>
              <p:nvPr/>
            </p:nvSpPr>
            <p:spPr>
              <a:xfrm>
                <a:off x="5645160" y="3084480"/>
                <a:ext cx="838440" cy="39600"/>
              </a:xfrm>
              <a:custGeom>
                <a:avLst/>
                <a:gdLst/>
                <a:ahLst/>
                <a:rect l="l" t="t" r="r" b="b"/>
                <a:pathLst>
                  <a:path w="528" h="25">
                    <a:moveTo>
                      <a:pt x="0" y="0"/>
                    </a:moveTo>
                    <a:lnTo>
                      <a:pt x="0" y="22"/>
                    </a:lnTo>
                    <a:lnTo>
                      <a:pt x="528" y="25"/>
                    </a:lnTo>
                    <a:lnTo>
                      <a:pt x="528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23120" y="3033720"/>
                <a:ext cx="129960" cy="131760"/>
              </a:xfrm>
              <a:custGeom>
                <a:avLst/>
                <a:gdLst/>
                <a:ahLst/>
                <a:rect l="l" t="t" r="r" b="b"/>
                <a:pathLst>
                  <a:path w="82" h="83">
                    <a:moveTo>
                      <a:pt x="82" y="0"/>
                    </a:moveTo>
                    <a:lnTo>
                      <a:pt x="0" y="43"/>
                    </a:lnTo>
                    <a:lnTo>
                      <a:pt x="82" y="83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475680" y="3043080"/>
                <a:ext cx="12996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160720" y="3936960"/>
              <a:ext cx="139680" cy="13968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1960" y="5133960"/>
              <a:ext cx="411120" cy="411120"/>
            </a:xfrm>
            <a:prstGeom prst="rect">
              <a:avLst/>
            </a:prstGeom>
            <a:noFill/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4440" y="4989240"/>
              <a:ext cx="28080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03160" y="499572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4440" y="5413320"/>
              <a:ext cx="28080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216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79480" y="54529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99120" y="3657600"/>
              <a:ext cx="276120" cy="27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22160" y="368460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02160" y="3657600"/>
              <a:ext cx="131760" cy="210960"/>
              <a:chOff x="4502160" y="3657600"/>
              <a:chExt cx="131760" cy="210960"/>
            </a:xfrm>
          </p:grpSpPr>
          <p:sp>
            <p:nvSpPr>
              <p:cNvPr id="146" name=""/>
              <p:cNvSpPr/>
              <p:nvPr/>
            </p:nvSpPr>
            <p:spPr>
              <a:xfrm>
                <a:off x="4548240" y="365760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02160" y="365760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299120" y="4081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2160" y="4108320"/>
              <a:ext cx="17136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502160" y="4081320"/>
              <a:ext cx="131760" cy="217440"/>
              <a:chOff x="4502160" y="4081320"/>
              <a:chExt cx="131760" cy="217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548240" y="4081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02160" y="40813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83" y="83"/>
                    </a:moveTo>
                    <a:lnTo>
                      <a:pt x="40" y="0"/>
                    </a:lnTo>
                    <a:lnTo>
                      <a:pt x="0" y="83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007400" y="498924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30440" y="5016240"/>
              <a:ext cx="212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7205760" y="4989240"/>
              <a:ext cx="131760" cy="211320"/>
              <a:chOff x="7205760" y="4989240"/>
              <a:chExt cx="131760" cy="211320"/>
            </a:xfrm>
          </p:grpSpPr>
          <p:sp>
            <p:nvSpPr>
              <p:cNvPr id="156" name=""/>
              <p:cNvSpPr/>
              <p:nvPr/>
            </p:nvSpPr>
            <p:spPr>
              <a:xfrm>
                <a:off x="7256520" y="4989240"/>
                <a:ext cx="34920" cy="211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05760" y="507024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007400" y="5413320"/>
              <a:ext cx="276120" cy="27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30440" y="544032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8040" y="54403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05760" y="5413320"/>
              <a:ext cx="131760" cy="217440"/>
              <a:chOff x="7205760" y="5413320"/>
              <a:chExt cx="131760" cy="217440"/>
            </a:xfrm>
          </p:grpSpPr>
          <p:sp>
            <p:nvSpPr>
              <p:cNvPr id="162" name=""/>
              <p:cNvSpPr/>
              <p:nvPr/>
            </p:nvSpPr>
            <p:spPr>
              <a:xfrm>
                <a:off x="7256520" y="541332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5760" y="549900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34400" y="3665520"/>
              <a:ext cx="276120" cy="276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7440" y="3692520"/>
              <a:ext cx="21240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232760" y="3665520"/>
              <a:ext cx="131760" cy="212760"/>
              <a:chOff x="7232760" y="3665520"/>
              <a:chExt cx="131760" cy="212760"/>
            </a:xfrm>
          </p:grpSpPr>
          <p:sp>
            <p:nvSpPr>
              <p:cNvPr id="167" name=""/>
              <p:cNvSpPr/>
              <p:nvPr/>
            </p:nvSpPr>
            <p:spPr>
              <a:xfrm>
                <a:off x="7283520" y="3665520"/>
                <a:ext cx="34920" cy="212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32760" y="3747960"/>
                <a:ext cx="131760" cy="13032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0" y="0"/>
                    </a:moveTo>
                    <a:lnTo>
                      <a:pt x="43" y="82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034400" y="4095720"/>
              <a:ext cx="27612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57440" y="4125600"/>
              <a:ext cx="58680" cy="27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6480" y="4122720"/>
              <a:ext cx="11340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37440" y="4095720"/>
              <a:ext cx="131760" cy="210960"/>
              <a:chOff x="7237440" y="4095720"/>
              <a:chExt cx="131760" cy="210960"/>
            </a:xfrm>
          </p:grpSpPr>
          <p:sp>
            <p:nvSpPr>
              <p:cNvPr id="173" name=""/>
              <p:cNvSpPr/>
              <p:nvPr/>
            </p:nvSpPr>
            <p:spPr>
              <a:xfrm>
                <a:off x="7283520" y="409572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7440" y="409572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246560" y="5072040"/>
              <a:ext cx="131760" cy="210960"/>
              <a:chOff x="4246560" y="5072040"/>
              <a:chExt cx="131760" cy="210960"/>
            </a:xfrm>
          </p:grpSpPr>
          <p:sp>
            <p:nvSpPr>
              <p:cNvPr id="176" name=""/>
              <p:cNvSpPr/>
              <p:nvPr/>
            </p:nvSpPr>
            <p:spPr>
              <a:xfrm>
                <a:off x="4292640" y="5072040"/>
                <a:ext cx="34920" cy="210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46560" y="5072040"/>
                <a:ext cx="131760" cy="129960"/>
              </a:xfrm>
              <a:custGeom>
                <a:avLst/>
                <a:gdLst/>
                <a:ahLst/>
                <a:rect l="l" t="t" r="r" b="b"/>
                <a:pathLst>
                  <a:path w="83" h="82">
                    <a:moveTo>
                      <a:pt x="83" y="82"/>
                    </a:moveTo>
                    <a:lnTo>
                      <a:pt x="40" y="0"/>
                    </a:lnTo>
                    <a:lnTo>
                      <a:pt x="0" y="82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22880" y="5529240"/>
              <a:ext cx="131760" cy="217440"/>
              <a:chOff x="4322880" y="5529240"/>
              <a:chExt cx="131760" cy="217440"/>
            </a:xfrm>
          </p:grpSpPr>
          <p:sp>
            <p:nvSpPr>
              <p:cNvPr id="179" name=""/>
              <p:cNvSpPr/>
              <p:nvPr/>
            </p:nvSpPr>
            <p:spPr>
              <a:xfrm>
                <a:off x="4373640" y="5529240"/>
                <a:ext cx="34920" cy="217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22880" y="561492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0" y="0"/>
                    </a:moveTo>
                    <a:lnTo>
                      <a:pt x="43" y="83"/>
                    </a:lnTo>
                    <a:lnTo>
                      <a:pt x="83" y="0"/>
                    </a:lnTo>
                  </a:path>
                </a:pathLst>
              </a:custGeom>
              <a:noFill/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547640" y="1295280"/>
            <a:ext cx="5614920" cy="5229000"/>
            <a:chOff x="1547640" y="1295280"/>
            <a:chExt cx="5614920" cy="5229000"/>
          </a:xfrm>
        </p:grpSpPr>
        <p:sp>
          <p:nvSpPr>
            <p:cNvPr id="182" name=""/>
            <p:cNvSpPr/>
            <p:nvPr/>
          </p:nvSpPr>
          <p:spPr>
            <a:xfrm>
              <a:off x="1547640" y="1295280"/>
              <a:ext cx="5614920" cy="5229000"/>
            </a:xfrm>
            <a:prstGeom prst="rect">
              <a:avLst/>
            </a:prstGeom>
            <a:noFill/>
            <a:ln w="507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628640" y="1374480"/>
              <a:ext cx="5452560" cy="50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623160" y="2286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TRAS VARIABLES QUE AFECTAN LAEXTIN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OLONIZACIÓN EN META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3:19:42Z</dcterms:created>
  <dc:creator>pedro cattan</dc:creator>
  <dc:description/>
  <dc:language>en-US</dc:language>
  <cp:lastModifiedBy>Plagas</cp:lastModifiedBy>
  <dcterms:modified xsi:type="dcterms:W3CDTF">2007-10-16T08:53:48Z</dcterms:modified>
  <cp:revision>14</cp:revision>
  <dc:subject/>
  <dc:title>metapoblaciones</dc:title>
</cp:coreProperties>
</file>