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B2D4-F210-4EEA-A285-5E0D408A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2762-5A75-4BBB-9B93-6A731D4D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3D46-FD76-43CF-80FA-47BB62A9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DB01-FCBE-4F2D-81EA-045C1F7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E4F-B6BC-4E38-A08B-DC7DA51E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C67-3D81-4946-BCC2-259DD89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D47-F1E5-47A0-B6E3-D80016E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9E94-8E6A-4C84-89B5-A98BE37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DC5E-7690-4F6F-B319-272D589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E2CD-A4B4-4E0F-A52B-52FED03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8F45-9BE8-4E75-8394-686E104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2D72-65B6-4E08-89BD-10A2861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8A0-0FB4-4498-87F0-5FD6D39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97F-3938-4805-9B0E-78F9035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DF53-3C5E-49A0-8A02-799ED46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211-7569-40C8-8956-F8CFBC7F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DF65-E7C5-43F5-9A50-71C70F4B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7CC1-ED31-4349-B989-1A9D2028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610E-34E6-43E0-8382-27E6D57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D148-9F4F-496F-B672-506DA8C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5FAB-DCA2-4469-8F28-88745D08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0D72-D67E-449A-9091-0BA4AC0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0C94-1912-4B42-BD30-C3088B1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0636-9568-4731-87D1-BF22BBE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2F2-BD81-4E3B-9348-ABCC195F98C5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9882-B5E2-4523-8353-698EAB017E50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Manejando recursos natural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SCN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Y…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que pesar la chance de ganar 960 mil contra perder 50 m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eamos desde otra perspectiv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.000 * 1.4 = 7000 y 5.000 * 0.7 = 3.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omedio es 5.250, esto es un aumento promedio de 5% año y por tant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000 * 1.05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Arial"/>
              </a:rPr>
              <a:t>50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= 573.000 pal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o es una ganancia de US$ 573.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l problema de la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 importante conocer la distribución de frecuencias de la variable en estudio: en este caso el tamaño pobl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este caso donde f depende de la calidad del clima, la distribución corresponde a una log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la forma de esta distribución, las estimaciones de números únicos (media, mediana, percentiles)  dan resultados aparentemente contradic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La distribuc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izar la distribución del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cular los riesgos y beneficios de la o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r tablas o curvas acumulativas de la manera de las curvas de ries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116000" y="662040"/>
            <a:ext cx="6912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atos que coincid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015 palmas en promedio = mediana y media geométrica de la d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ngo de certeza” entre 54 y 168000 tallos es el tramo entre percentiles 5 y 9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 esta dentro del r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32000" y="1003320"/>
            <a:ext cx="6480000" cy="4854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411280" y="220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1640" y="2205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716360" y="148392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410920" y="148428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411280" y="1844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356000" y="1844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os dat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a chance de 60% de perde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5% de p de al menos mantener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0% de dobla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mas de un 5% de aumentar 10 v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ecis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60% de chance de perder la pl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20% de ganar una buena s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as considera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delos simples vs comple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la importancia de la cantidad de semillas era fundamental, es importante conocer entonces la estructura etaria de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la necesidad de espacio por individu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el tipo de compe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.- Definir las reglas de decisión sobre cuándo extraer el producto. En este caso era al final de los 5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Qué pasa si la población alcanza alto valor a los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Variabilidad e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afectan a las decisiones de manejo de recursos que se explot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.- Definir montos y tiempos de extr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 de gol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porción cada 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.- Definir el manejo del recurso que mejore su produc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r el habit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mentar el stock de semi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Incerteza y sustentabilida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pers de Ludwig, Hillborn, Holling y otros en Ecological Applications 1993 (vol 3 nº4: 547-58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erteza incluy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ocasticidad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o económico y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502080" cy="2989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535200" cy="30906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358880" y="119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so Andino (Tremarctos ornatu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71640" y="16527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experiencia en investigación y conservación alrededor del mu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ha enseñado a WCS que una de las mayores dificultades para diseñ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líticas y acciones efectivas para la conservación de la vida silvest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 la falta de información ecológica, poblacional y genética confi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rticularmente es poca la información acerca de los patrone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ovimientos, uso de recursos, densidades poblacionales, vari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genética dentro y entre poblaciones, y el grado de aislamiento pobl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468360" y="1916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os conflictos oso andino–ganado probablemente se iniciaron desde la introducción de ganado en las áreas de páramo en los Andes del Norte. En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ctualidad, a medida que el uso antrópico de los paramos sufre cambios y las poblaciones de oso andino se incrementan dentro de las áreas protegidas, el potencial para conflictos entre los osos andinos y las actividades antrópicas se incremen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resultado final es una disminución de la tolerancia por parte de la gente a la presencia de oso andino y con ello el incremento de la cacería ilegal, convirtiendo a los paramos en trampas mortales para las poblaciones de 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179280" y="763560"/>
          <a:ext cx="8964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3560"/>
                    <a:ext cx="8964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0" y="654120"/>
          <a:ext cx="8964720" cy="54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4120"/>
                    <a:ext cx="896472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959040" y="1484280"/>
            <a:ext cx="75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gamos la compra de 100 ha de bosque natural en 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una zona declarada de reserva extractiva.. Esto implica ha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manejo extractivo suste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on inicial =  50.000 do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iodo explot   =  5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           =  tallos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10 dolares/ta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lma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   5000 ejemp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lim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millas            =   muchas en clima húmedo, pocas en se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Vale la pena la invers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buenos, R = 1,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malos, R = 0,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esa variación, se espera a los 50 años, un máximo de producción de 168.162 tallos en el percentil 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68.162 x US$10 = un millon y medio de dolares (P = 1 en 20 de ganar esa plata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la expectativa med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R =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√ 1.4 * 0.7 = 0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es un pérdida del 1% anual de pal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i hay 25 años buenos y 25 malos la tasa de cambio será 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= 0.6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5000 * 0.603 = 3.015 =&gt; US$ 3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n 50 años se perderá US$ 2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ero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y un 50% de prob. de caer bajo o sobre los 30.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pongamos entonces 30 años buenos contra 30 malos y veamos la difer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19.31 * 5000 =96.550 palmas =&gt; gano US$ 965.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0.0188 * 5000 = 94 palmas =&gt; US$940 =&gt; pierdo 49.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49:42Z</dcterms:created>
  <dc:creator>pedro cattan</dc:creator>
  <dc:description/>
  <dc:language>en-US</dc:language>
  <cp:lastModifiedBy>pedro cattan</cp:lastModifiedBy>
  <dcterms:modified xsi:type="dcterms:W3CDTF">2007-11-12T05:05:33Z</dcterms:modified>
  <cp:revision>21</cp:revision>
  <dc:subject/>
  <dc:title>Manejando recursos naturales</dc:title>
</cp:coreProperties>
</file>