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AD8D-BB24-449A-8576-A1AE1B83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A7EC-1B61-4FB4-AC8A-8212C4BE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8A3D-FA42-4F7E-907A-2E2F5783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92F7-F0F1-4897-BB6B-280136BA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94FE-9D78-43BF-A5E4-503F15AF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408A-BC8F-4D40-8479-EFD9B247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E7D6-67BF-4F1B-965E-F37EA72E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D9DB-EAFE-4671-AD7F-638D6562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48EC-6383-4229-9533-53AE46EF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C49A-1511-4C5F-B957-28C55147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78EB-BB9B-46AD-B15C-EE726C8B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408B-B5CA-423F-8E2C-84BBA22F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23FF-7D57-4093-A1E5-EED51705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BF4C-DFC0-4690-8F7E-0859FDD0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D00E-826B-4AEC-8B9D-A06118F4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5E6E-C145-4B0B-B844-95332650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28EE-81EE-4842-804C-69364139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236C-2F0F-44DB-B3E0-CA405EFD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6C36-8B30-4268-B33D-9E12580D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5615-0B50-4D6F-8491-2035303A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93AB-DF67-4419-A5D9-A1F1E688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058F-BD44-4CA2-B0EE-0BCE008E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6E25-B69D-42A9-9ED8-42D54708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BA1B-C666-45B8-A3E1-BF0A85AF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325D-171E-44FA-80F1-CDEAE02D353D}" type="slidenum"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931E-BC6A-4966-A569-D826568F3939}" type="slidenum"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dfdef6"/>
                </a:solidFill>
                <a:latin typeface="Arial"/>
              </a:rPr>
              <a:t>Manejando recursos natural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SCN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Y…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y que pesar la chance de ganar 960 mil contra perder 50 mil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eamos desde otra perspectiv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5.000 * 1.4 = 7000 y 5.000 * 0.7 = 3.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omedio es 5.250, esto es un aumento promedio de 5% año y por tant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5000 * 1.05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Arial"/>
              </a:rPr>
              <a:t>50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= 573.000 pal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o es una ganancia de US$ 573.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El problema de la Incertez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 importante conocer la distribución de frecuencias de la variable en estudio: en este caso el tamaño pobl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este caso donde f depende de la calidad del clima, la distribución corresponde a una lognor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ada la forma de esta distribución, las estimaciones de números únicos (media, mediana, percentiles)  dan resultados aparentemente contradicto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La distribuc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izar la distribución del fenóm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lcular los riesgos y beneficios de la ope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rear tablas o curvas acumulativas de la manera de las curvas de ries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116000" y="662040"/>
            <a:ext cx="691200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Datos que coincid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3015 palmas en promedio = mediana y media geométrica de la d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ango de certeza” entre 54 y 168000 tallos es el tramo entre percentiles 5 y 9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dia esta dentro del ran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332000" y="1003320"/>
            <a:ext cx="6480000" cy="48546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2411280" y="220500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1640" y="2205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716360" y="1483920"/>
            <a:ext cx="0" cy="20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410920" y="1484280"/>
            <a:ext cx="23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411280" y="1844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356000" y="184464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Otros dat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y una chance de 60% de perder la inver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y un 25% de p de al menos mantener la pob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y un 20% de doblar la inver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y mas de un 5% de aumentar 10 v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Decisión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me quedo con el 60% de chance de perder la pla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me quedo con el 20% de ganar una buena sum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Otras consideracion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odelos simples vs comple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la importancia de la cantidad de semillas era fundamental, es importante conocer entonces la estructura etaria de la pob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mportante conocer la necesidad de espacio por individu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mportante conocer el tipo de compet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Estrategias de manej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1.- Definir las reglas de decisión sobre cuándo extraer el producto. En este caso era al final de los 50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Qué pasa si la población alcanza alto valor a los 20 añ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Variabilidad e incertez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afectan a las decisiones de manejo de recursos que se explot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Estrategias de manej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2.- Definir montos y tiempos de extra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odo de gol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porción cada a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3.- Definir el manejo del recurso que mejore su productiv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jorar el habit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umentar el stock de semi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Incerteza y sustentabilida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apers de Ludwig, Hillborn, Holling y otros en Ecological Applications 1993 (vol 3 nº4: 547-58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certeza incluy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ocasticidad ambi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mbio económico y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502080" cy="29890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4427640" y="2637000"/>
            <a:ext cx="3535200" cy="30906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4358880" y="119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so Andino (Tremarctos ornatus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971640" y="165276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a experiencia en investigación y conservación alrededor del mun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ha enseñado a WCS que una de las mayores dificultades para diseñ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líticas y acciones efectivas para la conservación de la vida silvest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s la falta de información ecológica, poblacional y genética confiab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rticularmente es poca la información acerca de los patrone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ovimientos, uso de recursos, densidades poblacionales, vari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genética dentro y entre poblaciones, y el grado de aislamiento poblaci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468360" y="191628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os conflictos oso andino–ganado probablemente se iniciaron desde la introducción de ganado en las áreas de páramo en los Andes del Norte. En 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ctualidad, a medida que el uso antrópico de los paramos sufre cambios y las poblaciones de oso andino se incrementan dentro de las áreas protegidas, el potencial para conflictos entre los osos andinos y las actividades antrópicas se increment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l resultado final es una disminución de la tolerancia por parte de la gente a la presencia de oso andino y con ello el incremento de la cacería ilegal, convirtiendo a los paramos en trampas mortales para las poblaciones de 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"/>
          <p:cNvGraphicFramePr/>
          <p:nvPr/>
        </p:nvGraphicFramePr>
        <p:xfrm>
          <a:off x="179280" y="763560"/>
          <a:ext cx="8964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63560"/>
                    <a:ext cx="8964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0" y="654120"/>
          <a:ext cx="8964720" cy="54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4120"/>
                    <a:ext cx="8964720" cy="54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959040" y="1484280"/>
            <a:ext cx="7500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pongamos la compra de 100 ha de bosque natural en Bras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 una zona declarada de reserva extractiva.. Esto implica ha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manejo extractivo susten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on inicial =  50.000 do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iodo explot   =  5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ducto            =  tallos de pal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=  10 dolares/ta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lmas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=   5000 ejemp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lim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=  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millas            =   muchas en clima húmedo, pocas en se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Vale la pena la invers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fdef6"/>
                </a:solidFill>
                <a:latin typeface="Arial"/>
              </a:rPr>
              <a:t>Cuál será el resultado del negocio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años buenos, R = 1,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años malos, R = 0,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ada esa variación, se espera a los 50 años, un máximo de producción de 168.162 tallos en el percentil 9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68.162 x US$10 = un millon y medio de dolares (P = 1 en 20 de ganar esa plata)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fdef6"/>
                </a:solidFill>
                <a:latin typeface="Arial"/>
              </a:rPr>
              <a:t>Cuál será el resultado del negocio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 es la expectativa med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 R =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√ 1.4 * 0.7 = 0.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sto es un pérdida del 1% anual de pal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Si hay 25 años buenos y 25 malos la tasa de cambio será 1.4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5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* 0.7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5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= 0.6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5000 * 0.603 = 3.015 =&gt; US$ 30.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n 50 años se perderá US$ 20.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Pero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ay un 50% de prob. de caer bajo o sobre los 30.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upongamos entonces 30 años buenos contra 30 malos y veamos la difer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4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* 0.7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= 19.31 * 5000 =96.550 palmas =&gt; gano US$ 965.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4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* 0.7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= 0.0188 * 5000 = 94 palmas =&gt; US$940 =&gt; pierdo 49.9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1:49:42Z</dcterms:created>
  <dc:creator>pedro cattan</dc:creator>
  <dc:description/>
  <dc:language>en-US</dc:language>
  <cp:lastModifiedBy>pedro cattan</cp:lastModifiedBy>
  <dcterms:modified xsi:type="dcterms:W3CDTF">2007-11-12T05:05:33Z</dcterms:modified>
  <cp:revision>21</cp:revision>
  <dc:subject/>
  <dc:title>Manejando recursos naturales</dc:title>
</cp:coreProperties>
</file>