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F4A-67E6-4E91-9A38-27DCC16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1EC-9281-4270-B3F0-674E3EC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DEE-7B6D-4288-A60A-0340213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562-FAA9-4F18-8B3B-8AEA8544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0F0-D296-44CA-B17D-91DB4A88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340F-469F-426E-B574-4228E141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EC78-85E2-45F7-AA7B-FE4C7D4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4A8-D93F-4CBB-A492-736A4FF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146-0AED-4385-A589-738E1CC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6924-D406-40D2-9862-16DF705F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A04-F041-4156-8172-184A2C7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A92-84A6-4B02-9002-FAC1B84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EBC-A794-4809-88C7-7A543E3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A339-A5E8-415C-AA81-87CD59D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C003-384C-4861-A479-950198C3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445D-975C-40E1-8A19-9B91F65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D67-1C3F-45C2-ADBE-E3915F42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D59-F507-47D2-B1C5-8BD7607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638-1B2B-49C3-BF19-6ED1E62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C57-FDBD-42A8-A912-BFE1D6B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F46-097B-4B80-83AF-60F932B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DA6-B577-4639-A10C-D530AAF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CEE-D0AF-43BA-A7AE-7152289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7C4-1946-409F-93AD-AACD309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748-F616-441D-91F9-C402C0B0EC78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934B-C718-463C-9824-02270CCCF6AD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Toma de decisiones en el manejo de recurs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sc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 anterior implica que 1 de 20 veces aceptaremos la H1 a pesar de que sea falsa (al menos 1 en 20 la baja será por azar y no por contaminación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o se llama error Tipo I (aceptar H1 siendo fal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l 5% y no menos porque a menores P es dificil separar hechos de la variabilidad natu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í, podríamos establecer que la fertilidad no es menor en los ríos contaminados, aún cuando lo sea. En este caso se comete un error Tipo II (aceptar la Ho siendo falsa)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denomina “potencia” a la capacidad de una prueba para detectar un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esta inversamente relacionada con la P de cometer un error Tipo I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mayor potencia, menor P de aceptar Ho siendo fal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rrores Tipo I 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36640" y="2214720"/>
          <a:ext cx="6148440" cy="3738240"/>
        </p:xfrm>
        <a:graphic>
          <a:graphicData uri="http://schemas.openxmlformats.org/drawingml/2006/table">
            <a:tbl>
              <a:tblPr/>
              <a:tblGrid>
                <a:gridCol w="1536480"/>
                <a:gridCol w="1538280"/>
                <a:gridCol w="1536840"/>
                <a:gridCol w="1536840"/>
              </a:tblGrid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do real del amb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 de la prue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n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cis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la H1 se cierra la fuente de contaminación con todo lo que signif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pasa con el costo económico y social si hubo un error Tipo 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Ho, concluyo que no hay impacto y todo sigue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ién asume el costo ecosistémico si hubo un error Tipo I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no se rechaza la Ho se suele concluir que no hay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verdad pueden haber pasado dos co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xperimento no fue apropi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tamaño muestral fue insufi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250120" y="3246480"/>
            <a:ext cx="184320" cy="19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o implica un error Tipo II con importantes consecuencias ecológ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os efect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 efecto estadísticamente significativo, puede no tener efecto ecológico: por ejemplo si la dinámica de la poblacion de peces dependiera más de la densidad que de la fer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r otro lado un pequeño impacto, puede afectar una población a mediano plazo. Así, una leve disminución en la tasa s de pajaros reproductores puede aumentar el riesgo de extinción de una pob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a 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blema: mantener una población de un mamífero arbóreo que depende de un bos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secha del bosque afecta el habitat y la empresa propone modificar la cosecha para no afectar al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gobierno propone el siguiente experimen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uevo tipo de cosecha en 5 áreas y 5 áreas sin cosecha. Cada área tiene una pareja y cada pareja produce una cría/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specie no vive más de 20 a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año siguiente se cuentan las crías en las 10 parej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encuentra que no hay diferencias entre las áreas con o sin cose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concluye  que el nuevo sistema de cosecha es compatible con la conservación del mamíf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roximación convencional de la inferencia estadística: no se detectó impacto, por tanto no hay impa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ol de la incerte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aluación de ries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ejo del ries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soci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econó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una f = 1/pareja y 5 parejas sin perturbación se puede calcular la distribución de frecuencias de las crías suponiendo que no hay muerte de adultos ni cambios ambi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is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14600" y="2952720"/>
            <a:ext cx="231480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10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8000" y="1576440"/>
            <a:ext cx="477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un 4% de azar que las 5 parejas tengan una o ninguna c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12% de probabilidad que produzcan menos de 3 crí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contaminación disminuye sólo f  el estudio daría una diferencia significativa sólo si las 5 poblaciones “contaminadas” dieran menos de dos crías (P = 4%) lo que queda por abajo del 5% de significancia estadístic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5 parejas “contaminadas” producirían 0 o 1 cría sólo si la f media se redujera mucho. Por ello la prueba sólo puede detectar sólo los impactos más extr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ha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umentar el tamaño muestral cuando se pue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teccion del impac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 de la hipótesis: cómo afectan a s, f, tasa de dispersión y otros parámetros las acciones human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Hipótesis: Se atribuye a la contaminación de un río, la baja producción de huevos de una población de pe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teo de huevos en poblaciones contaminadas versus otras no contamin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encuentra que el promedio de huevos es menor en las contaminadas. Esto puede deberse a la variabilidad intrínseca de los datos y por tanto la diferencia encontrada es por az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a es la “hipótesis nul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24240" y="1452600"/>
            <a:ext cx="4295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a posibilidad es que efectivamente la contaminación haya reducido la fertilidad. Esta es la “hipótesis alternativ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definir? Criterio del 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P de un resultado observado es menor a un 5% extremo en la distribución esperada del fenómeno, aceptamos que es poco probable que se de por a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este caso aceptamos la “hipótesis alternativa”. Se toma el riesgo de un 5% de que nos equivoque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960" y="885960"/>
            <a:ext cx="7696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tonces concluímos que hay menos de un 5% de probabilidad que la diferencia en fertilidad se deba al azar y no a la contamin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cimos que es estadísticamente significativo, esto es que aceptamos un 5% de riesgo de hacer una conclusión equivoc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4:09:04Z</dcterms:created>
  <dc:creator>pedro cattan</dc:creator>
  <dc:description/>
  <dc:language>en-US</dc:language>
  <cp:lastModifiedBy>Plagas</cp:lastModifiedBy>
  <dcterms:modified xsi:type="dcterms:W3CDTF">2007-11-06T21:26:39Z</dcterms:modified>
  <cp:revision>17</cp:revision>
  <dc:subject/>
  <dc:title>Toma de decisiones en el manejo de recursos</dc:title>
</cp:coreProperties>
</file>