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557D-C185-44EC-B7C7-83B22E818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D369-D9AE-48DF-B144-F9FEEF9D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BE1C-8C0A-4BB0-AFCF-A1D0F0251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AA5D-F794-436C-8C13-62E661CFC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84C37-1350-4B68-B00C-FE9F28852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A754-CD17-4750-8C76-416286B5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79B5-CA18-4E41-B163-9723E970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42B0F-BCCB-44E0-9F08-EABC5091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4C21-2823-4F7D-B9F6-385AA107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1D59-641F-46AD-886B-315BBE30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24B29-4957-4CAF-9735-4FD74D80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7B23-C22E-447E-B727-9CE311B9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1ACC-B8B2-42E3-9EB1-FDCE6966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4147-8442-4558-BDF6-A82ADB89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7FF7-E2FD-47AD-9E9D-E81F1D5D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D4EF-EE8E-47A9-A0B7-439D91D13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C08D4-5F38-4433-9AE2-118880992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0C2D-4C43-4FB7-8C83-482A1653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B29A-4CF7-4EAA-ACCB-2AF68E4E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C3DE-5AE2-4913-BC72-A9AB4874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BAB4-49FB-4ACB-9FD6-0DFC7418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92C8-2024-4BED-9EA4-9BA4A6D2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92D5-DAF2-4C7B-A80D-0880B359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F3A1-5351-4217-99DB-0745168B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8E6A-4288-4DE3-B7CC-D8403D08A676}" type="slidenum"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F9E8-F3A5-4639-B066-586525C91A98}" type="slidenum"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Toma de decisiones en el manejo de recurso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asc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200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Estudio para probar la hipótesi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o anterior implica que 1 de 20 veces aceptaremos la H1 a pesar de que sea falsa (al menos 1 en 20 la baja será por azar y no por contaminación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to se llama error Tipo I (aceptar H1 siendo falsa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Estudio para probar la hipótesi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 usa el 5% y no menos porque a menores P es dificil separar hechos de la variabilidad natur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sí, podríamos establecer que la fertilidad no es menor en los ríos contaminados, aún cuando lo sea. En este caso se comete un error Tipo II (aceptar la Ho siendo falsa)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Potenci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 denomina “potencia” a la capacidad de una prueba para detectar un impac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potencia esta inversamente relacionada con la P de cometer un error Tipo II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 mayor potencia, menor P de aceptar Ho siendo fal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Errores Tipo I y I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736640" y="2214720"/>
          <a:ext cx="6148440" cy="3738240"/>
        </p:xfrm>
        <a:graphic>
          <a:graphicData uri="http://schemas.openxmlformats.org/drawingml/2006/table">
            <a:tbl>
              <a:tblPr/>
              <a:tblGrid>
                <a:gridCol w="1536480"/>
                <a:gridCol w="1538280"/>
                <a:gridCol w="1536840"/>
                <a:gridCol w="1536840"/>
              </a:tblGrid>
              <a:tr h="91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stado real del ambien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mpac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 impac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sultado de la prueb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mpacto detecta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rrec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rror T 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mpacto no detecta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rror T 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rrec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Decision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i acepto la H1 se cierra la fuente de contaminación con todo lo que signific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¿Qué pasa con el costo económico y social si hubo un error Tipo I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i acepto Ho, concluyo que no hay impacto y todo sigue igu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¿Quién asume el costo ecosistémico si hubo un error Tipo II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Problema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uando no se rechaza la Ho se suele concluir que no hay impac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n verdad pueden haber pasado dos cosa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l experimento no fue apropi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l tamaño muestral fue insufici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8250120" y="3246480"/>
            <a:ext cx="184320" cy="19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sto implica un error Tipo II con importantes consecuencias ecológic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Importancia de los efecto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Un efecto estadísticamente significativo, puede no tener efecto ecológico: por ejemplo si la dinámica de la poblacion de peces dependiera más de la densidad que de la fertil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or otro lado un pequeño impacto, puede afectar una población a mediano plazo. Así, una leve disminución en la tasa s de pajaros reproductores puede aumentar el riesgo de extinción de una pobl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Importancia de la Potenci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oblema: mantener una población de un mamífero arbóreo que depende de un bosqu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cosecha del bosque afecta el habitat y la empresa propone modificar la cosecha para no afectar al mamífe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Problema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l gobierno propone el siguiente experimen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Nuevo tipo de cosecha en 5 áreas y 5 áreas sin cosecha. Cada área tiene una pareja y cada pareja produce una cría/añ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especie no vive más de 20 añ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Problema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l año siguiente se cuentan las crías en las 10 parej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 encuentra que no hay diferencias entre las áreas con o sin cosech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 concluye  que el nuevo sistema de cosecha es compatible con la conservación del mamífer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proximación convencional de la inferencia estadística: no se detectó impacto, por tanto no hay impac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Rol de la incertez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ema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valuación de riesg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anejo del ries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Importancia de factores social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Importancia de factores económ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Problema desde otro ángulo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 una f = 1/pareja y 5 parejas sin perturbación se puede calcular la distribución de frecuencias de las crías suponiendo que no hay muerte de adultos ni cambios ambient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Poiss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414600" y="2952720"/>
            <a:ext cx="2314800" cy="9525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203640" y="4221000"/>
            <a:ext cx="2952720" cy="10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08000" y="1576440"/>
            <a:ext cx="47739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Problema desde otro ángulo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Hay un 4% de azar que las 5 parejas tengan una o ninguna cr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Hay 12% de probabilidad que produzcan menos de 3 crí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i la contaminación disminuye sólo f  el estudio daría una diferencia significativa sólo si las 5 poblaciones “contaminadas” dieran menos de dos crías (P = 4%) lo que queda por abajo del 5% de significancia estadística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Problema desde otro ángulo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s 5 parejas “contaminadas” producirían 0 o 1 cría sólo si la f media se redujera mucho. Por ello la prueba sólo puede detectar sólo los impactos más extrem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¿Qué hace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umentar el tamaño muestral cuando se pue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Deteccion del impacto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ema de la hipótesis: cómo afectan a s, f, tasa de dispersión y otros parámetros las acciones human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jemplo: Hipótesis: Se atribuye a la contaminación de un río, la baja producción de huevos de una población de pe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Estudio para probar la hipótesi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teo de huevos en poblaciones contaminadas versus otras no contaminad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 encuentra que el promedio de huevos es menor en las contaminadas. Esto puede deberse a la variabilidad intrínseca de los datos y por tanto la diferencia encontrada es por az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ta es la “hipótesis nula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424240" y="1452600"/>
            <a:ext cx="429552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Estudio para probar la hipótesi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Otra posibilidad es que efectivamente la contaminación haya reducido la fertilidad. Esta es la “hipótesis alternativa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¿Cómo definir? Criterio del 5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i la P de un resultado observado es menor a un 5% extremo en la distribución esperada del fenómeno, aceptamos que es poco probable que se de por az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n este caso aceptamos la “hipótesis alternativa”. Se toma el riesgo de un 5% de que nos equivoquem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23960" y="885960"/>
            <a:ext cx="769608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Estudio para probar la hipótesi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ntonces concluímos que hay menos de un 5% de probabilidad que la diferencia en fertilidad se deba al azar y no a la contamin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ecimos que es estadísticamente significativo, esto es que aceptamos un 5% de riesgo de hacer una conclusión equivoca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0600" y="164304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04:09:04Z</dcterms:created>
  <dc:creator>pedro cattan</dc:creator>
  <dc:description/>
  <dc:language>en-US</dc:language>
  <cp:lastModifiedBy>Plagas</cp:lastModifiedBy>
  <dcterms:modified xsi:type="dcterms:W3CDTF">2007-11-06T21:26:39Z</dcterms:modified>
  <cp:revision>17</cp:revision>
  <dc:subject/>
  <dc:title>Toma de decisiones en el manejo de recursos</dc:title>
</cp:coreProperties>
</file>