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7FB-7109-438F-9CAA-75176FDD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953-3D36-4E38-8BE0-3B7567A6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9E29-81E7-4A94-A6DF-71EF223A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2D5-B2CB-420E-8402-09CCC59A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31BA-8505-4EF1-AA59-6775C0F7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F9B2-F59A-41CB-A9DB-3909407E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5492-0651-4FFC-967B-1BC379EB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9399-A965-4D50-9753-B91325CE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941D-FB66-4360-A4FB-AC474C20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7FDE-49F2-41AE-ACF3-5979C8D0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267A-6F75-4D45-B7DC-5382FD06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182-D5B8-4A22-9FCE-FA4DF19B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EB89-08A5-41B1-B3C8-D2ADC044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3806-6250-4F3D-A703-7C39F677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A716-7854-4DF2-BD62-DDB86284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655B-3487-40D7-8470-B0D82C3C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9166-AC2A-4A3B-993F-54941C99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EEA4-171D-4426-81E6-1190B7ED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2D18-816F-4D23-9C6A-43E0DD3D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AD33-21FF-41E2-B0A4-DEA42A01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209-799A-422B-9FB1-1286D2D7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B4D5-EB9D-4AC9-944C-E4772A36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71B-1833-4901-A678-531588A9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490-C1B0-4813-BF01-7FBB2B79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5B8A-E387-439C-9EC0-D08258328A3F}" type="slidenum"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466D-17BF-4D59-8DF4-EE68E9044563}" type="slidenum"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Toma de decisiones en el manejo de recurs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sc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Estudio para probar la hipóte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 anterior implica que 1 de 20 veces aceptaremos la H1 a pesar de que sea falsa (al menos 1 en 20 la baja será por azar y no por contaminación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to se llama error Tipo I (aceptar H1 siendo fals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Estudio para probar la hipóte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usa el 5% y no menos porque a menores P es dificil separar hechos de la variabilidad natu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sí, podríamos establecer que la fertilidad no es menor en los ríos contaminados, aún cuando lo sea. En este caso se comete un error Tipo II (aceptar la Ho siendo falsa)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otenc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denomina “potencia” a la capacidad de una prueba para detectar un impac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potencia esta inversamente relacionada con la P de cometer un error Tipo I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 mayor potencia, menor P de aceptar Ho siendo fal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Errores Tipo I y I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36640" y="2214720"/>
          <a:ext cx="6148440" cy="3738240"/>
        </p:xfrm>
        <a:graphic>
          <a:graphicData uri="http://schemas.openxmlformats.org/drawingml/2006/table">
            <a:tbl>
              <a:tblPr/>
              <a:tblGrid>
                <a:gridCol w="1536480"/>
                <a:gridCol w="1538280"/>
                <a:gridCol w="1536840"/>
                <a:gridCol w="1536840"/>
              </a:tblGrid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tado real del ambi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ac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 impac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sultado de la prue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acto detect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rec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rror T 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acto no detect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rror T 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rec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Decision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i acepto la H1 se cierra la fuente de contaminación con todo lo que signif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Qué pasa con el costo económico y social si hubo un error Tipo 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i acepto Ho, concluyo que no hay impacto y todo sigue igu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Quién asume el costo ecosistémico si hubo un error Tipo I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oblema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uando no se rechaza la Ho se suele concluir que no hay impac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n verdad pueden haber pasado dos cos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experimento no fue apropi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tamaño muestral fue insufici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8250120" y="3246480"/>
            <a:ext cx="184320" cy="19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sto implica un error Tipo II con importantes consecuencias ecológic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Importancia de los efect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Un efecto estadísticamente significativo, puede no tener efecto ecológico: por ejemplo si la dinámica de la poblacion de peces dependiera más de la densidad que de la fert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or otro lado un pequeño impacto, puede afectar una población a mediano plazo. Así, una leve disminución en la tasa s de pajaros reproductores puede aumentar el riesgo de extinción de una pob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Importancia de la Potenc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blema: mantener una población de un mamífero arbóreo que depende de un bos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cosecha del bosque afecta el habitat y la empresa propone modificar la cosecha para no afectar al mamífe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oblema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gobierno propone el siguiente experimen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Nuevo tipo de cosecha en 5 áreas y 5 áreas sin cosecha. Cada área tiene una pareja y cada pareja produce una cría/añ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especie no vive más de 20 añ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oblema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l año siguiente se cuentan las crías en las 10 parej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encuentra que no hay diferencias entre las áreas con o sin cosech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concluye  que el nuevo sistema de cosecha es compatible con la conservación del mamífer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proximación convencional de la inferencia estadística: no se detectó impacto, por tanto no hay impac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Rol de la incertez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em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valuación de riesg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nejo del ries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mportancia de factores socia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mportancia de factores económ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oblema desde otro ángul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 una f = 1/pareja y 5 parejas sin perturbación se puede calcular la distribución de frecuencias de las crías suponiendo que no hay muerte de adultos ni cambios ambient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oiss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414600" y="2952720"/>
            <a:ext cx="2314800" cy="952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203640" y="4221000"/>
            <a:ext cx="2952720" cy="10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08000" y="1576440"/>
            <a:ext cx="4773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oblema desde otro ángul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ay un 4% de azar que las 5 parejas tengan una o ninguna cr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ay 12% de probabilidad que produzcan menos de 3 crí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i la contaminación disminuye sólo f  el estudio daría una diferencia significativa sólo si las 5 poblaciones “contaminadas” dieran menos de dos crías (P = 4%) lo que queda por abajo del 5% de significancia estadística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oblema desde otro ángul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5 parejas “contaminadas” producirían 0 o 1 cría sólo si la f media se redujera mucho. Por ello la prueba sólo puede detectar sólo los impactos más extrem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Qué hac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umentar el tamaño muestral cuando se pue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Deteccion del impact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ema de la hipótesis: cómo afectan a s, f, tasa de dispersión y otros parámetros las acciones human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jemplo: Hipótesis: Se atribuye a la contaminación de un río, la baja producción de huevos de una población de pe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Estudio para probar la hipóte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teo de huevos en poblaciones contaminadas versus otras no contamina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encuentra que el promedio de huevos es menor en las contaminadas. Esto puede deberse a la variabilidad intrínseca de los datos y por tanto la diferencia encontrada es por az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ta es la “hipótesis nul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24240" y="1452600"/>
            <a:ext cx="42955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Estudio para probar la hipóte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tra posibilidad es que efectivamente la contaminación haya reducido la fertilidad. Esta es la “hipótesis alternativa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Cómo definir? Criterio del 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i la P de un resultado observado es menor a un 5% extremo en la distribución esperada del fenómeno, aceptamos que es poco probable que se de por az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n este caso aceptamos la “hipótesis alternativa”. Se toma el riesgo de un 5% de que nos equivoquem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3960" y="885960"/>
            <a:ext cx="76960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Estudio para probar la hipóte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ntonces concluímos que hay menos de un 5% de probabilidad que la diferencia en fertilidad se deba al azar y no a la contamin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cimos que es estadísticamente significativo, esto es que aceptamos un 5% de riesgo de hacer una conclusión equivoc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4:09:04Z</dcterms:created>
  <dc:creator>pedro cattan</dc:creator>
  <dc:description/>
  <dc:language>en-US</dc:language>
  <cp:lastModifiedBy>Plagas</cp:lastModifiedBy>
  <dcterms:modified xsi:type="dcterms:W3CDTF">2007-11-06T21:26:39Z</dcterms:modified>
  <cp:revision>17</cp:revision>
  <dc:subject/>
  <dc:title>Toma de decisiones en el manejo de recursos</dc:title>
</cp:coreProperties>
</file>