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649D-0C99-42A2-8CF7-9468F05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9A5C-E5B8-473C-8F98-12780CAB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8CC0-438C-49E1-B554-923CB68D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197B-B942-47F3-8F88-4E5ADEB6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2D6B-7F20-4FB7-84E8-72E38B61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531-378C-430B-B635-CCE591AE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A3EF-0DD0-4666-B046-EBFB1BF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450-5E60-4CB3-A8BD-9051EBCF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A58B-D5D5-43DB-8C43-C6FED6CD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59D6-1126-43E6-A040-59647EAB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C555-8103-4C23-B5F5-095EE184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9E2AB-BED1-4581-A584-8F20599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821D-E57D-49B1-98C8-19A19EE1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041C-E241-45CA-9895-723FAC7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9141-97D6-49FE-9230-FA054E15A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C113-AD98-4F88-8429-7ADBA428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6652-E916-437B-A0D2-4983B510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C454F-0E1B-47F9-866B-AC42BE8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1421-A54E-426A-B31D-469DA95D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95455-1B43-4E27-A43C-9DB12E42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EA78-BAB7-453D-BEB5-2BF9A29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D96F-B89F-4176-A616-5FEE2483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5939-A0DF-404F-B1A7-B89D772B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E165-B787-40F5-98A0-539800C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641C-8DE6-46BC-9590-0CEC88055AA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EF1-84F3-4FD0-B6E4-1C67EDFD5998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Análisis de la viabilidad de una población (PVA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77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E Cat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 de una metapobl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una especie amenazada se decide  evaluar el incremento del habitat adecuado, removiendo por ej. Plantas exót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í se trata de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to esfuerzo hay que invertir para incrementar la opción de sobreviv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qué lugar del territorio deben concentrarse los esfuerz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9040" y="476280"/>
            <a:ext cx="556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specie vive en muchos habit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amiento del habitat incrementa r y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imar ahora los parámetros del modelo a implementar : terre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atos  necesar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nfiguración geográfica de los par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su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R (lamb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rrelación entre fluctuaciones ambientales y tasa de disp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Determinar relación entre esfuerzo realizado y mejoramiento de parámetros (problem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delan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binar la informacion existente dentro de predicciones sobre la persistencia de la sp en función de diferentes supuestos de condiciones ambientales y diferentes opciones de manej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otar el listado complejo de supuestos u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ir estocast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sar análisis de sensibilidad para determinar que parámetros deben ser estimados con mayor prec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193080" cy="569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6480" y="3524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sensibilidad para la tasa de sobrevivencia d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nálisis de 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diferentes opciones de mane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jerarquizar las opciones en función de su reducción del riesgo de extin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79440"/>
            <a:ext cx="626436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máximo a ga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nivel de riesgo que se puede mante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mbiar el nivel de ries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luir otras op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vez de mejorar el hábitat, disminuir un competi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 un proceso usado para identificar las amenazas de una población y la probabilidad de que la especie pueda persistir por un tiempo d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oceso muy relacionado con la determinación de la población mínima via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sos posteri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plementar el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nitor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plantear el model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imi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finir un nivel de riesgo de extinción acep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Usos de la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istinguir los factores que tengan un efecto importante sobre la extin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timar la vulnerabilidad de una espe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edecir las respuestas frente al manejo de una pobl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 - extin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trucción del háb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breexplo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tamin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troducción de spp exó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mbio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e5ff"/>
                </a:solidFill>
                <a:latin typeface="Garamond"/>
              </a:rPr>
              <a:t>Propiedades a evaluar por su suceptibilidad a impact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obreposición de háb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querimientos de home r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Baja resil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Amenaz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tegorías basadas en reglas de decisión que incluy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ngo de disper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amaño pobl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istoria de la pobl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iesgo de exti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riterios de ries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tico: 50% P de extinción dentro de 5 años o dos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peligro: 20% P de extinción dentro de 20 años o 10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Vulnerable: 10% P de extinción dentro de 100 añ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omponen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Identificar las pregu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la chance de recupera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el riesgo de extinción en los próximos añ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s translocaciones evitan la extin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s mejor preservar un gran parche o varios chic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n válidos los corredo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8:49Z</dcterms:created>
  <dc:creator>pedro cattan</dc:creator>
  <dc:description/>
  <dc:language>en-US</dc:language>
  <cp:lastModifiedBy>Plagas</cp:lastModifiedBy>
  <dcterms:modified xsi:type="dcterms:W3CDTF">2007-10-30T21:18:27Z</dcterms:modified>
  <cp:revision>9</cp:revision>
  <dc:subject/>
  <dc:title>Análisis de la viabilidad de una población (PVA)</dc:title>
</cp:coreProperties>
</file>