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1BF9-1754-4648-B4D2-1C16822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3162-614E-4475-B4E4-70DA55B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4C9B-7371-43EA-BC03-2CE4CBC1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A638-31AF-4B8A-9DDE-3E785EB3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53C-DFB8-4BB7-ADD2-A38A3484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1A5-E1B9-4BAD-BC6E-872A9C5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A05-186A-489B-9516-5F6B6051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85B-8214-4059-BB08-8CEDC7FE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34EF-4B55-4D03-90FD-8414858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4CF-A121-47E8-BD34-857BE6C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60F-11D4-4433-AFE0-6DBC4D7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1863-543B-4BC9-9C1B-72A5A3E4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4EF-FEDA-4818-9B00-1DEFFAA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23D-6786-4A6C-BAAB-77BB0B7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1CC9-DFC4-457D-A009-D10E22C5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5785-5D77-480B-9EA3-7F047871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3E9-2E03-44B1-8F0A-276191FF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DAD7-A964-4FD0-A001-2547353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0129-99D5-48A4-A374-2B4A284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CA6E-070B-41AD-90B1-FECE92C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6D43-EFD4-4D29-9B65-0D7B722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72AB-9A11-4B0A-90AB-81C1EAB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6EB3-545F-4891-B046-01B169A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AC5A-EE39-41FF-A369-F1058E5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8D4-E5B7-47DB-A655-FDFBBD7E7911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5E90-C439-48FF-968D-34E6A9E8042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Análisis de la viabilidad de una población (PVA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77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E Cat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 de una metapobl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una especie amenazada se decide  evaluar el incremento del habitat adecuado, removiendo por ej. Plantas exót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í se trata de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to esfuerzo hay que invertir para incrementar la opción de sobreviv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qué lugar del territorio deben concentrarse los esfuerz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9040" y="476280"/>
            <a:ext cx="556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specie vive en muchos habit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amiento del habitat incrementa r y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imar ahora los parámetros del modelo a implementar : terre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atos  necesar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nfiguración geográfica de los par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su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R (lamb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rrelación entre fluctuaciones ambientales y tasa de disp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Determinar relación entre esfuerzo realizado y mejoramiento de parámetros (problem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delan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binar la informacion existente dentro de predicciones sobre la persistencia de la sp en función de diferentes supuestos de condiciones ambientales y diferentes opciones de manej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otar el listado complejo de supuestos u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ir estocast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sar análisis de sensibilidad para determinar que parámetros deben ser estimados con mayor prec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193080" cy="569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6480" y="3524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sensibilidad para la tasa de sobrevivencia d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nálisis de 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diferentes opciones de mane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jerarquizar las opciones en función de su reducción del riesgo de extin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79440"/>
            <a:ext cx="626436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máximo a ga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nivel de riesgo que se puede mante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mbiar el nivel de ries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luir otras op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vez de mejorar el hábitat, disminuir un competi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 un proceso usado para identificar las amenazas de una población y la probabilidad de que la especie pueda persistir por un tiempo d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oceso muy relacionado con la determinación de la población mínima via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sos posteri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plementar el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nitor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plantear el model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imi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finir un nivel de riesgo de extinción acep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Usos de la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istinguir los factores que tengan un efecto importante sobre la extin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timar la vulnerabilidad de una espe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edecir las respuestas frente al manejo de una pobl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 - extin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trucción del háb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breexplo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tamin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troducción de spp exó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mbio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e5ff"/>
                </a:solidFill>
                <a:latin typeface="Garamond"/>
              </a:rPr>
              <a:t>Propiedades a evaluar por su suceptibilidad a impact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obreposición de háb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querimientos de home r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Baja resil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Amenaz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tegorías basadas en reglas de decisión que incluy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ngo de disper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amaño pobl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istoria de la pobl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iesgo de exti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riterios de ries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tico: 50% P de extinción dentro de 5 años o dos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peligro: 20% P de extinción dentro de 20 años o 10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Vulnerable: 10% P de extinción dentro de 100 añ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omponen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Identificar las pregu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la chance de recupera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el riesgo de extinción en los próximos añ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s translocaciones evitan la extin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s mejor preservar un gran parche o varios chic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n válidos los corredo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8:49Z</dcterms:created>
  <dc:creator>pedro cattan</dc:creator>
  <dc:description/>
  <dc:language>en-US</dc:language>
  <cp:lastModifiedBy>Plagas</cp:lastModifiedBy>
  <dcterms:modified xsi:type="dcterms:W3CDTF">2007-10-30T21:18:27Z</dcterms:modified>
  <cp:revision>9</cp:revision>
  <dc:subject/>
  <dc:title>Análisis de la viabilidad de una población (PVA)</dc:title>
</cp:coreProperties>
</file>