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97F3-A109-482A-80C3-97DF7705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B505-44C2-4295-8EF5-481920A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DC739-E4DC-4B93-9DFE-88592E83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F979-7362-4255-AC86-F8A7FBCB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202-CA3F-4CF9-A17F-AE6934ED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4BF8-FB61-41E1-8622-EA674B0E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FA58-5C74-4D6D-BB4A-73653A09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6B47-E1E8-4BBF-A116-DAE35E85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B7AD-8193-4696-ACBD-7A846CB2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3472-BE16-4CBF-985C-B005C502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592C-68AB-4C47-BCD8-9CDB95D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087B-11A1-4BE8-AF60-2CFB9C92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A415-038E-484D-9B13-A21356D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77E6-55E8-42E3-AA48-16EA38E8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02EA-0826-4123-9C1E-80B9499B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33DC-601E-416A-B90A-42B48542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439D-24C5-4E80-9E4B-E7E0B4BC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4A2C8-A6C5-4DDC-8968-36E19453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77465-7201-40BF-9384-5B4FCBB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E12A-F083-42A4-A4FE-FE8FA71B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FB6BE-5F25-4A46-BF54-3922FAD6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FB7E-D879-45E5-BE4E-9BAD74C2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A5B5B-FADA-492E-B34D-2DF86804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E70E-9BBF-4E4B-BF88-01BF3C2C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308C-EDB9-4BA7-B742-BE90F513C2F6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D2DB-5B70-4B10-A9F9-DB33BC2B6B63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e5e5ff"/>
                </a:solidFill>
                <a:latin typeface="Garamond"/>
              </a:rPr>
              <a:t>Análisis de la viabilidad de una población (PVA)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211280" y="5805000"/>
            <a:ext cx="377676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E Catta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 de una metapoblac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una especie amenazada se decide  evaluar el incremento del habitat adecuado, removiendo por ej. Plantas exót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í se trata de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uanto esfuerzo hay que invertir para incrementar la opción de sobreviv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qué lugar del territorio deben concentrarse los esfuerz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59040" y="476280"/>
            <a:ext cx="556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especie vive en muchos habita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amiento del habitat incrementa r y 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El cas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imar ahora los parámetros del modelo a implementar : terre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atos  necesari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nfiguración geográfica de los parch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su 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R (lambd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eterminar correlación entre fluctuaciones ambientales y tasa de dispers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Determinar relación entre esfuerzo realizado y mejoramiento de parámetros (problemas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odeland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mbinar la informacion existente dentro de predicciones sobre la persistencia de la sp en función de diferentes supuestos de condiciones ambientales y diferentes opciones de manej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notar el listado complejo de supuestos usad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ir estocast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Usar análisis de sensibilidad para determinar que parámetros deben ser estimados con mayor precis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193080" cy="5699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36480" y="352440"/>
            <a:ext cx="66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álisis de sensibilidad para la tasa de sobrevivencia de adul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Análisis de 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rente a diferentes opciones de manej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 necesario jerarquizar las opciones en función de su reducción del riesgo de extin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332000" y="379440"/>
            <a:ext cx="626436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Costo benefici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máximo a gast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jar el nivel de riesgo que se puede manten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ambiar el nivel de riesg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cluir otras op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vez de mejorar el hábitat, disminuir un competi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 un proceso usado para identificar las amenazas de una población y la probabilidad de que la especie pueda persistir por un tiempo d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oceso muy relacionado con la determinación de la población mínima viabl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asos posteri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mplementar el pl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onitor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plantear el model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Limi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finir un nivel de riesgo de extinción acept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Usos de la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Distinguir los factores que tengan un efecto importante sobre la extin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stimar la vulnerabilidad de una espec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Predecir las respuestas frente al manejo de una pobl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Pva - extincio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Destrucción del hábit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breexplo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ontamin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Introducción de spp exó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ambio glob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5e5ff"/>
                </a:solidFill>
                <a:latin typeface="Garamond"/>
              </a:rPr>
              <a:t>Propiedades a evaluar por su suceptibilidad a impact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Sobreposición de hábit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z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Requerimientos de home ran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Baja resili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Amenaz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ategorías basadas en reglas de decisión que incluye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ango de dispers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Tamaño poblac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Historia de la pobl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Riesgo de extin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riterios de riesg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Critico: 50% P de extinción dentro de 5 años o dos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En peligro: 20% P de extinción dentro de 20 años o 10 generacio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Vulnerable: 10% P de extinción dentro de 100 añ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Componentes del PV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Identificar las pregunt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la chance de recupera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Cuál es el riesgo de extinción en los próximos añ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Las translocaciones evitan la extinció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Es mejor preservar un gran parche o varios chico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Garamond"/>
              </a:rPr>
              <a:t>Son válidos los corredor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81040"/>
            <a:ext cx="64087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18:49Z</dcterms:created>
  <dc:creator>pedro cattan</dc:creator>
  <dc:description/>
  <dc:language>en-US</dc:language>
  <cp:lastModifiedBy>Plagas</cp:lastModifiedBy>
  <dcterms:modified xsi:type="dcterms:W3CDTF">2007-10-30T21:18:27Z</dcterms:modified>
  <cp:revision>9</cp:revision>
  <dc:subject/>
  <dc:title>Análisis de la viabilidad de una población (PVA)</dc:title>
</cp:coreProperties>
</file>