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0D4C3-7B4A-4AAE-B425-61D2BF26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629F-61FC-4E72-A00B-B621F4AF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C4DE3-9958-4BA7-8595-6E5DF88C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6764D-3BA8-4DA9-8057-9A4996F7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919F-F048-42CD-9F1B-B7EA1DC1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5E4B-9ABB-42A3-9217-9DB8D77D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9B24-1398-4464-8732-7260B053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5444-7121-4DA2-AF7A-50C76F7E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FC16-FB3E-477D-876B-E2A283CC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1F36-36A6-4C28-BE43-8118F60B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04F3-1FA6-4C00-86A0-CAE6D2B5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109CB-2C48-49C2-ADC6-B9369C8E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EAAF-8DA8-41AC-AF16-FAC3840C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C261-E633-4516-9059-D78F3FD0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E68A-7C14-44DE-AFB9-4F4B3E96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4E85-E3DF-40D7-85CD-4E79C08B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CBA2-E8E0-4057-B79F-FFB39906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D019-AEDD-4576-9AF5-F37B458A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BFDC0-FFFE-4EBE-A097-5E36ED77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8776F-ABE2-4710-AB3A-1367B668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165F4-2A6A-4EC8-BF1D-5852D52B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D4845-4368-4C79-8697-D1A43E2E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E0E7-FD46-4705-A9DB-F12B389D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917F-8FE7-4E9F-B89F-D7C5B335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FC5B-F38D-40BC-8448-81352F295B7D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A871-909E-4721-A46F-5890B2F7210B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e5ff"/>
                </a:solidFill>
                <a:latin typeface="Garamond"/>
              </a:rPr>
              <a:t>Análisis de la viabilidad de una población (PVA)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211280" y="5805000"/>
            <a:ext cx="377676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PE Catta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El caso de una metapoblac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rente a una especie amenazada se decide  evaluar el incremento del habitat adecuado, removiendo por ej. Plantas exót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quí se trata de sab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uanto esfuerzo hay que invertir para incrementar la opción de sobreviven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 qué lugar del territorio deben concentrarse los esfuerz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59040" y="476280"/>
            <a:ext cx="5562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El cas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especie vive en muchos habita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ejoramiento del habitat incrementa r y 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El cas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imar ahora los parámetros del modelo a implementar : terre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atos  necesario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eterminar configuración geográfica de los parch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eterminar su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eterminar R (lambd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eterminar correlación entre fluctuaciones ambientales y tasa de dispers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Determinar relación entre esfuerzo realizado y mejoramiento de parámetros (problema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Modelan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mbinar la informacion existente dentro de predicciones sobre la persistencia de la sp en función de diferentes supuestos de condiciones ambientales y diferentes opciones de manej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notar el listado complejo de supuestos usa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cluir estocasticid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Usar análisis de sensibilidad para determinar que parámetros deben ser estimados con mayor precis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581040"/>
            <a:ext cx="64087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6193080" cy="5699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36480" y="352440"/>
            <a:ext cx="66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nálisis de sensibilidad para la tasa de sobrevivencia de adul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Análisis de costo benefici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rente a diferentes opciones de manej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 necesario jerarquizar las opciones en función de su reducción del riesgo de extin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32000" y="379440"/>
            <a:ext cx="626436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Costo benefici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ijar el máximo a gast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ijar el nivel de riesgo que se puede mante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ambiar el nivel de riesg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cluir otras op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 vez de mejorar el hábitat, disminuir un competid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s un proceso usado para identificar las amenazas de una población y la probabilidad de que la especie pueda persistir por un tiempo d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Proceso muy relacionado con la determinación de la población mínima viabl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asos posteri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mplementar el pl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onitor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plantear el model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Limites del P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finir un nivel de riesgo de extinción acept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Usos de la P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Distinguir los factores que tengan un efecto importante sobre la extin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stimar la vulnerabilidad de una espec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Predecir las respuestas frente al manejo de una pobl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va - extin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aus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estrucción del hábit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obreexplota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ntamina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ntroducción de spp exótic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ambio glob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e5ff"/>
                </a:solidFill>
                <a:latin typeface="Garamond"/>
              </a:rPr>
              <a:t>Propiedades a evaluar por su suceptibilidad a impacto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Sobreposición de hábit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a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Requerimientos de home ran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Baja resili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Amenaz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ategorías basadas en reglas de decisión que incluy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ango de dispers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Tamaño poblacion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istoria de la pobla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iesgo de extin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Criterios de riesg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ritico: 50% P de extinción dentro de 5 años o dos genera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n peligro: 20% P de extinción dentro de 20 años o 10 genera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Vulnerable: 10% P de extinción dentro de 100 añ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Componentes del P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Identificar las pregunt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uál es la chance de recuperació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uál es el riesgo de extinción en los próximos año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as translocaciones evitan la extinció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s mejor preservar un gran parche o varios chico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on válidos los corredor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32000" y="581040"/>
            <a:ext cx="64087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7:18:49Z</dcterms:created>
  <dc:creator>pedro cattan</dc:creator>
  <dc:description/>
  <dc:language>en-US</dc:language>
  <cp:lastModifiedBy>Plagas</cp:lastModifiedBy>
  <dcterms:modified xsi:type="dcterms:W3CDTF">2007-10-30T21:18:27Z</dcterms:modified>
  <cp:revision>9</cp:revision>
  <dc:subject/>
  <dc:title>Análisis de la viabilidad de una población (PVA)</dc:title>
</cp:coreProperties>
</file>