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278BC-B297-4589-A1EC-545ECFF6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67876-BD82-4850-93E7-2AAAAA9E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495DD-B3B4-4F44-BDA7-E4073D98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5114E-6A77-4E08-8D83-E47623BF8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3653-D81C-46F6-8CE6-C0AD751A6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F6A5-A254-4016-AB6F-287029E4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862D-E260-4ACE-A54B-902E9F24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953B-3E68-4AD2-8FDE-91E9C3BC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80EC-C705-4D5F-AEEF-88536F9B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0029-555B-4795-A012-DCF6B59B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7813-DB4A-4CCB-AC22-3388FACA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43E3E-1B61-4744-9862-C296DE72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3AF1-F08F-4A0A-BE84-AE2BD925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74D1-7E96-4CA2-8BC4-87BEE4F6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AC94-04E8-4C79-BE36-C5E8F9DF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E14A-20E5-477E-A435-E20268BA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0965-B9E3-4DBC-B616-F28813F3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FC1EF-04A5-4ECE-8EEE-EED23F65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5C919-7957-4264-9DE2-7BAD58F9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7A5D6-57BB-4A31-84F1-2F0478A3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510E8-611F-490F-B2B8-EC0E203E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33E52-6E90-4CA1-8548-04ED711A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75988-DD3B-4F3C-A298-BC379FA8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B7A97-55FD-4562-B322-CCD6E033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CBF9-711C-4C45-A43E-E3E7F6DA1D36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CEB3-481D-40CB-AB19-8A1CC0E9D993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5e5ff"/>
                </a:solidFill>
                <a:latin typeface="Garamond"/>
              </a:rPr>
              <a:t>Análisis de la viabilidad de una población (PVA)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211280" y="5805000"/>
            <a:ext cx="377676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PE Catta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El caso de una metapoblac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rente a una especie amenazada se decide  evaluar el incremento del habitat adecuado, removiendo por ej. Plantas exótic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quí se trata de sab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uanto esfuerzo hay que invertir para incrementar la opción de sobrevivenc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 qué lugar del territorio deben concentrarse los esfuerz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59040" y="476280"/>
            <a:ext cx="5562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El cas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 especie vive en muchos habita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ejoramiento del habitat incrementa r y 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El cas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imar ahora los parámetros del modelo a implementar : terre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atos  necesario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Determinar configuración geográfica de los parch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Determinar su 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Determinar R (lambd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Determinar correlación entre fluctuaciones ambientales y tasa de dispersió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Determinar relación entre esfuerzo realizado y mejoramiento de parámetros (problema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Modelan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mbinar la informacion existente dentro de predicciones sobre la persistencia de la sp en función de diferentes supuestos de condiciones ambientales y diferentes opciones de manej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notar el listado complejo de supuestos usad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cluir estocasticid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Usar análisis de sensibilidad para determinar que parámetros deben ser estimados con mayor precis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32000" y="581040"/>
            <a:ext cx="64087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6193080" cy="5699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36480" y="352440"/>
            <a:ext cx="66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nálisis de sensibilidad para la tasa de sobrevivencia de adul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Análisis de costo benefici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rente a diferentes opciones de manej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s necesario jerarquizar las opciones en función de su reducción del riesgo de extin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32000" y="379440"/>
            <a:ext cx="626436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Costo benefici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ijar el máximo a gast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ijar el nivel de riesgo que se puede mante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ambiar el nivel de riesg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ncluir otras opci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 vez de mejorar el hábitat, disminuir un competid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PV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s un proceso usado para identificar las amenazas de una población y la probabilidad de que la especie pueda persistir por un tiempo d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Proceso muy relacionado con la determinación de la población mínima viabl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asos posterio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mplementar el pl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onitor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eplantear el model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Limites del PV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finir un nivel de riesgo de extinción acept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Usos de la PV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Distinguir los factores que tengan un efecto importante sobre la extin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stimar la vulnerabilidad de una espec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Predecir las respuestas frente al manejo de una pobl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Pva - extin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Causa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estrucción del hábit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obreexplota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ontamina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ntroducción de spp exótic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ambio glob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5e5ff"/>
                </a:solidFill>
                <a:latin typeface="Garamond"/>
              </a:rPr>
              <a:t>Propiedades a evaluar por su suceptibilidad a impacto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Sobreposición de hábit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Caz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Requerimientos de home ran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Baja resilien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Amenaz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Categorías basadas en reglas de decisión que incluy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ango de dispers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Tamaño poblacion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Historia de la pobla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iesgo de extin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Criterios de riesg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Critico: 50% P de extinción dentro de 5 años o dos generaci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n peligro: 20% P de extinción dentro de 20 años o 10 generaci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Vulnerable: 10% P de extinción dentro de 100 añ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Componentes del PV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Identificar las pregunta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uál es la chance de recuperació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uál es el riesgo de extinción en los próximos año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Las translocaciones evitan la extinció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s mejor preservar un gran parche o varios chico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on válidos los corredor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32000" y="581040"/>
            <a:ext cx="64087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07:18:49Z</dcterms:created>
  <dc:creator>pedro cattan</dc:creator>
  <dc:description/>
  <dc:language>en-US</dc:language>
  <cp:lastModifiedBy>Plagas</cp:lastModifiedBy>
  <dcterms:modified xsi:type="dcterms:W3CDTF">2007-10-30T21:18:27Z</dcterms:modified>
  <cp:revision>9</cp:revision>
  <dc:subject/>
  <dc:title>Análisis de la viabilidad de una población (PVA)</dc:title>
</cp:coreProperties>
</file>