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7E7-091A-45D7-BF9E-2F4BE64D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E03-9A79-48CA-A029-FAC17D5E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156-A17B-4BD7-9E13-311CC9FF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E98-7E24-45E6-B0ED-831EFEB3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B6D-5DFA-4914-BB31-3510C706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76E-44AC-4586-BAA4-F6E86265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C0A-830F-4E72-8204-462DE166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9AE-9EAA-4F2B-8F48-2BB30A1B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2AD-FCC5-44ED-9411-A68D92F2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E46-A825-44B3-923A-F2B608E1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A78-C2CF-4D4A-ABC3-9F0ABAC0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279-7B64-4F3B-B5F9-857999A8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B63D-2459-4AB2-8CC1-621523A1AFA6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pobl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280" y="5805000"/>
            <a:ext cx="36320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 cat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771640" y="2349360"/>
            <a:ext cx="3671640" cy="3746160"/>
            <a:chOff x="2771640" y="2349360"/>
            <a:chExt cx="3671640" cy="374616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771640" y="2349360"/>
              <a:ext cx="367164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71640" y="2349360"/>
              <a:ext cx="3636720" cy="374616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976040" y="1219320"/>
            <a:ext cx="54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eoría de biogeografía de is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(MacArthur &amp; Wilson 196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0480" y="304920"/>
            <a:ext cx="88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EFECTO TAMAÑO Y DISTANCIA SOBR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RIQU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námica de las metapobl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olonización y extinción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s en K, r, y magnitud de fluctuacione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reglo espacial de los p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parches son hábitat, otros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 de parches varía en escala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e cada factor del há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elación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militud (sincronía) en fluctuaciones ambientales entre parches de há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 dos subpop con riesgo de extinción de 10% c/u, en un horizonte de 100 años, en ambientes no correlacionados. La probabilidad de extinción de ambas juntas es 0,1 x 0,1 = 0,01 =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os ambientes estan correlacionados, entonces la probabilidad de extinción para ambas juntas es de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cron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che 1: recibe menos llu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che 2: recibe mas llu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bos reciben menos lluvia cada 4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elación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 función de la distancia entre poblaciones: a mayor distancia menor cor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  usando las tasas de crecimiento de cada subpoblación, considerando la distancia entr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trones de disp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 de organismos entre pob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tasa de dispersión depende de características específicas, de las características de los parches, de la distancia entre poblaciones, de la abundancia y de los eventos ale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spersión distancia de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1916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869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133720"/>
            <a:ext cx="4680000" cy="2735280"/>
          </a:xfrm>
          <a:custGeom>
            <a:avLst/>
            <a:gdLst/>
            <a:ahLst/>
            <a:rect l="l" t="t" r="r" b="b"/>
            <a:pathLst>
              <a:path w="2948" h="1723">
                <a:moveTo>
                  <a:pt x="0" y="0"/>
                </a:moveTo>
                <a:cubicBezTo>
                  <a:pt x="162" y="264"/>
                  <a:pt x="325" y="529"/>
                  <a:pt x="816" y="816"/>
                </a:cubicBezTo>
                <a:cubicBezTo>
                  <a:pt x="1307" y="1103"/>
                  <a:pt x="2593" y="1572"/>
                  <a:pt x="2948" y="17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486900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7000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9240" y="25653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64520" y="157644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áme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 media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 máx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máx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s factores de disp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bundancia: relac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dad o estado espec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ocastic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ón entre dispersión y correlación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poblaciones estan alejadas entre sí, la P de extinción  local es independiente entr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ello la metapoblación podría tener un menor riesgo de exti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otra parte, las tasas de dispersión serán menores que entre poblaciones que esten cerc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tanto hay siempre un compromiso entre ambientes similares y altas tasas de disp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ptos pobl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4370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onia: trans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a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838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3048120"/>
            <a:ext cx="8380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352680"/>
            <a:ext cx="838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4038480"/>
            <a:ext cx="12952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2438280"/>
            <a:ext cx="83844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057400"/>
            <a:ext cx="685800" cy="5335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81560" y="1511280"/>
            <a:ext cx="4711680" cy="5118120"/>
          </a:xfrm>
          <a:custGeom>
            <a:avLst/>
            <a:gdLst/>
            <a:ahLst/>
            <a:rect l="l" t="t" r="r" b="b"/>
            <a:pathLst>
              <a:path w="2968" h="3224">
                <a:moveTo>
                  <a:pt x="72" y="824"/>
                </a:moveTo>
                <a:cubicBezTo>
                  <a:pt x="8" y="1240"/>
                  <a:pt x="0" y="2152"/>
                  <a:pt x="312" y="2504"/>
                </a:cubicBezTo>
                <a:cubicBezTo>
                  <a:pt x="624" y="2856"/>
                  <a:pt x="1536" y="3224"/>
                  <a:pt x="1944" y="2936"/>
                </a:cubicBezTo>
                <a:cubicBezTo>
                  <a:pt x="2352" y="2648"/>
                  <a:pt x="2968" y="1264"/>
                  <a:pt x="2760" y="776"/>
                </a:cubicBezTo>
                <a:cubicBezTo>
                  <a:pt x="2552" y="288"/>
                  <a:pt x="1144" y="0"/>
                  <a:pt x="696" y="8"/>
                </a:cubicBezTo>
                <a:cubicBezTo>
                  <a:pt x="248" y="16"/>
                  <a:pt x="136" y="408"/>
                  <a:pt x="72" y="82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6576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ón entre dispersión y correlación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4941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2360" y="2133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65964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3933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2097000"/>
            <a:ext cx="4235400" cy="2712960"/>
          </a:xfrm>
          <a:custGeom>
            <a:avLst/>
            <a:gdLst/>
            <a:ahLst/>
            <a:rect l="l" t="t" r="r" b="b"/>
            <a:pathLst>
              <a:path w="2668" h="1709">
                <a:moveTo>
                  <a:pt x="0" y="1338"/>
                </a:moveTo>
                <a:cubicBezTo>
                  <a:pt x="552" y="1425"/>
                  <a:pt x="1104" y="1512"/>
                  <a:pt x="1542" y="1293"/>
                </a:cubicBezTo>
                <a:cubicBezTo>
                  <a:pt x="1980" y="1074"/>
                  <a:pt x="2592" y="0"/>
                  <a:pt x="2630" y="23"/>
                </a:cubicBezTo>
                <a:cubicBezTo>
                  <a:pt x="2668" y="46"/>
                  <a:pt x="2207" y="1149"/>
                  <a:pt x="1769" y="1429"/>
                </a:cubicBezTo>
                <a:cubicBezTo>
                  <a:pt x="1331" y="1709"/>
                  <a:pt x="295" y="1656"/>
                  <a:pt x="0" y="17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2133720"/>
            <a:ext cx="1582560" cy="2808000"/>
          </a:xfrm>
          <a:custGeom>
            <a:avLst/>
            <a:gdLst/>
            <a:ahLst/>
            <a:rect l="l" t="t" r="r" b="b"/>
            <a:pathLst>
              <a:path w="997" h="1769">
                <a:moveTo>
                  <a:pt x="0" y="1769"/>
                </a:moveTo>
                <a:cubicBezTo>
                  <a:pt x="143" y="1712"/>
                  <a:pt x="287" y="1655"/>
                  <a:pt x="453" y="1360"/>
                </a:cubicBezTo>
                <a:cubicBezTo>
                  <a:pt x="619" y="1065"/>
                  <a:pt x="906" y="227"/>
                  <a:pt x="9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133720"/>
            <a:ext cx="934920" cy="2808000"/>
          </a:xfrm>
          <a:custGeom>
            <a:avLst/>
            <a:gdLst/>
            <a:ahLst/>
            <a:rect l="l" t="t" r="r" b="b"/>
            <a:pathLst>
              <a:path w="589" h="1769">
                <a:moveTo>
                  <a:pt x="0" y="1769"/>
                </a:moveTo>
                <a:cubicBezTo>
                  <a:pt x="109" y="1644"/>
                  <a:pt x="219" y="1519"/>
                  <a:pt x="317" y="1224"/>
                </a:cubicBezTo>
                <a:cubicBezTo>
                  <a:pt x="415" y="929"/>
                  <a:pt x="544" y="204"/>
                  <a:pt x="58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7080" y="36655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b únic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6880" y="1052640"/>
            <a:ext cx="10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i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8480" y="544500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lación de fluctuacione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892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2636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9640" y="4024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94360" y="4456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7280" y="4600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7436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51080" y="236844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blaciones ch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 distintas 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9440" y="4724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8200" y="215280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1640" y="344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Lev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/dt = mp(1-p) –Ep d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/dt = tasa de cambio en la proporcion de parches ocupados (colon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 = prob de migración exitosa desde un parche a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= prob de extinción de un p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 = parche ocup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quilibrio esta d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* = 1 – E/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istencia (p &gt; 0) de la pob depende de que m &gt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parches llenos o vac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igual riesgo de extinción por pa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igual chance de col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que la extinción de cada subpob es indepe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considera número de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) Reintroducción y translo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é es mejor: reintroducir 100 en un parche o 50 en cada uno de dos parches con igual superfic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) Diseño de reservas:  SLOSS: single large or several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) fragmentación: efecto de b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064360" cy="53895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685800" y="304920"/>
            <a:ext cx="8126280" cy="6324480"/>
            <a:chOff x="685800" y="304920"/>
            <a:chExt cx="8126280" cy="632448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4724280" y="3581280"/>
              <a:ext cx="4087800" cy="288792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1143000" y="3200400"/>
              <a:ext cx="2495520" cy="342900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685800" y="304920"/>
              <a:ext cx="3352680" cy="251280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4876920" y="304920"/>
              <a:ext cx="3887640" cy="291456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839880"/>
            <a:ext cx="7772400" cy="58132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685080" y="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RIABLES DE FRAG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380880" y="228600"/>
            <a:ext cx="8305200" cy="6395760"/>
            <a:chOff x="380880" y="228600"/>
            <a:chExt cx="8305200" cy="6395760"/>
          </a:xfrm>
        </p:grpSpPr>
        <p:grpSp>
          <p:nvGrpSpPr>
            <p:cNvPr id="251" name=""/>
            <p:cNvGrpSpPr/>
            <p:nvPr/>
          </p:nvGrpSpPr>
          <p:grpSpPr>
            <a:xfrm>
              <a:off x="380880" y="1302120"/>
              <a:ext cx="8305200" cy="5322240"/>
              <a:chOff x="380880" y="1302120"/>
              <a:chExt cx="8305200" cy="532224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302120"/>
                <a:ext cx="8305200" cy="4742280"/>
              </a:xfrm>
              <a:prstGeom prst="rect">
                <a:avLst/>
              </a:prstGeom>
              <a:ln w="38160">
                <a:solidFill>
                  <a:srgbClr val="cc3300"/>
                </a:solidFill>
                <a:miter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3634560" y="6256080"/>
                <a:ext cx="161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800" spc="-1" strike="noStrike">
                    <a:solidFill>
                      <a:srgbClr val="000000"/>
                    </a:solidFill>
                    <a:latin typeface="Times New Roman"/>
                  </a:rPr>
                  <a:t>Primack (199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314720" y="228600"/>
              <a:ext cx="56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Efecto borde depende del </a:t>
              </a:r>
              <a:r>
                <a:rPr b="0" sz="3200" spc="-1" strike="noStrike">
                  <a:solidFill>
                    <a:srgbClr val="cc3300"/>
                  </a:solidFill>
                  <a:latin typeface="Times New Roman"/>
                </a:rPr>
                <a:t>tamañ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276720" y="1828800"/>
            <a:ext cx="2819160" cy="4343400"/>
            <a:chOff x="3276720" y="1828800"/>
            <a:chExt cx="2819160" cy="4343400"/>
          </a:xfrm>
        </p:grpSpPr>
        <p:sp>
          <p:nvSpPr>
            <p:cNvPr id="55" name=""/>
            <p:cNvSpPr/>
            <p:nvPr/>
          </p:nvSpPr>
          <p:spPr>
            <a:xfrm>
              <a:off x="3276720" y="1828800"/>
              <a:ext cx="2819160" cy="434340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3352680" y="1905120"/>
              <a:ext cx="2713320" cy="419076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</p:grpSp>
      <p:sp>
        <p:nvSpPr>
          <p:cNvPr id="57" name=""/>
          <p:cNvSpPr/>
          <p:nvPr/>
        </p:nvSpPr>
        <p:spPr>
          <a:xfrm>
            <a:off x="3053160" y="68580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META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pob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s subpoblaciones que se conectan por procesos de mi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subpoblaciones en lugares fuente y otras en lugares de resumi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724280"/>
            <a:ext cx="83844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895480"/>
            <a:ext cx="838080" cy="990720"/>
          </a:xfrm>
          <a:custGeom>
            <a:avLst/>
            <a:gdLst>
              <a:gd name="textAreaLeft" fmla="*/ 0 w 838080"/>
              <a:gd name="textAreaRight" fmla="*/ 838440 w 838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arcTo wR="0" hR="0" stAng="16200000" swAng="-5400000"/>
                <a:lnTo>
                  <a:pt x="0" y="25532"/>
                </a:lnTo>
                <a:arcTo wR="0" hR="0" stAng="10800000" swAng="-5400000"/>
                <a:lnTo>
                  <a:pt x="21600" y="2553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1523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5181480"/>
            <a:ext cx="4572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5486400"/>
            <a:ext cx="2057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01000" y="3276720"/>
            <a:ext cx="914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267080"/>
            <a:ext cx="457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2895480"/>
            <a:ext cx="457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525780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7" idx="5"/>
            <a:endCxn id="65" idx="7"/>
          </p:cNvCxnSpPr>
          <p:nvPr/>
        </p:nvCxnSpPr>
        <p:spPr>
          <a:xfrm>
            <a:off x="6867360" y="4983120"/>
            <a:ext cx="22320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8" idx="4"/>
            <a:endCxn id="67" idx="7"/>
          </p:cNvCxnSpPr>
          <p:nvPr/>
        </p:nvCxnSpPr>
        <p:spPr>
          <a:xfrm flipH="1">
            <a:off x="6866640" y="3733560"/>
            <a:ext cx="14364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315200" y="34290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886200"/>
            <a:ext cx="75960" cy="762120"/>
          </a:xfrm>
          <a:prstGeom prst="upDownArrow">
            <a:avLst>
              <a:gd name="adj1" fmla="val 50000"/>
              <a:gd name="adj2" fmla="val 1997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8" idx="0"/>
            <a:endCxn id="60" idx="3"/>
          </p:cNvCxnSpPr>
          <p:nvPr/>
        </p:nvCxnSpPr>
        <p:spPr>
          <a:xfrm flipV="1" rot="16200000">
            <a:off x="6476400" y="2361240"/>
            <a:ext cx="61020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" name=""/>
          <p:cNvCxnSpPr>
            <a:stCxn id="68" idx="5"/>
            <a:endCxn id="64" idx="0"/>
          </p:cNvCxnSpPr>
          <p:nvPr/>
        </p:nvCxnSpPr>
        <p:spPr>
          <a:xfrm flipH="1" rot="16200000">
            <a:off x="6876720" y="3905640"/>
            <a:ext cx="1570680" cy="981720"/>
          </a:xfrm>
          <a:prstGeom prst="bentConnector3">
            <a:avLst>
              <a:gd name="adj1" fmla="val 53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7"/>
            <a:endCxn id="63" idx="2"/>
          </p:cNvCxnSpPr>
          <p:nvPr/>
        </p:nvCxnSpPr>
        <p:spPr>
          <a:xfrm flipV="1">
            <a:off x="7171920" y="2361600"/>
            <a:ext cx="63900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rigen de las metapobl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 de la heterogeneidad esp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s de accione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eterogeneidad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medioambientales están en p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ntos ambientales se dan con diferentes inten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una dinámica de extinciones y colonizaciones de p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érdida de hábi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y dis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63640" y="2349360"/>
            <a:ext cx="2087640" cy="20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2133720"/>
            <a:ext cx="2519640" cy="25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4653000"/>
            <a:ext cx="792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197000"/>
            <a:ext cx="2087280" cy="20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4149720"/>
            <a:ext cx="187020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1557360"/>
            <a:ext cx="136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4920" y="4816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37640" y="3305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53640" y="6040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5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4000" y="10000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ecto de borde = 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334120" y="380880"/>
            <a:ext cx="2450520" cy="2057040"/>
            <a:chOff x="5334120" y="380880"/>
            <a:chExt cx="2450520" cy="2057040"/>
          </a:xfrm>
        </p:grpSpPr>
        <p:sp>
          <p:nvSpPr>
            <p:cNvPr id="92" name=""/>
            <p:cNvSpPr/>
            <p:nvPr/>
          </p:nvSpPr>
          <p:spPr>
            <a:xfrm>
              <a:off x="5651280" y="631080"/>
              <a:ext cx="1510920" cy="1094400"/>
            </a:xfrm>
            <a:custGeom>
              <a:avLst/>
              <a:gdLst/>
              <a:ahLst/>
              <a:rect l="l" t="t" r="r" b="b"/>
              <a:pathLst>
                <a:path w="952" h="700">
                  <a:moveTo>
                    <a:pt x="14" y="0"/>
                  </a:moveTo>
                  <a:lnTo>
                    <a:pt x="0" y="17"/>
                  </a:lnTo>
                  <a:lnTo>
                    <a:pt x="938" y="700"/>
                  </a:lnTo>
                  <a:lnTo>
                    <a:pt x="952" y="68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0200" y="1801080"/>
              <a:ext cx="190008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9280" y="1827720"/>
              <a:ext cx="2025360" cy="61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amaño del par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465120"/>
              <a:ext cx="276120" cy="2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57160" y="49176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1280" y="380880"/>
              <a:ext cx="36360" cy="1334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51280" y="1719720"/>
              <a:ext cx="1758600" cy="3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403280" y="404640"/>
            <a:ext cx="2170080" cy="1807200"/>
            <a:chOff x="1403280" y="404640"/>
            <a:chExt cx="2170080" cy="1807200"/>
          </a:xfrm>
        </p:grpSpPr>
        <p:sp>
          <p:nvSpPr>
            <p:cNvPr id="100" name=""/>
            <p:cNvSpPr/>
            <p:nvPr/>
          </p:nvSpPr>
          <p:spPr>
            <a:xfrm>
              <a:off x="1795320" y="404640"/>
              <a:ext cx="36720" cy="135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14400" y="1741320"/>
              <a:ext cx="175896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79720" y="1900080"/>
              <a:ext cx="95724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41480" y="1906560"/>
              <a:ext cx="9777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409320"/>
              <a:ext cx="4161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29560" y="43632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87400" y="687240"/>
              <a:ext cx="1511280" cy="1111320"/>
            </a:xfrm>
            <a:custGeom>
              <a:avLst/>
              <a:gdLst/>
              <a:ahLst/>
              <a:rect l="l" t="t" r="r" b="b"/>
              <a:pathLst>
                <a:path w="952" h="700">
                  <a:moveTo>
                    <a:pt x="14" y="0"/>
                  </a:moveTo>
                  <a:lnTo>
                    <a:pt x="0" y="17"/>
                  </a:lnTo>
                  <a:lnTo>
                    <a:pt x="938" y="700"/>
                  </a:lnTo>
                  <a:lnTo>
                    <a:pt x="952" y="68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2852640"/>
            <a:ext cx="5749920" cy="3255840"/>
            <a:chOff x="1619280" y="2852640"/>
            <a:chExt cx="5749920" cy="3255840"/>
          </a:xfrm>
        </p:grpSpPr>
        <p:sp>
          <p:nvSpPr>
            <p:cNvPr id="108" name=""/>
            <p:cNvSpPr/>
            <p:nvPr/>
          </p:nvSpPr>
          <p:spPr>
            <a:xfrm>
              <a:off x="1619280" y="3376440"/>
              <a:ext cx="5686560" cy="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852640"/>
              <a:ext cx="36360" cy="32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4920" y="2852640"/>
              <a:ext cx="36720" cy="32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19280" y="4595760"/>
              <a:ext cx="568656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14680" y="3801960"/>
              <a:ext cx="14004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4680" y="380196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4680" y="4071960"/>
              <a:ext cx="14004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4680" y="407196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3240" y="4884480"/>
              <a:ext cx="389160" cy="389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84680" y="4884480"/>
              <a:ext cx="388800" cy="389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3240" y="5427360"/>
              <a:ext cx="389160" cy="387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4680" y="5427360"/>
              <a:ext cx="388800" cy="387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1680" y="4727520"/>
              <a:ext cx="411120" cy="414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36000" y="4727520"/>
              <a:ext cx="409320" cy="414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3640" y="5697360"/>
              <a:ext cx="41148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57960" y="5697360"/>
              <a:ext cx="40968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440" y="366552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440" y="434340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7960" y="366552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7960" y="434340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627720" y="3033720"/>
              <a:ext cx="269640" cy="136440"/>
              <a:chOff x="3627720" y="3033720"/>
              <a:chExt cx="269640" cy="136440"/>
            </a:xfrm>
          </p:grpSpPr>
          <p:sp>
            <p:nvSpPr>
              <p:cNvPr id="129" name=""/>
              <p:cNvSpPr/>
              <p:nvPr/>
            </p:nvSpPr>
            <p:spPr>
              <a:xfrm>
                <a:off x="3748320" y="3084480"/>
                <a:ext cx="28440" cy="3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27720" y="303372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0"/>
                    </a:moveTo>
                    <a:lnTo>
                      <a:pt x="0" y="43"/>
                    </a:lnTo>
                    <a:lnTo>
                      <a:pt x="82" y="8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67400" y="303840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0" y="83"/>
                    </a:moveTo>
                    <a:lnTo>
                      <a:pt x="82" y="43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523120" y="3033720"/>
              <a:ext cx="1082520" cy="139680"/>
              <a:chOff x="5523120" y="3033720"/>
              <a:chExt cx="1082520" cy="139680"/>
            </a:xfrm>
          </p:grpSpPr>
          <p:sp>
            <p:nvSpPr>
              <p:cNvPr id="133" name=""/>
              <p:cNvSpPr/>
              <p:nvPr/>
            </p:nvSpPr>
            <p:spPr>
              <a:xfrm>
                <a:off x="5645160" y="3084480"/>
                <a:ext cx="838440" cy="39600"/>
              </a:xfrm>
              <a:custGeom>
                <a:avLst/>
                <a:gdLst/>
                <a:ahLst/>
                <a:rect l="l" t="t" r="r" b="b"/>
                <a:pathLst>
                  <a:path w="528" h="25">
                    <a:moveTo>
                      <a:pt x="0" y="0"/>
                    </a:moveTo>
                    <a:lnTo>
                      <a:pt x="0" y="22"/>
                    </a:lnTo>
                    <a:lnTo>
                      <a:pt x="528" y="25"/>
                    </a:lnTo>
                    <a:lnTo>
                      <a:pt x="52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23120" y="303372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0"/>
                    </a:moveTo>
                    <a:lnTo>
                      <a:pt x="0" y="43"/>
                    </a:lnTo>
                    <a:lnTo>
                      <a:pt x="82" y="8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75680" y="3043080"/>
                <a:ext cx="12996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160720" y="393696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01960" y="5133960"/>
              <a:ext cx="41112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4440" y="4989240"/>
              <a:ext cx="2808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03160" y="499572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94440" y="5413320"/>
              <a:ext cx="28080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2160" y="5440320"/>
              <a:ext cx="5868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79480" y="54529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99120" y="3657600"/>
              <a:ext cx="276120" cy="27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22160" y="368460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502160" y="3657600"/>
              <a:ext cx="131760" cy="210960"/>
              <a:chOff x="4502160" y="3657600"/>
              <a:chExt cx="131760" cy="210960"/>
            </a:xfrm>
          </p:grpSpPr>
          <p:sp>
            <p:nvSpPr>
              <p:cNvPr id="146" name=""/>
              <p:cNvSpPr/>
              <p:nvPr/>
            </p:nvSpPr>
            <p:spPr>
              <a:xfrm>
                <a:off x="4548240" y="365760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02160" y="365760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299120" y="4081320"/>
              <a:ext cx="27612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22160" y="4108320"/>
              <a:ext cx="17136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502160" y="4081320"/>
              <a:ext cx="131760" cy="217440"/>
              <a:chOff x="4502160" y="4081320"/>
              <a:chExt cx="131760" cy="217440"/>
            </a:xfrm>
          </p:grpSpPr>
          <p:sp>
            <p:nvSpPr>
              <p:cNvPr id="151" name=""/>
              <p:cNvSpPr/>
              <p:nvPr/>
            </p:nvSpPr>
            <p:spPr>
              <a:xfrm>
                <a:off x="4548240" y="408132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02160" y="40813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83" y="83"/>
                    </a:moveTo>
                    <a:lnTo>
                      <a:pt x="40" y="0"/>
                    </a:lnTo>
                    <a:lnTo>
                      <a:pt x="0" y="83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007400" y="4989240"/>
              <a:ext cx="27612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30440" y="501624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205760" y="4989240"/>
              <a:ext cx="131760" cy="211320"/>
              <a:chOff x="7205760" y="4989240"/>
              <a:chExt cx="131760" cy="211320"/>
            </a:xfrm>
          </p:grpSpPr>
          <p:sp>
            <p:nvSpPr>
              <p:cNvPr id="156" name=""/>
              <p:cNvSpPr/>
              <p:nvPr/>
            </p:nvSpPr>
            <p:spPr>
              <a:xfrm>
                <a:off x="7256520" y="4989240"/>
                <a:ext cx="34920" cy="211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05760" y="5070240"/>
                <a:ext cx="131760" cy="1303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43" y="82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7007400" y="5413320"/>
              <a:ext cx="27612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30440" y="5440320"/>
              <a:ext cx="586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8040" y="54403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205760" y="5413320"/>
              <a:ext cx="131760" cy="217440"/>
              <a:chOff x="7205760" y="5413320"/>
              <a:chExt cx="131760" cy="2174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56520" y="541332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05760" y="549900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0"/>
                    </a:moveTo>
                    <a:lnTo>
                      <a:pt x="43" y="83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034400" y="3665520"/>
              <a:ext cx="276120" cy="276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57440" y="3692520"/>
              <a:ext cx="21240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232760" y="3665520"/>
              <a:ext cx="131760" cy="212760"/>
              <a:chOff x="7232760" y="3665520"/>
              <a:chExt cx="131760" cy="212760"/>
            </a:xfrm>
          </p:grpSpPr>
          <p:sp>
            <p:nvSpPr>
              <p:cNvPr id="167" name=""/>
              <p:cNvSpPr/>
              <p:nvPr/>
            </p:nvSpPr>
            <p:spPr>
              <a:xfrm>
                <a:off x="7283520" y="3665520"/>
                <a:ext cx="34920" cy="212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32760" y="3747960"/>
                <a:ext cx="131760" cy="1303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43" y="82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034400" y="4095720"/>
              <a:ext cx="27612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57440" y="4125600"/>
              <a:ext cx="586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16480" y="41227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237440" y="4095720"/>
              <a:ext cx="131760" cy="210960"/>
              <a:chOff x="7237440" y="4095720"/>
              <a:chExt cx="131760" cy="210960"/>
            </a:xfrm>
          </p:grpSpPr>
          <p:sp>
            <p:nvSpPr>
              <p:cNvPr id="173" name=""/>
              <p:cNvSpPr/>
              <p:nvPr/>
            </p:nvSpPr>
            <p:spPr>
              <a:xfrm>
                <a:off x="7283520" y="409572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37440" y="409572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246560" y="5072040"/>
              <a:ext cx="131760" cy="210960"/>
              <a:chOff x="4246560" y="5072040"/>
              <a:chExt cx="131760" cy="210960"/>
            </a:xfrm>
          </p:grpSpPr>
          <p:sp>
            <p:nvSpPr>
              <p:cNvPr id="176" name=""/>
              <p:cNvSpPr/>
              <p:nvPr/>
            </p:nvSpPr>
            <p:spPr>
              <a:xfrm>
                <a:off x="4292640" y="507204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46560" y="507204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22880" y="5529240"/>
              <a:ext cx="131760" cy="217440"/>
              <a:chOff x="4322880" y="5529240"/>
              <a:chExt cx="131760" cy="217440"/>
            </a:xfrm>
          </p:grpSpPr>
          <p:sp>
            <p:nvSpPr>
              <p:cNvPr id="179" name=""/>
              <p:cNvSpPr/>
              <p:nvPr/>
            </p:nvSpPr>
            <p:spPr>
              <a:xfrm>
                <a:off x="4373640" y="552924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22880" y="56149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0"/>
                    </a:moveTo>
                    <a:lnTo>
                      <a:pt x="43" y="83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547640" y="1295280"/>
            <a:ext cx="5614920" cy="5229000"/>
            <a:chOff x="1547640" y="1295280"/>
            <a:chExt cx="5614920" cy="5229000"/>
          </a:xfrm>
        </p:grpSpPr>
        <p:sp>
          <p:nvSpPr>
            <p:cNvPr id="182" name=""/>
            <p:cNvSpPr/>
            <p:nvPr/>
          </p:nvSpPr>
          <p:spPr>
            <a:xfrm>
              <a:off x="1547640" y="1295280"/>
              <a:ext cx="5614920" cy="522900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628640" y="1374480"/>
              <a:ext cx="5452560" cy="50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623160" y="228600"/>
            <a:ext cx="79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TRAS VARIABLES QUE AFECTAN LAEXTIN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OLONIZACIÓN EN METAPOB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3:19:42Z</dcterms:created>
  <dc:creator>pedro cattan</dc:creator>
  <dc:description/>
  <dc:language>en-US</dc:language>
  <cp:lastModifiedBy>Plagas</cp:lastModifiedBy>
  <dcterms:modified xsi:type="dcterms:W3CDTF">2007-10-16T08:53:48Z</dcterms:modified>
  <cp:revision>14</cp:revision>
  <dc:subject/>
  <dc:title>metapoblaciones</dc:title>
</cp:coreProperties>
</file>