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877-EB4D-4C41-B555-CCFB02C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879-DAA3-4F24-8BC4-CF984CF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05A-EEC3-463D-834F-67BD8FD1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142-CAC5-4F65-A0E4-B5322564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EF1-BA7F-4C97-8257-874D513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ACB-02DE-44EA-AE33-55FFC850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4B5-F3D0-4262-B996-AC5532F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F3F-A91A-4A7A-B240-33E8188B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1DC-2E98-4C86-86D0-B2C1FAB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3F2-9630-4168-BD61-F19BFE8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12B-69C0-4DD5-B1B0-18F8DBC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689-BDC5-455E-B800-D50DE39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2E31-9F24-4843-8AF3-992AEE101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ecedentes de la Psicolingüís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linchón et al. 1992, Jenschke 1923, Lenz 19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1280" y="2590920"/>
            <a:ext cx="198144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4114800"/>
            <a:ext cx="26668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16765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ones de lingüística jeneral según las clases del Prof. Dr. Rodolfo Lenz”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 L. Jenschke, 19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álisis del 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a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14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ógico y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1960" y="5410080"/>
            <a:ext cx="65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refiere a la expresión de juicios y sent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85" idx="1"/>
          </p:cNvCxnSpPr>
          <p:nvPr/>
        </p:nvCxnSpPr>
        <p:spPr>
          <a:xfrm flipV="1">
            <a:off x="2362320" y="2857320"/>
            <a:ext cx="1219680" cy="876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7" idx="3"/>
            <a:endCxn id="86" idx="1"/>
          </p:cNvCxnSpPr>
          <p:nvPr/>
        </p:nvCxnSpPr>
        <p:spPr>
          <a:xfrm>
            <a:off x="2362320" y="3733560"/>
            <a:ext cx="1296000" cy="648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2362320"/>
            <a:ext cx="7848360" cy="297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oración es la expresión fonética (o lingüística) de la descomposición intencional de una representación total en sus elementos lógicamente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z, 1920: #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1676520"/>
            <a:ext cx="7086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819520"/>
            <a:ext cx="21337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hler: el modelo del órganon (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51460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49568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733920"/>
            <a:ext cx="533520" cy="45720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9568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7"/>
            <a:endCxn id="104" idx="3"/>
          </p:cNvCxnSpPr>
          <p:nvPr/>
        </p:nvCxnSpPr>
        <p:spPr>
          <a:xfrm flipV="1">
            <a:off x="3427560" y="4123800"/>
            <a:ext cx="918000" cy="4392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107" name=""/>
          <p:cNvCxnSpPr>
            <a:stCxn id="104" idx="0"/>
            <a:endCxn id="102" idx="4"/>
          </p:cNvCxnSpPr>
          <p:nvPr/>
        </p:nvCxnSpPr>
        <p:spPr>
          <a:xfrm flipV="1">
            <a:off x="4533480" y="297108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108" name=""/>
          <p:cNvCxnSpPr>
            <a:stCxn id="104" idx="5"/>
            <a:endCxn id="105" idx="1"/>
          </p:cNvCxnSpPr>
          <p:nvPr/>
        </p:nvCxnSpPr>
        <p:spPr>
          <a:xfrm>
            <a:off x="4722480" y="4124160"/>
            <a:ext cx="765720" cy="4392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09" name=""/>
          <p:cNvSpPr/>
          <p:nvPr/>
        </p:nvSpPr>
        <p:spPr>
          <a:xfrm>
            <a:off x="30481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4952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5146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nómeno percep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abitualmente acús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104" idx="7"/>
          </p:cNvCxnSpPr>
          <p:nvPr/>
        </p:nvCxnSpPr>
        <p:spPr>
          <a:xfrm flipH="1">
            <a:off x="4722480" y="2904840"/>
            <a:ext cx="91656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hler: el modelo del órganon (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048120"/>
            <a:ext cx="18288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12600">
            <a:off x="3048120" y="3199680"/>
            <a:ext cx="1828800" cy="1600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752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y 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7760" y="1828800"/>
            <a:ext cx="5766120" cy="495360"/>
          </a:xfrm>
          <a:custGeom>
            <a:avLst/>
            <a:gdLst/>
            <a:ahLst/>
            <a:rect l="l" t="t" r="r" b="b"/>
            <a:pathLst>
              <a:path w="3632" h="312">
                <a:moveTo>
                  <a:pt x="56" y="0"/>
                </a:moveTo>
                <a:cubicBezTo>
                  <a:pt x="28" y="60"/>
                  <a:pt x="0" y="120"/>
                  <a:pt x="104" y="144"/>
                </a:cubicBezTo>
                <a:cubicBezTo>
                  <a:pt x="208" y="168"/>
                  <a:pt x="536" y="120"/>
                  <a:pt x="680" y="144"/>
                </a:cubicBezTo>
                <a:cubicBezTo>
                  <a:pt x="824" y="168"/>
                  <a:pt x="608" y="264"/>
                  <a:pt x="968" y="288"/>
                </a:cubicBezTo>
                <a:cubicBezTo>
                  <a:pt x="1328" y="312"/>
                  <a:pt x="2480" y="312"/>
                  <a:pt x="2840" y="288"/>
                </a:cubicBezTo>
                <a:cubicBezTo>
                  <a:pt x="3200" y="264"/>
                  <a:pt x="3008" y="168"/>
                  <a:pt x="3128" y="144"/>
                </a:cubicBezTo>
                <a:cubicBezTo>
                  <a:pt x="3248" y="120"/>
                  <a:pt x="3488" y="168"/>
                  <a:pt x="3560" y="144"/>
                </a:cubicBezTo>
                <a:cubicBezTo>
                  <a:pt x="3632" y="120"/>
                  <a:pt x="3560" y="24"/>
                  <a:pt x="35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429000"/>
            <a:ext cx="2120760" cy="3441600"/>
          </a:xfrm>
          <a:custGeom>
            <a:avLst/>
            <a:gdLst/>
            <a:ahLst/>
            <a:rect l="l" t="t" r="r" b="b"/>
            <a:pathLst>
              <a:path w="1336" h="2168">
                <a:moveTo>
                  <a:pt x="328" y="1976"/>
                </a:moveTo>
                <a:cubicBezTo>
                  <a:pt x="164" y="2072"/>
                  <a:pt x="0" y="2168"/>
                  <a:pt x="136" y="1880"/>
                </a:cubicBezTo>
                <a:cubicBezTo>
                  <a:pt x="272" y="1592"/>
                  <a:pt x="952" y="496"/>
                  <a:pt x="1144" y="248"/>
                </a:cubicBezTo>
                <a:cubicBezTo>
                  <a:pt x="1336" y="0"/>
                  <a:pt x="1264" y="368"/>
                  <a:pt x="1288" y="39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7079400">
            <a:off x="1193760" y="3301920"/>
            <a:ext cx="2120760" cy="3441600"/>
          </a:xfrm>
          <a:custGeom>
            <a:avLst/>
            <a:gdLst/>
            <a:ahLst/>
            <a:rect l="l" t="t" r="r" b="b"/>
            <a:pathLst>
              <a:path w="1336" h="2168">
                <a:moveTo>
                  <a:pt x="328" y="1976"/>
                </a:moveTo>
                <a:cubicBezTo>
                  <a:pt x="164" y="2072"/>
                  <a:pt x="0" y="2168"/>
                  <a:pt x="136" y="1880"/>
                </a:cubicBezTo>
                <a:cubicBezTo>
                  <a:pt x="272" y="1592"/>
                  <a:pt x="952" y="496"/>
                  <a:pt x="1144" y="248"/>
                </a:cubicBezTo>
                <a:cubicBezTo>
                  <a:pt x="1336" y="0"/>
                  <a:pt x="1264" y="368"/>
                  <a:pt x="1288" y="39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81080" y="35809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057400" y="38095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39621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86000" y="41144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62320" y="42667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3828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45716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733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7242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4572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505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58128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733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9720" y="3581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9625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956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343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57800" y="3886200"/>
            <a:ext cx="32004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32004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22096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362320"/>
            <a:ext cx="220968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352680"/>
            <a:ext cx="14479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o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96252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idad 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nerge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590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icología de los pueb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91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icología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30600">
            <a:off x="1815840" y="37069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422800">
            <a:off x="1828440" y="33526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72428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006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güística histórica y comparad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867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rensión y producción de o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ad básica: oració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la palab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l hab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ercepción de una impresión general de la conci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atención analiza la impresión apercibida e identifica sus componentes elementales y las relaciones estructurales entre es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relación estructural lógica sujeto-predicado constituye la base de la o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 orden de los constituyentes lingüísticos en la oración influye en la reconstrucción de la impresión general de la conciencia por parte del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ítica al asociacionismo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psiquis humana opera con funciones analíticas y sin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oración es el todo inicial que se descompone en palabras y no al rev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étodo introspect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ta de 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47920" y="1905120"/>
          <a:ext cx="616428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16428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62320" y="2438280"/>
          <a:ext cx="43815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38280"/>
                    <a:ext cx="43815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2209680"/>
          <a:ext cx="529596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29596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95680" y="533520"/>
            <a:ext cx="15242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33520"/>
            <a:ext cx="15238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U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762120"/>
            <a:ext cx="2057400" cy="228600"/>
          </a:xfrm>
          <a:prstGeom prst="rightArrow">
            <a:avLst>
              <a:gd name="adj1" fmla="val 50000"/>
              <a:gd name="adj2" fmla="val 2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971800"/>
            <a:ext cx="7315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este libro se ensaya por primera vez (ateniéndose el autor principalmente a las opiniones de Wundt) poner en conexión los estudios de psicología lingüística con los de la lengua española. Desde este punto de vista, el señor Lenz estudia y discute el valor de muchas construcciones sintácticas, y traza normas para el uso correcto, en atención a su génesis psicológ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ón Menéndez Pi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oración y sus partes. Estudios de gramática general y castella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2193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0:03:21Z</dcterms:created>
  <dc:creator>Guillermo Soto</dc:creator>
  <dc:description/>
  <dc:language>en-US</dc:language>
  <cp:lastModifiedBy>Filosofia filosofia</cp:lastModifiedBy>
  <dcterms:modified xsi:type="dcterms:W3CDTF">2003-08-14T18:30:18Z</dcterms:modified>
  <cp:revision>38</cp:revision>
  <dc:subject/>
  <dc:title>Antecedentes de la Psicolingüística (Belinchón et al. 1992)</dc:title>
</cp:coreProperties>
</file>