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C8F-B1CF-4CB5-B689-15BC9B0B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0CA-61A8-4E22-BE8E-4C01CC7E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1B2-E16D-4D93-8BED-D0FAF331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1E3-84D4-4DCC-BD2A-5217A97A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32B-90A1-4129-93CB-9A6DE575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5DC-4EC5-43D9-AB06-716866F8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BAE-F14F-48C4-861B-BC36D150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C33-1D59-4107-8185-92B7AB0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545-137F-4299-A4C1-A40CF14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0A2-7EF9-4321-99D3-3E51A15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4A6-89B7-4464-B550-7FC3544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5DE-09D2-4AB3-A3E5-3214F2B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FCC-2C3C-47B2-B8DB-9ABCF735E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 de la Psicolingüís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linchón et al. 1992, Jenschke 1923, Lenz 19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1280" y="2590920"/>
            <a:ext cx="198144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114800"/>
            <a:ext cx="26668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ones de lingüística jeneral según las clases del Prof. Dr. Rodolfo Lenz”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L. Jenschke, 19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álisis del 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a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14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ógico y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1960" y="541008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refiere a la expresión de juicios y sent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85" idx="1"/>
          </p:cNvCxnSpPr>
          <p:nvPr/>
        </p:nvCxnSpPr>
        <p:spPr>
          <a:xfrm flipV="1">
            <a:off x="2362320" y="2857320"/>
            <a:ext cx="1219680" cy="876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7" idx="3"/>
            <a:endCxn id="86" idx="1"/>
          </p:cNvCxnSpPr>
          <p:nvPr/>
        </p:nvCxnSpPr>
        <p:spPr>
          <a:xfrm>
            <a:off x="2362320" y="3733560"/>
            <a:ext cx="1296000" cy="648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2362320"/>
            <a:ext cx="7848360" cy="297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oración es la expresión fonética (o lingüística) de la descomposición intencional de una representación total en sus elementos lógicamente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z, 1920: #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1676520"/>
            <a:ext cx="7086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819520"/>
            <a:ext cx="21337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51460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733920"/>
            <a:ext cx="533520" cy="45720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7"/>
            <a:endCxn id="104" idx="3"/>
          </p:cNvCxnSpPr>
          <p:nvPr/>
        </p:nvCxnSpPr>
        <p:spPr>
          <a:xfrm flipV="1">
            <a:off x="3427560" y="4123800"/>
            <a:ext cx="91800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7" name=""/>
          <p:cNvCxnSpPr>
            <a:stCxn id="104" idx="0"/>
            <a:endCxn id="102" idx="4"/>
          </p:cNvCxnSpPr>
          <p:nvPr/>
        </p:nvCxnSpPr>
        <p:spPr>
          <a:xfrm flipV="1">
            <a:off x="4533480" y="297108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8" name=""/>
          <p:cNvCxnSpPr>
            <a:stCxn id="104" idx="5"/>
            <a:endCxn id="105" idx="1"/>
          </p:cNvCxnSpPr>
          <p:nvPr/>
        </p:nvCxnSpPr>
        <p:spPr>
          <a:xfrm>
            <a:off x="4722480" y="4124160"/>
            <a:ext cx="76572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09" name=""/>
          <p:cNvSpPr/>
          <p:nvPr/>
        </p:nvSpPr>
        <p:spPr>
          <a:xfrm>
            <a:off x="30481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4952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514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nómeno perce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abitualmente acús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104" idx="7"/>
          </p:cNvCxnSpPr>
          <p:nvPr/>
        </p:nvCxnSpPr>
        <p:spPr>
          <a:xfrm flipH="1">
            <a:off x="4722480" y="2904840"/>
            <a:ext cx="91656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048120"/>
            <a:ext cx="18288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12600">
            <a:off x="3048120" y="3199680"/>
            <a:ext cx="1828800" cy="1600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752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y 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7760" y="1828800"/>
            <a:ext cx="5766120" cy="495360"/>
          </a:xfrm>
          <a:custGeom>
            <a:avLst/>
            <a:gdLst/>
            <a:ahLst/>
            <a:rect l="l" t="t" r="r" b="b"/>
            <a:pathLst>
              <a:path w="3632" h="312">
                <a:moveTo>
                  <a:pt x="56" y="0"/>
                </a:moveTo>
                <a:cubicBezTo>
                  <a:pt x="28" y="60"/>
                  <a:pt x="0" y="120"/>
                  <a:pt x="104" y="144"/>
                </a:cubicBezTo>
                <a:cubicBezTo>
                  <a:pt x="208" y="168"/>
                  <a:pt x="536" y="120"/>
                  <a:pt x="680" y="144"/>
                </a:cubicBezTo>
                <a:cubicBezTo>
                  <a:pt x="824" y="168"/>
                  <a:pt x="608" y="264"/>
                  <a:pt x="968" y="288"/>
                </a:cubicBezTo>
                <a:cubicBezTo>
                  <a:pt x="1328" y="312"/>
                  <a:pt x="2480" y="312"/>
                  <a:pt x="2840" y="288"/>
                </a:cubicBezTo>
                <a:cubicBezTo>
                  <a:pt x="3200" y="264"/>
                  <a:pt x="3008" y="168"/>
                  <a:pt x="3128" y="144"/>
                </a:cubicBezTo>
                <a:cubicBezTo>
                  <a:pt x="3248" y="120"/>
                  <a:pt x="3488" y="168"/>
                  <a:pt x="3560" y="144"/>
                </a:cubicBezTo>
                <a:cubicBezTo>
                  <a:pt x="3632" y="120"/>
                  <a:pt x="3560" y="24"/>
                  <a:pt x="35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42900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079400">
            <a:off x="1193760" y="330192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81080" y="35809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057400" y="38095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39621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0" y="41144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62320" y="42667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5716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733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7242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572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505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58128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733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9720" y="3581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962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956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343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57800" y="38862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22096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362320"/>
            <a:ext cx="220968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352680"/>
            <a:ext cx="14479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o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96252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idad 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nerge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590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de los pueb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91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30600">
            <a:off x="1815840" y="37069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422800">
            <a:off x="1828440" y="33526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7242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006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güística histórica y comparad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867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rensión y producción de o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ad básica: oració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la palab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l ha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ercepción de una impresión general de la conci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atención analiza la impresión apercibida e identifica sus componentes elementales y las relaciones estructurales entre es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relación estructural lógica sujeto-predicado constituye la base de la o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 orden de los constituyentes lingüísticos en la oración influye en la reconstrucción de la impresión general de la conciencia por parte del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ítica al asociacionismo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psiquis humana opera con funciones analíticas y sin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oración es el todo inicial que se descompone en palabras y no al rev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étodo introspect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ta de 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47920" y="1905120"/>
          <a:ext cx="616428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16428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62320" y="2438280"/>
          <a:ext cx="43815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43815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2209680"/>
          <a:ext cx="529596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29596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95680" y="533520"/>
            <a:ext cx="15242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33520"/>
            <a:ext cx="1523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76212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971800"/>
            <a:ext cx="7315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este libro se ensaya por primera vez (ateniéndose el autor principalmente a las opiniones de Wundt) poner en conexión los estudios de psicología lingüística con los de la lengua española. Desde este punto de vista, el señor Lenz estudia y discute el valor de muchas construcciones sintácticas, y traza normas para el uso correcto, en atención a su génesis psicológ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ón Menéndez Pi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oración y sus partes. Estudios de gramática general y castella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2193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3:21Z</dcterms:created>
  <dc:creator>Guillermo Soto</dc:creator>
  <dc:description/>
  <dc:language>en-US</dc:language>
  <cp:lastModifiedBy>Filosofia filosofia</cp:lastModifiedBy>
  <dcterms:modified xsi:type="dcterms:W3CDTF">2003-08-14T18:30:18Z</dcterms:modified>
  <cp:revision>38</cp:revision>
  <dc:subject/>
  <dc:title>Antecedentes de la Psicolingüística (Belinchón et al. 1992)</dc:title>
</cp:coreProperties>
</file>