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55C-C769-4301-8B66-BA9070F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7EA-B4A8-4773-9750-D393AA1F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3E-232F-43BE-833A-DEE1C1D1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39B-8137-4CD2-9B40-B594FCFE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7A2F-A479-4AD6-B1C1-9D3AE10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4EBF-86D4-444A-B3C8-FF03CA0C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4E9-4065-4752-BF34-5EAE897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DEB-736C-4114-927C-3D6D959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C9D-94AC-486A-A90C-52C6870C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8A5E-F04F-4F4A-8E21-D9AFC3E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81F-81BA-427F-A16F-E525C70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EED-EA9E-408D-A6F3-99245C3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083-D8C4-4895-9C3E-5457AA4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6D59-6888-4FFD-BA67-0AB4497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39EB-ADDF-4EC0-B654-3637016E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D18C-29D8-4B34-B1FF-5F53C1A8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64EF-D035-43E9-95B2-A86C18C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4D5-1E97-40D9-AB63-DBB9BBB4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6E7-B477-486C-8789-9026165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5DE-114B-4F78-BD6A-605187F5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EDD-647C-48CA-BD90-E972F69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EBC-9D2B-42B2-BC9F-1EEEA25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CCD-20BE-4D0C-B0E0-21FD38C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60A-08CB-4E7D-8F98-C7BF924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041-1E3D-4429-87D3-E8D60D95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28C7-8784-4F4B-A43F-95045003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llermo S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good y Sebeok 195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un sentido más estricto, la Psicolingüística estudia procesos a través de los cuales las intenciones de los hablantes se transforman en señales según un código aceptado culturalmente y aquellos otros por los que estas señales se transforman en interpretaciones de los oy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good, C.E. y T. Sebeok 1954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sycholinguistics: A survey of theory and research problem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807240" cy="494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62480" y="55879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ioniso, el dios nacido dos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6583320"/>
            <a:ext cx="45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os borrachos o el triunfo de Baco, Velás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obin 197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reúne los fundamentos empíricos de la psicología y de la lingüística para estudiar los procesos mentales que subyacen a la adquisición y el uso del lengu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suma, pues, los psicolingüistas se interesan por el conocimiento y por la capacidad subyacentes que debemos tener para poder utilizar el lenguaje y aprender en la infancia a usar la len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bin, D. 1971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ción a la Psicolingüíst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Buenos Aires: Paidós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man 199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, como su nombre lo implica, tiene que ver básicamente con el lenguaje como fenómeno sicológico; y, más característicamente, con el lenguaje en el individuo. Así, se hace cargo de preguntas tales como: ‘¿Cómo logra un oyente reconocer las palabras en el flujo del habla, o en los patrones en la página, y llegar a comprender las oraciones?’ y ‘¿Cómo logra un hablante ir poniendo ideas en formas que puedan expresarse como patrones articulatorios, manuales o de movimiento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rman, 1990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inguistic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ridge: Cambridge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rroll 199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es el estudio de la forma en que los individu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quier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l lenguaj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oll, D., 1994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y of languag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nd edition. Pacific Grove, CA: Brooks/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6:43:59Z</dcterms:created>
  <dc:creator>Guillermo Soto</dc:creator>
  <dc:description/>
  <dc:language>en-US</dc:language>
  <cp:lastModifiedBy>FFH030</cp:lastModifiedBy>
  <cp:lastPrinted>2004-08-23T22:52:00Z</cp:lastPrinted>
  <dcterms:modified xsi:type="dcterms:W3CDTF">2008-01-30T23:23:51Z</dcterms:modified>
  <cp:revision>11</cp:revision>
  <dc:subject/>
  <dc:title>Definiciones de psicolingüística: Osgood y Sebeok 1954</dc:title>
</cp:coreProperties>
</file>