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A63-202A-4F5C-A469-0E84BFAE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347-8392-4DC8-906E-EB007B41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280-D332-4F54-95F8-996210A1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175-EDC3-4E09-BB25-086EA227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9D47-C7CF-46A8-A7A5-FCA83997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80F1-78C8-4999-96E7-0912CF36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84E0-399B-4423-9479-FA909BEF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5FCC-2DB4-4E8A-AEB9-2C3CDA96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66BE-579C-402C-8F48-114F5EC6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0BC1-0853-4B34-83DB-833D2732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51A2-56D5-469D-9184-4155EDE9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3C6-118B-4BDF-BB90-F2F6C390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B2C9-B84B-4DEC-8366-EC778636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0D1F-A973-4197-847F-7A79B61D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3D1C-71D3-4DBA-A5DF-3D646666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1F5F-ACDA-48C8-B8CC-82E31A90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D4FD-D16C-4826-94CA-A2865793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442-C813-4004-95E2-8DD0CF60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1DD-78CF-4B07-9100-5EE5BCA4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2DB-5372-4454-B77F-14A42EBD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FC6-5ADC-4940-9A65-AC2F42A1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0A1-5544-4F6B-951A-FE897CDB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BDF-AB04-477B-9BA2-2057808A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E44-5179-411F-B379-37524E36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1C49-DA4B-4E6D-A59B-AED12FC7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34CD-72B9-4F09-9799-4F78A9A97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illermo S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sgood y Sebeok 195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un sentido más estricto, la Psicolingüística estudia procesos a través de los cuales las intenciones de los hablantes se transforman en señales según un código aceptado culturalmente y aquellos otros por los que estas señales se transforman en interpretaciones de los oy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sgood, C.E. y T. Sebeok 1954: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sycholinguistics: A survey of theory and research problem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807240" cy="4945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62480" y="558792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ioniso, el dios nacido dos v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6583320"/>
            <a:ext cx="45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os borrachos o el triunfo de Baco, Velásq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lobin 197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psicolingüística reúne los fundamentos empíricos de la psicología y de la lingüística para estudiar los procesos mentales que subyacen a la adquisición y el uso del lengua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suma, pues, los psicolingüistas se interesan por el conocimiento y por la capacidad subyacentes que debemos tener para poder utilizar el lenguaje y aprender en la infancia a usar la leng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bin, D. 1971: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roducción a la Psicolingüístic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Buenos Aires: Paidós, 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arman 199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psicolingüística, como su nombre lo implica, tiene que ver básicamente con el lenguaje como fenómeno sicológico; y, más característicamente, con el lenguaje en el individuo. Así, se hace cargo de preguntas tales como: ‘¿Cómo logra un oyente reconocer las palabras en el flujo del habla, o en los patrones en la página, y llegar a comprender las oraciones?’ y ‘¿Cómo logra un hablante ir poniendo ideas en formas que puedan expresarse como patrones articulatorios, manuales o de movimiento?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rman, 1990: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sycholinguistic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Cambridge: Cambridge University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rroll 199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sicolingüística es el estudio de la forma en que los individuo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nd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quier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l lenguaj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roll, D., 1994: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sychology of languag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nd edition. Pacific Grove, CA: Brooks/C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06:43:59Z</dcterms:created>
  <dc:creator>Guillermo Soto</dc:creator>
  <dc:description/>
  <dc:language>en-US</dc:language>
  <cp:lastModifiedBy>FFH030</cp:lastModifiedBy>
  <cp:lastPrinted>2004-08-23T22:52:00Z</cp:lastPrinted>
  <dcterms:modified xsi:type="dcterms:W3CDTF">2008-01-30T23:23:51Z</dcterms:modified>
  <cp:revision>11</cp:revision>
  <dc:subject/>
  <dc:title>Definiciones de psicolingüística: Osgood y Sebeok 1954</dc:title>
</cp:coreProperties>
</file>