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003-80AB-4E31-A423-A00BFB7A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A25-5183-4CEC-B465-BBCA9C55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4D5-9EBE-4E63-A3C4-08B8E334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1E9-5E91-4971-9E6E-E292CEC71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E7F-F56B-4D3B-B2A4-6DCF022A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603-3AE9-4E94-A2B0-F345E202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ABAC-2FA3-47C2-A1DA-D811AB36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9C1-F2B0-4C1A-9D9C-52464CAF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0A1-1F04-492C-A34B-F2F5FCFA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D92C-287B-438B-9E67-13241851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02A-71E4-4DBE-8461-84C0C9F6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806-A80E-4F03-9184-B91BB9D7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D1BF-3832-4680-9D1C-97A9CC774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icolingüística del discur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. Guillermo S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ía macroestruc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tsch y van Dijk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o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i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niveles de representación: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estructur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exto-base) y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estructur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ensión como proceso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námi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reñido por la estructura de la mem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ia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el Gutiérrez-Calvo (1999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LA FASE DE PROCESA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lin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urante la compren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-lin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urante la recuperación (posterior a la compren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ia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el Gutiérrez-Calvo (199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SU VALOR DE VER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ógica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gmática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ia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el Gutiérrez-Calvo (199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SU FUNCIÓN EN LA COMPREN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ectiva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 retroactivas): necesarias par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mprender la relación entre) partes distintas explícitas en el tex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i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encias puente: añadir información explícita nueva para unir dos elementos explíci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ii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encias anafóricas y pronominales: correferencia entre elementos explíci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borativa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 proactivas): opcionales par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a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formación explícita del tex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i)Inferencias sobre el texto base: asociados semánticos y sustitución de categoría-miemb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ii)Inferencias sobre el modelo situacional: instrumentales y predic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ias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el Gutiérrez-Calvo (199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ENCIAS PROPIAS DE LOS TEXTOS NARRATIV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cedente causal (subsumible en conectivas), consecuente causal (equivalente a predictivas), metas principales, reacción emocional de los personajes, metas subordinad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06:14:35Z</dcterms:created>
  <dc:creator>Guillermo Soto</dc:creator>
  <dc:description/>
  <dc:language>en-US</dc:language>
  <cp:lastModifiedBy>Filosofia filosofia</cp:lastModifiedBy>
  <dcterms:modified xsi:type="dcterms:W3CDTF">2003-10-08T23:31:10Z</dcterms:modified>
  <cp:revision>5</cp:revision>
  <dc:subject/>
  <dc:title>Comprensión de discurso</dc:title>
</cp:coreProperties>
</file>