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E7B0-0761-4486-A2F1-E4E3CAB9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573-1C21-4D9A-83A8-DEBCDA9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2E1-7C5E-4655-931E-AE824ADA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765-3FC2-42A1-B692-1430E7E2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8E5A-31CB-4A2F-BF78-E1D2C48B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6E9A-C359-4746-B246-8F31F9FF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D0C4-36C2-4370-92F2-C366DFAA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FFDF-8176-447C-9C1C-6F38E04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AECE-A51D-4341-91E1-EA0F3D35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94EB-1968-4325-AA69-DD38385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7BF2-8ABF-43CE-8D2C-DCA42CDD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108-5B3E-4374-819E-DA646F41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EFAD-386C-4679-9B93-6B8C728D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E8AD-B737-45D5-90A7-631857CF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BB2E-3DBF-4E8C-AABB-18A40B92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B206-4910-402A-A2CA-CA6D970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B26-6BCD-4438-853D-93432F46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D3E-7157-4F67-AAC9-8B4B167C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DA9-A941-410E-A45A-732C003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527-E000-4501-B1DE-2DC0EE65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E1C-CA1B-4D89-ABF6-06609B91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ADE-3272-4F89-AE71-CD86376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776-EA8D-4E4E-9FF8-EEAE510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0A6-D686-48BB-9008-671E6B2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4EC-270F-4A88-B3D2-AEBD05C7805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328D-AEAE-4D9C-8181-A248079A84D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ructura del léxico intern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G. Soto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upuesto de economía cognitiva puede estar errado. Puede que las propiedades comúnmente empleadas se almacenen redundantemente en el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asume que todos los ítemes de un mismo nivel de jerarquía son relativamente iguales: “canario” / “avestruz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bl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iertas instancias de las categorías se reconocen más rápido que otr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mith, Sholen y Rips (1974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fecto de tipicalidad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tipicalidad reduce los tiempos de verificación para los enunciados V y los aumenta para los 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 gorrión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ñandú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eno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a ballena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caballo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á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eben considerarse aspectos funcionales de la palabr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alabras se representan en el léxico en una red de relaciones no jerárqu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d de nodos interconect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nodos tienen relaciones de mayor o menor proxim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distancia se determina p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laciones de categorí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grado de asociación entre concept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ambos los conceptos están interconectados (vs. Modelos de rasg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los modelos de activación extendida se revisa la idea de que todas las relaciones son igu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ara los modelos de activación extendida ciertos nodos son más accesibles que ot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actores facilitador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frecuencia de us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Compárese con la web Interne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Una red jerárquica de no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conceptos son nodos en la 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red establece relaciones d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ategoría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superordenación y subordin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propiedad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características de los íte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os modelos de activación extendida modifican el concepto de economía cogniti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que se encuentra muy frecuentemente asociada a un concepto se almacena en él aunque sea redunda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24080" y="1828800"/>
            <a:ext cx="281952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conomía cogn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2160" y="2438280"/>
            <a:ext cx="41140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4800" y="2438280"/>
            <a:ext cx="426456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082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08217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fuert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Quillian  (1972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Inconsistente con datos de Conrad (1972): la frecuencia influy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0384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Loftus  (1975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Las propiedades no se almacenan en todos los lugares en que se usan. Sólo en los más frecuent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cuperación de información semánt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Ocurre por un proceso de activación extendi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comienza en un nodo y se expande en paralelo por la r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se atenúa con la distancia (los conceptos próximos se activan más que los lejano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Metáfora de las ondas: lanzar una piedra al agu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actores que inciden en la magnitud de activación del n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tensidad del estímul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stancia entre los elementos de la red y el nod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empo transcurrido desde la activación del primer nod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proceso de toma de decisiones en tareas de verificación semántica es complicado y depende de las diversas influencias que recibe un único no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ay un umbral de activ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733920"/>
            <a:ext cx="762120" cy="7617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tegor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828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sgos característicos comparti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876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racterizado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Ítemes anteri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360" y="2514600"/>
            <a:ext cx="31996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76200" y="2546280"/>
            <a:ext cx="274284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116240"/>
            <a:ext cx="274320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881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88151"/>
              </a:path>
            </a:pathLst>
          </a:custGeom>
          <a:noFill/>
          <a:ln w="7632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5706600">
            <a:off x="2275920" y="4199400"/>
            <a:ext cx="2590920" cy="25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ificación de Oraciones del tip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 bat is a bird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at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ird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están  razonablemente cerca porque comparten rasgos característic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categorial es inconsistente en O por lo que se decide que O es fal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efecto de context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8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rob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asesinat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20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Libel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difamació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tiene un efecto de priming más poderoso que (20) sobre (18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Explicación: la semejanza entr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lleva a qu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reactive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 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de activación extendida 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ás complej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a una visión más completa del conocimiento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ermite integrar el significado connotativo (p. ej., la tipicalida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ás realista, menos rígido, más complic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conoce diversidad de información en una red semánt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a cuenta de la complejidad de la decisión semántica: Hay una serie de procedimientos de decisión, no uno sol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conomía cognitiv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información se almacena en el nodo más alto posible de la r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s relaciones categoriales se heredan a los nodos más baj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oblema: el enfoque es menos verifica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llins y Loftus responde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verificabilidad no es el único criteri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ás importante es si puede o no iluminar otras líneas de investigación en léxico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se accede a las palabras individua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el nodo de acceso a las palabras contribuye  a la comprensión del lenguaje en niveles superior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e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ari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stru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600200"/>
            <a:ext cx="213372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i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mover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Respir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0600" y="1828440"/>
            <a:ext cx="83808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2133720"/>
            <a:ext cx="83808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438280"/>
            <a:ext cx="914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438280"/>
            <a:ext cx="761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562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6386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05320" y="2590560"/>
            <a:ext cx="1066680" cy="1066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20040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al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lum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3428640"/>
            <a:ext cx="91440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657600"/>
            <a:ext cx="838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657600"/>
            <a:ext cx="83808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3809520"/>
            <a:ext cx="1143000" cy="17528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334120"/>
            <a:ext cx="2133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cant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marill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5486400"/>
            <a:ext cx="53352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5562720"/>
            <a:ext cx="53352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05320" y="3809880"/>
            <a:ext cx="2209680" cy="1828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518148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atas larg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l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No 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5334120"/>
            <a:ext cx="76212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715000"/>
            <a:ext cx="6098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876920" y="2590560"/>
            <a:ext cx="220968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133720"/>
            <a:ext cx="6019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“by default” : los pájaros vuel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especifican los datos “anómalos”: el avestruz no vue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cisión  F o V de O tipo “X es 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avestruz es un a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Búsqueda de interse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activan los nodos X, 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busca información pertinente hasta que X e Y se intersecta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revisa la relación propuesta con la relación en el léx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economía cognitiva + la búsqueda de intersección predi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puede res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 procesan en más tiempo qu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puede resp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an “Un A es un B” / “Un A tiene un B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ientras más arriba esté localizado B en la jerarquía, respecto de A, mayor tiempo de rea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ríticas 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rad (1972)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frecuencia con que se asocia una propiedad a un concepto determina el tiempo de respues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i se controla la frecuencia desaparece el category-size eff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lación pájaro/plumas se verifica más rápidamente que pájaro/comida porque la primera es más frecu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0:10:48Z</dcterms:created>
  <dc:creator>Filosofia filosofia</dc:creator>
  <dc:description/>
  <dc:language>en-US</dc:language>
  <cp:lastModifiedBy>Filosofia filosofia</cp:lastModifiedBy>
  <dcterms:modified xsi:type="dcterms:W3CDTF">2003-10-30T18:34:48Z</dcterms:modified>
  <cp:revision>43</cp:revision>
  <dc:subject/>
  <dc:title>Estructura del léxico interno</dc:title>
</cp:coreProperties>
</file>