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D21-9F83-49F4-A30A-3265735E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AC8-8763-4272-8840-F40DD5EA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5B4-A181-411F-82BF-35E042E0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3E0-C8BF-4848-B54F-3B0DD4C8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F141-AA13-48A7-9E6D-C5FCE1B6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934E-1C8E-4A3A-89E6-5F9840D7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5638-F9FD-479F-AEA7-6E85FB70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EE8E-68CE-42BE-92CF-9AAD4EF7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45FD-CE9E-4919-8C9E-7607E9B3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F985-E6FF-49E8-89CD-2CA1F694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5EAE-274A-4C2F-902A-5903FC9E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668-2C62-4A21-AAE4-C1F22BF9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2451-AF4A-4C4C-95DB-5A89AA1B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2871-FA7F-45E5-BE54-7D3A8277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5350-068E-4BA5-BE7F-E14F51DF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6C59-FA26-4CFC-95C0-3E14A4CF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92B9-276B-4EC5-BD2D-8297A9D8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061-28DF-456A-9F89-FF95F82C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1CC-6A2F-4494-A22E-DBE34F66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247-C661-46E1-97CC-A230F2E1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897-617D-4568-B824-EDCB18CD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F99-A219-49AE-8466-3FBCC18E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4E4-A00B-44B2-89DB-A65AF421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82B-97D0-4991-8D3B-4205E8C3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00BC-11B7-48B1-A524-F1D9EE3F7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8DAE-C5B5-4CD1-A6D3-5F6208F2F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4300" spc="-1" strike="noStrike">
                <a:solidFill>
                  <a:srgbClr val="003366"/>
                </a:solidFill>
                <a:latin typeface="Palatino Linotype"/>
              </a:rPr>
              <a:t> </a:t>
            </a:r>
            <a:endParaRPr b="0" lang="en-US" sz="4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828800" y="533160"/>
            <a:ext cx="68580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RQUITECTURAS DE  LA 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. S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3048120"/>
            <a:ext cx="1752840" cy="182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0720" y="151920"/>
            <a:ext cx="7952040" cy="10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00320" y="3429000"/>
            <a:ext cx="1368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g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579840"/>
            <a:ext cx="1962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es tipos de proces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00680" y="2656440"/>
            <a:ext cx="3343320" cy="266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3809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895480"/>
            <a:ext cx="76320" cy="19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800600"/>
            <a:ext cx="609480" cy="139680"/>
          </a:xfrm>
          <a:prstGeom prst="rightArrow">
            <a:avLst>
              <a:gd name="adj1" fmla="val 50000"/>
              <a:gd name="adj2" fmla="val 1090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609480" cy="139680"/>
          </a:xfrm>
          <a:prstGeom prst="rightArrow">
            <a:avLst>
              <a:gd name="adj1" fmla="val 50000"/>
              <a:gd name="adj2" fmla="val 1090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2895480"/>
            <a:ext cx="609480" cy="139680"/>
          </a:xfrm>
          <a:prstGeom prst="rightArrow">
            <a:avLst>
              <a:gd name="adj1" fmla="val 50000"/>
              <a:gd name="adj2" fmla="val 1090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0160" y="1218600"/>
            <a:ext cx="6397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he modularity of mind: An essay on faculty psychology.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dor, J. (1983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1720" y="1827360"/>
            <a:ext cx="2492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vierten la energía física que afecta los receptores sensoriales en representaciones m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24382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51720" y="3275280"/>
            <a:ext cx="2492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btienen una representación de los estímulos distales a partir de la información dada por los trans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8862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8120" y="2038320"/>
            <a:ext cx="3343320" cy="37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ducción sens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s de entrada (perceptivos o módul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(s) central(es) (procesador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2096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76520" y="4038480"/>
            <a:ext cx="1371600" cy="17528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06720 h 1752840"/>
              <a:gd name="textAreaBottom" fmla="*/ 127080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1720" y="4570560"/>
            <a:ext cx="24922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gran la información provenientes de distintos módulos. Tareas propiamente intelig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5410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subsistemas funcionalmente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utóno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ceden a un tipo específico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reciben influencia ni de otros módulos ni de los sistemas cent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n en forma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utomátic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blig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entajas de la concepción modula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conomía cogn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utomatiza tareas, menor costo cogn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e responder de manera rápida y eficaz sin evaluar toda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año neur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uncionamiento autónomo de una parte del sistema no afecta a las res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und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pecificidad de domi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emplea información que no se comparte, con el fin de resolver un tipo de t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capsulamiento inform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operaciones se llevan a cabo sin recibir influencia de otros sis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bligator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cionamiento automático (no volunta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cons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módulos no son conscientes ni accesibles a la introsp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api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ran velocidad, mayor a otros sistemas cogn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Superficialidad compu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presentaciones de salida de los módulos son caracterizaciones preliminares (incomple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hiben un patrón de desarrollo ontogenético específico, determiando por pautas específicas de maduración biológica. Desarrollo in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77120" y="259092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590920"/>
            <a:ext cx="2209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95168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QUITECTURA DE LA MEN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2160" y="2666880"/>
            <a:ext cx="133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3440" y="2666880"/>
            <a:ext cx="106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426708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ización ver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434340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ización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429000"/>
            <a:ext cx="381240" cy="838080"/>
          </a:xfrm>
          <a:prstGeom prst="downArrow">
            <a:avLst>
              <a:gd name="adj1" fmla="val 50000"/>
              <a:gd name="adj2" fmla="val 54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3429000"/>
            <a:ext cx="380880" cy="838080"/>
          </a:xfrm>
          <a:prstGeom prst="downArrow">
            <a:avLst>
              <a:gd name="adj1" fmla="val 50000"/>
              <a:gd name="adj2" fmla="val 55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quitectura neural f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asientan en sustratos localizados anatómicamente en regiones del cerebro. Constituidos por circuitos y conexiones nerviosas establecidas y relativamente invari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utas de deteri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da la distribución anatómica discreta, las alteraciones de los módulos son altamente específicas y selecti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cluso pueden afectarse componentes aislados del procesamiento de un mód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ódulos internamente modula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7" name="broca%20wernicke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705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racterísticas de los módul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9" name="fasc%20arcuato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731520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Diferencia entre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fodoriana y chomskyan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o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modularidad apunta  la organización de los sistemas cogn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hom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uctura de conocimiento del lengu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istemas central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mod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gran la información aportada por los distintos módu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arrollan tareas intelig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jación de creencias, razonamiento, in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reas pragmáticas, discurs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Howard Gardner: Inteligencias múltiples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¿ Sistema central modularizad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365200" cy="3143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419640" cy="2543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143000" y="607860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THERTON J S (2002)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Learning and Teaching: Multiple Intelligences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[On-line]: UK: Available: </a:t>
            </a:r>
            <a:r>
              <a:rPr b="0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http://www.dmu.ac.uk/~jamesa/learning/multiple.htm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Accessed: 25 August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oward Gardner: Inteligencias múltipl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 Sistema central modularizado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22512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www.summerslasvegas.com/ garehime/multiple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43852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quitectura globa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79840" y="3213000"/>
            <a:ext cx="1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19320" y="0"/>
            <a:ext cx="7010280" cy="685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914400"/>
            <a:ext cx="5715000" cy="533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2603520"/>
            <a:ext cx="18396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1752480"/>
            <a:ext cx="3657600" cy="3810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98108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227520"/>
            <a:ext cx="1157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840" y="1141920"/>
            <a:ext cx="13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14440" y="2056320"/>
            <a:ext cx="118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5120" y="3275640"/>
            <a:ext cx="1567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ens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6094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600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23623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Modularidad (Fodor 1983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quitectura globa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capacidades cognitivas se aplican en mecanismos que operan sobre la información independientemente de la naturaleza de es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mente como sistema unitario de proces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facultades se organizan funcionalmente en procesos nque se aplican a toda clase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gument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iloge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stras capacidades inteligentes son habilidades que se adquieren por experiencia, lue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 plausible una facultad específica para la adquisición de la 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historia evolutiva es demasiado breve para la existencia de facultades inde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rgument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ntoge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habilidades se adquieren con enorme plastividad, por lo tanto no estarían fijadas en la arquitectura 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habilidades cognitivas presentan muchas propiedades en común, por tanto habría principios cognitivos nucleares que 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onstitución de neustras facultades cogn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funcio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66724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3148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48320" y="4952880"/>
            <a:ext cx="281916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2057400" cy="1986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263480" y="2589840"/>
            <a:ext cx="380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estrella está en el cír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2760" y="4342320"/>
            <a:ext cx="31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igura                Fon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105520" y="312372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238880" y="3123720"/>
            <a:ext cx="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5714280"/>
            <a:ext cx="80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5638680"/>
            <a:ext cx="380880" cy="38124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igura y fond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62924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ríticas a la modularidad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(Bates 1994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be distinguirse 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AT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C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PECIFICIDAD DE DOMI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dor confunde los tres en un solo concep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natism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6201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ser humano es la única especie que puede adquirir lenguaje en forma compl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Y los grandes monos (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p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n adquirir léxico e incluso ser cre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eden ordenar sus emisiones en forma lin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orden pragmático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ckerton 1990, Givón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producen oraciones según un comportamiento del tipo “gobernado por reglas”     No Sint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5943600"/>
            <a:ext cx="304920" cy="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Innatismo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capacidad de producir y comprender oraciones que obedecen a estructuras jerárquicas es una característica de la especie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seres humanos reconocen estructuras jerarquizadas: FN, FV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819520" y="4724280"/>
            <a:ext cx="3143160" cy="15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ranz Josef Gall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758- 1828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543680"/>
            <a:ext cx="746748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re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Correlación entre variaciones en el carácter y variaciones en señas craneales exter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ues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) El tamaño y la forma del cráneo refleja el tamaño y la forma de porciones subyacentes del cere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)Las habilidades mentales son innatas y fi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) El grado de desarrollo relativo de una habilidad innata obedece al tamaño heredado de su órgano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habilidad bien desarrollada se correlacionará con un área prominente del cráneo. El área del cráneo será prueba de la localización funcional de esa habilidad en la porción cerebral correspondiente.</a:t>
            </a: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6201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localización parece también asen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roca, Wernicke: áreas especializadas  en el procesamiento del lengu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años en áreas específicas producen deterioros de lenguaje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7" name="brainareasinvolvedinlanguage" descr=""/>
          <p:cNvPicPr/>
          <p:nvPr/>
        </p:nvPicPr>
        <p:blipFill>
          <a:blip r:embed="rId1"/>
          <a:stretch/>
        </p:blipFill>
        <p:spPr>
          <a:xfrm>
            <a:off x="1676520" y="1355760"/>
            <a:ext cx="669600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696080" cy="51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70009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1963800"/>
            <a:ext cx="807732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tudios recientes muestran que la conectividad  estaría muy extend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boitiz (1995): Las redes del lenguaje forman parte de redes más extensas y de rica conectividad córtico-cortical entre los lóbulos temporal, parietal y frontal  implicados en la memoria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amasio (1992): Las afasias de Broca propiamente tales implican no sólo daño en Broca tradicional sino también en otras áreas del lóbulo frontal. Daño sólo en Broca generaría afasia mode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ocaliza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1414440"/>
            <a:ext cx="80773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tes (1994) acep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El carácter innato del lengu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2. La localización (relativa) de las áreas del lengu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blema : especificidad de domi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pecificidad de domini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las habilidades lingüísticas son discontinuas del resto de la men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ipótesis del “órgano men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renología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os mentales y facultades mo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767240"/>
            <a:ext cx="618984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a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Amor fís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or a la progenie, amor paren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eocupación por la progenie desvalida y amor par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hesividad, Amist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ser amigable y establecer contactos soci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ba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discutir y pel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truc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endencia a destru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re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Tendencia a ocultar. Predispone al individuo a la astucia y  la vive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quisicion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adquir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toestim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timiento de alta opinión sobre uno mismo, amor pr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00200" y="3689280"/>
            <a:ext cx="6189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637280"/>
            <a:ext cx="624816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9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ba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Búsqueda de la aprobación de los otros. Atención a la opinión ajena sobre noso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cau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tener cuidado y tomar preca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dividu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Reconocimiento de la existencia de seres individuales. Facilita la integración de muchos elementos en uno s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c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cepción de los espacios ocupados por los objetos que nos rode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m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mprensión de las formas de los obje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moria verb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emoria de palab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enguaj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Filología en gen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lor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onceptualización, recolección y juicio de las relaciones de co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renología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os mentales y facultades mo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 Organs of Mental and Moral Faculti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cording to Phren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689280"/>
            <a:ext cx="6189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832200"/>
            <a:ext cx="624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1619640"/>
            <a:ext cx="6324480" cy="46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lodí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cepción mu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y Númer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apacidad de calcular y manejar números y cif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9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ructiv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pensión a construir 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ar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comparar sensaciones y nociones, destacar sus semejanzas, analogías, diferencias, identidad; comprender sus relaciones, armonía y discordanc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s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comprender la razón que subyace tras los proce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tativeness, Wi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edispone a ver las cosas de modo divert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deal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Vivifica las otras facultades e impone un carácter ideal en est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 Organs of Mental and Moral Faculti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cording to Phrenolog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3689280"/>
            <a:ext cx="6189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832200"/>
            <a:ext cx="624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1405440"/>
            <a:ext cx="63244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enevolenc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power produces mildness and goodness, compassion, and kidness, huma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mitativenes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organ produces a fondness for acting and for dramatic re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faculty allows us to come up with new ide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rmenes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faculty gives constancy and perseverance to the other powers, contributing to maintain theis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e faculty of time conceives the duration phenom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9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entuality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his faculty recognizes the activity of every other, and acts in turn upon all of them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habitivenes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e instinct that prompts one to select a particular dwelling, often called attachment to ho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76520" y="3832200"/>
            <a:ext cx="6248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415440"/>
            <a:ext cx="6324840" cy="59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1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verencia, venera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la adoración de Dios, la veneración de los santos, el respeto por las personas y las cos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i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entimiento de justicia y preocupación. Amor por la verdad y el de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3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ranz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opes induces a belief in the possibility of whatever the other faculties desire, it inspires optimism about future ev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4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ravillosida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This sentiment inspires belief in the true and the false prophet, and aids superstition, but is also essential to the belief in the doctriness of religio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his organ provides notions of the dimensions or size of external ob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6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so y resistenci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ermite el conocimiento del peso de los objetos. Util en la manipulación de esto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7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Método y orden a objetos físicamente relacionados </a:t>
            </a: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8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6095160"/>
            <a:ext cx="57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fr. Cesare Lombroso (1835-19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2:40:08Z</dcterms:created>
  <dc:creator>Anil Vootkur, PharmD</dc:creator>
  <dc:description/>
  <dc:language>en-US</dc:language>
  <cp:lastModifiedBy>p</cp:lastModifiedBy>
  <cp:lastPrinted>2004-08-23T22:17:49Z</cp:lastPrinted>
  <dcterms:modified xsi:type="dcterms:W3CDTF">2004-08-24T00:49:37Z</dcterms:modified>
  <cp:revision>566</cp:revision>
  <dc:subject/>
  <dc:title>Very Bad Behaviors: Impulsivity and Aggression</dc:title>
</cp:coreProperties>
</file>