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7198-D0E9-43ED-BF45-921A0944B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919B-3E38-4D47-A801-DF8FCCA9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B7B5-D42E-4B5B-AE63-F5402A56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6497-8B5E-495F-9519-57DAA398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A8FF-412C-4F00-970C-BAB56362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C7E0-2527-483F-BFFF-45573C1A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D9BF-9C0E-448F-8413-0521192C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64E8-9856-46AB-8224-AC388B84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59CF-3005-446D-BD40-C82F7B3C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B1EC-A127-4791-AB43-DFF5D7DA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0DEB-B295-4830-8158-AB4BB83F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7D1E-395A-41AD-BC77-1E7128E0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BD6F-75E9-4E52-B94F-F0C3472CD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tecedentes de la Psicolingüístic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elinchón et al. 1992, Jenschke 1923, Lenz 19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1280" y="2590920"/>
            <a:ext cx="1981440" cy="533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4114800"/>
            <a:ext cx="266688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200400"/>
            <a:ext cx="1676520" cy="1066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ciones de lingüística jeneral según las clases del Prof. Dr. Rodolfo Lenz”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. L. Jenschke, 19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32767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álisis del lengu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2590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ma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4114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ógico y psic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21960" y="5410080"/>
            <a:ext cx="654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 refiere a la expresión de juicios y sent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46483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87" idx="3"/>
            <a:endCxn id="85" idx="1"/>
          </p:cNvCxnSpPr>
          <p:nvPr/>
        </p:nvCxnSpPr>
        <p:spPr>
          <a:xfrm flipV="1">
            <a:off x="2362320" y="2857320"/>
            <a:ext cx="1219680" cy="8769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7" idx="3"/>
            <a:endCxn id="86" idx="1"/>
          </p:cNvCxnSpPr>
          <p:nvPr/>
        </p:nvCxnSpPr>
        <p:spPr>
          <a:xfrm>
            <a:off x="2362320" y="3733560"/>
            <a:ext cx="1296000" cy="6483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2120" y="2362320"/>
            <a:ext cx="7848360" cy="297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 oración es la expresión fonética (o lingüística) de la descomposición intencional de una representación total en sus elementos lógicamente rela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nz, 1920: #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19320" y="1676520"/>
            <a:ext cx="708660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2819520"/>
            <a:ext cx="213372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ühler: el modelo del órganon (193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2514600"/>
            <a:ext cx="533520" cy="457200"/>
          </a:xfrm>
          <a:prstGeom prst="flowChartConnec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71800" y="4495680"/>
            <a:ext cx="533520" cy="457200"/>
          </a:xfrm>
          <a:prstGeom prst="flowChartConnec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3733920"/>
            <a:ext cx="533520" cy="45720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4495680"/>
            <a:ext cx="533520" cy="457200"/>
          </a:xfrm>
          <a:prstGeom prst="flowChartConnec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3" idx="7"/>
            <a:endCxn id="104" idx="3"/>
          </p:cNvCxnSpPr>
          <p:nvPr/>
        </p:nvCxnSpPr>
        <p:spPr>
          <a:xfrm flipV="1">
            <a:off x="3427560" y="4123800"/>
            <a:ext cx="918000" cy="43920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107" name=""/>
          <p:cNvCxnSpPr>
            <a:stCxn id="104" idx="0"/>
            <a:endCxn id="102" idx="4"/>
          </p:cNvCxnSpPr>
          <p:nvPr/>
        </p:nvCxnSpPr>
        <p:spPr>
          <a:xfrm flipV="1">
            <a:off x="4533480" y="2971080"/>
            <a:ext cx="1080" cy="7628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108" name=""/>
          <p:cNvCxnSpPr>
            <a:stCxn id="104" idx="5"/>
            <a:endCxn id="105" idx="1"/>
          </p:cNvCxnSpPr>
          <p:nvPr/>
        </p:nvCxnSpPr>
        <p:spPr>
          <a:xfrm>
            <a:off x="4722480" y="4124160"/>
            <a:ext cx="765720" cy="43920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109" name=""/>
          <p:cNvSpPr/>
          <p:nvPr/>
        </p:nvSpPr>
        <p:spPr>
          <a:xfrm>
            <a:off x="3048120" y="19051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s c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4952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49528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ot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38680" y="251460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nómeno percept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habitualmente acúst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2" idx="1"/>
            <a:endCxn id="104" idx="7"/>
          </p:cNvCxnSpPr>
          <p:nvPr/>
        </p:nvCxnSpPr>
        <p:spPr>
          <a:xfrm flipH="1">
            <a:off x="4722480" y="2904840"/>
            <a:ext cx="916560" cy="89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304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ühler: el modelo del órganon (193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3048120"/>
            <a:ext cx="1828800" cy="15238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12600">
            <a:off x="3048120" y="3199680"/>
            <a:ext cx="1828800" cy="16002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3581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17524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tos y re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77760" y="1828800"/>
            <a:ext cx="5766120" cy="495360"/>
          </a:xfrm>
          <a:custGeom>
            <a:avLst/>
            <a:gdLst/>
            <a:ahLst/>
            <a:rect l="l" t="t" r="r" b="b"/>
            <a:pathLst>
              <a:path w="3632" h="312">
                <a:moveTo>
                  <a:pt x="56" y="0"/>
                </a:moveTo>
                <a:cubicBezTo>
                  <a:pt x="28" y="60"/>
                  <a:pt x="0" y="120"/>
                  <a:pt x="104" y="144"/>
                </a:cubicBezTo>
                <a:cubicBezTo>
                  <a:pt x="208" y="168"/>
                  <a:pt x="536" y="120"/>
                  <a:pt x="680" y="144"/>
                </a:cubicBezTo>
                <a:cubicBezTo>
                  <a:pt x="824" y="168"/>
                  <a:pt x="608" y="264"/>
                  <a:pt x="968" y="288"/>
                </a:cubicBezTo>
                <a:cubicBezTo>
                  <a:pt x="1328" y="312"/>
                  <a:pt x="2480" y="312"/>
                  <a:pt x="2840" y="288"/>
                </a:cubicBezTo>
                <a:cubicBezTo>
                  <a:pt x="3200" y="264"/>
                  <a:pt x="3008" y="168"/>
                  <a:pt x="3128" y="144"/>
                </a:cubicBezTo>
                <a:cubicBezTo>
                  <a:pt x="3248" y="120"/>
                  <a:pt x="3488" y="168"/>
                  <a:pt x="3560" y="144"/>
                </a:cubicBezTo>
                <a:cubicBezTo>
                  <a:pt x="3632" y="120"/>
                  <a:pt x="3560" y="24"/>
                  <a:pt x="3560" y="0"/>
                </a:cubicBez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2438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1480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2438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res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3429000"/>
            <a:ext cx="2120760" cy="3441600"/>
          </a:xfrm>
          <a:custGeom>
            <a:avLst/>
            <a:gdLst/>
            <a:ahLst/>
            <a:rect l="l" t="t" r="r" b="b"/>
            <a:pathLst>
              <a:path w="1336" h="2168">
                <a:moveTo>
                  <a:pt x="328" y="1976"/>
                </a:moveTo>
                <a:cubicBezTo>
                  <a:pt x="164" y="2072"/>
                  <a:pt x="0" y="2168"/>
                  <a:pt x="136" y="1880"/>
                </a:cubicBezTo>
                <a:cubicBezTo>
                  <a:pt x="272" y="1592"/>
                  <a:pt x="952" y="496"/>
                  <a:pt x="1144" y="248"/>
                </a:cubicBezTo>
                <a:cubicBezTo>
                  <a:pt x="1336" y="0"/>
                  <a:pt x="1264" y="368"/>
                  <a:pt x="1288" y="392"/>
                </a:cubicBez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7079400">
            <a:off x="1193760" y="3301920"/>
            <a:ext cx="2120760" cy="3441600"/>
          </a:xfrm>
          <a:custGeom>
            <a:avLst/>
            <a:gdLst/>
            <a:ahLst/>
            <a:rect l="l" t="t" r="r" b="b"/>
            <a:pathLst>
              <a:path w="1336" h="2168">
                <a:moveTo>
                  <a:pt x="328" y="1976"/>
                </a:moveTo>
                <a:cubicBezTo>
                  <a:pt x="164" y="2072"/>
                  <a:pt x="0" y="2168"/>
                  <a:pt x="136" y="1880"/>
                </a:cubicBezTo>
                <a:cubicBezTo>
                  <a:pt x="272" y="1592"/>
                  <a:pt x="952" y="496"/>
                  <a:pt x="1144" y="248"/>
                </a:cubicBezTo>
                <a:cubicBezTo>
                  <a:pt x="1336" y="0"/>
                  <a:pt x="1264" y="368"/>
                  <a:pt x="1288" y="392"/>
                </a:cubicBez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981080" y="358092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057400" y="380952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133720" y="39621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286000" y="411444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362320" y="426672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438280" y="441936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514600" y="457164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32767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4876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37339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72428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4876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38480" y="45720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35053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358128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37339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e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409720" y="35812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39625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19720" y="41911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91120" y="4495680"/>
            <a:ext cx="9144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43434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257800" y="3886200"/>
            <a:ext cx="320040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57800" y="2286000"/>
            <a:ext cx="320040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3886200"/>
            <a:ext cx="2209680" cy="990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2362320"/>
            <a:ext cx="2209680" cy="99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352680"/>
            <a:ext cx="144792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ilhelm Wun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3429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ngu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90920" y="2438280"/>
            <a:ext cx="2514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o cult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erg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3962520"/>
            <a:ext cx="2361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tividad 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energe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2590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sicología de los pueb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41911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sicología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530600">
            <a:off x="1815840" y="3706920"/>
            <a:ext cx="761760" cy="152280"/>
          </a:xfrm>
          <a:prstGeom prst="rightArrow">
            <a:avLst>
              <a:gd name="adj1" fmla="val 50000"/>
              <a:gd name="adj2" fmla="val 12505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422800">
            <a:off x="1828440" y="3352680"/>
            <a:ext cx="762120" cy="152640"/>
          </a:xfrm>
          <a:prstGeom prst="rightArrow">
            <a:avLst>
              <a:gd name="adj1" fmla="val 50000"/>
              <a:gd name="adj2" fmla="val 12482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724280" y="4343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006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1295280"/>
            <a:ext cx="3733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ngüística histórica y comparad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l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58672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rensión y producción de or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4876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dad básica: oració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o la palab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clo del hab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percepción de una impresión general de la concie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a atención analiza la impresión apercibida e identifica sus componentes elementales y las relaciones estructurales entre es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a relación estructural lógica sujeto-predicado constituye la base de la or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80520" y="3805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ilhelm Wun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l orden de los constituyentes lingüísticos en la oración influye en la reconstrucción de la impresión general de la conciencia por parte del recep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380520" y="3805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ilhelm Wun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rítica al asociacionismo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 psiquis humana opera con funciones analíticas y sinté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 oración es el todo inicial que se descompone en palabras y no al rev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étodo introspectiv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lta de exper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80520" y="3805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ilhelm Wun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Resumen de la psicología de Wundt</a:t>
            </a:r>
            <a:br>
              <a:rPr sz="3200"/>
            </a:b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Lenz,  1920,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La oración y sus pa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447920" y="1905120"/>
          <a:ext cx="6164280" cy="38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05120"/>
                    <a:ext cx="6164280" cy="38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Resumen de la psicología de Wundt</a:t>
            </a:r>
            <a:br>
              <a:rPr sz="3200"/>
            </a:b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Lenz,  1920,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La oración y sus pa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362320" y="2438280"/>
          <a:ext cx="4381560" cy="26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438280"/>
                    <a:ext cx="438156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Resumen de la psicología de Wundt</a:t>
            </a:r>
            <a:br>
              <a:rPr sz="3200"/>
            </a:b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Lenz,  1920,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La oración y sus pa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828800" y="2209680"/>
          <a:ext cx="5295960" cy="33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5295960" cy="33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495680" y="533520"/>
            <a:ext cx="152424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533520"/>
            <a:ext cx="152388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09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UN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6094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762120"/>
            <a:ext cx="2057400" cy="228600"/>
          </a:xfrm>
          <a:prstGeom prst="rightArrow">
            <a:avLst>
              <a:gd name="adj1" fmla="val 50000"/>
              <a:gd name="adj2" fmla="val 2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2971800"/>
            <a:ext cx="73152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 este libro se ensaya por primera vez (ateniéndose el autor principalmente a las opiniones de Wundt) poner en conexión los estudios de psicología lingüística con los de la lengua española. Desde este punto de vista, el señor Lenz estudia y discute el valor de muchas construcciones sintácticas, y traza normas para el uso correcto, en atención a su génesis psicológic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món Menéndez Pi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160020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a oración y sus partes. Estudios de gramática general y castellan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19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121932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3T20:03:21Z</dcterms:created>
  <dc:creator>Guillermo Soto</dc:creator>
  <dc:description/>
  <dc:language>en-US</dc:language>
  <cp:lastModifiedBy>Filosofia filosofia</cp:lastModifiedBy>
  <dcterms:modified xsi:type="dcterms:W3CDTF">2003-08-14T18:30:18Z</dcterms:modified>
  <cp:revision>38</cp:revision>
  <dc:subject/>
  <dc:title>Antecedentes de la Psicolingüística (Belinchón et al. 1992)</dc:title>
</cp:coreProperties>
</file>