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04D-DDB1-4CF5-8CE3-09CD06BC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57B-8480-416A-AFEC-40735C54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B75-1499-45C7-B166-A1A41070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2D0-A1C8-417D-A90C-32938E56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6571-6277-4394-AD83-35EACD12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93B8-D89B-445D-BFAD-8CC5F03D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E548-4D88-4BBE-9208-D7ACFF33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C6DB-1F5A-463D-B67A-8D4C7CFB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3E5B-ADD4-4D79-82EC-FCEF8858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A163-7338-4E96-AE8C-DE9B2FD2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28DD-0145-41FA-A5ED-A05F2303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DF7-AB04-4A51-BB89-CF2226D9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5D9B-091F-42CF-981D-EDB0247A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1596-6C69-4D70-BFC4-C1783B50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55C9-7B8A-4BE4-894B-3BD01D6B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5BEB-3BF6-4A72-B1DC-D4338496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D554-4659-4ACC-8A5B-62082E95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5C9-935B-4120-B261-C34A38A1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936-F4A4-4307-A7A4-94063F2A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977-2FD3-48F2-9D0E-19778F60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84A-2A1A-4458-9FBA-EA1213E2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256-255F-47B8-8393-613C8C3E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D10-CC1D-469A-B5AD-9B1A7A78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673-23B0-418D-9330-A14BC360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285E-433E-4851-ADEB-C21ACD6C3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EB2F-FEC0-4F5D-B364-478BBDEF5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illermo S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sgood y Sebeok 195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un sentido más estricto, la Psicolingüística estudia procesos a través de los cuales las intenciones de los hablantes se transforman en señales según un código aceptado culturalmente y aquellos otros por los que estas señales se transforman en interpretaciones de los oy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sgood, C.E. y T. Sebeok 1954: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sycholinguistics: A survey of theory and research problem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807240" cy="4945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62480" y="558792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ioniso, el dios nacido dos v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6583320"/>
            <a:ext cx="45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os borrachos o el triunfo de Baco, Velásq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lobin 197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psicolingüística reúne los fundamentos empíricos de la psicología y de la lingüística para estudiar los procesos mentales que subyacen a la adquisición y el uso del lengua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suma, pues, los psicolingüistas se interesan por el conocimiento y por la capacidad subyacentes que debemos tener para poder utilizar el lenguaje y aprender en la infancia a usar la leng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bin, D. 1971: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roducción a la Psicolingüístic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Buenos Aires: Paidós, 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arman 199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psicolingüística, como su nombre lo implica, tiene que ver básicamente con el lenguaje como fenómeno sicológico; y, más característicamente, con el lenguaje en el individuo. Así, se hace cargo de preguntas tales como: ‘¿Cómo logra un oyente reconocer las palabras en el flujo del habla, o en los patrones en la página, y llegar a comprender las oraciones?’ y ‘¿Cómo logra un hablante ir poniendo ideas en formas que puedan expresarse como patrones articulatorios, manuales o de movimiento?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rman, 1990: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sycholinguistic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Cambridge: Cambridge University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ciones de psicolingüística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rroll 199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sicolingüística es el estudio de la forma en que los individuo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nd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quier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l lenguaj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roll, D., 1994: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sychology of languag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nd edition. Pacific Grove, CA: Brooks/C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06:43:59Z</dcterms:created>
  <dc:creator>Guillermo Soto</dc:creator>
  <dc:description/>
  <dc:language>en-US</dc:language>
  <cp:lastModifiedBy>FFH030</cp:lastModifiedBy>
  <cp:lastPrinted>2004-08-23T22:52:00Z</cp:lastPrinted>
  <dcterms:modified xsi:type="dcterms:W3CDTF">2008-01-30T23:23:51Z</dcterms:modified>
  <cp:revision>11</cp:revision>
  <dc:subject/>
  <dc:title>Definiciones de psicolingüística: Osgood y Sebeok 1954</dc:title>
</cp:coreProperties>
</file>