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46BF-7F43-4978-9241-203FA4DF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5DC2-029E-4D75-8AB3-1D69F418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01D4-2358-442F-A562-10793074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501-25BC-4302-9F7F-088AB43B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6FCE-16E1-4538-90DB-8E4FE064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1EC6-F9BC-41AD-9AF6-D2788FE7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C844-7C7A-45E5-86FC-8C4987A5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B2ED-6A79-4918-A0ED-39A40AE5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F088-D6D6-480F-94B2-5D0E958F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9998-66DB-41E1-9F7C-02E1D44E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C285-2EC9-40CA-83F0-DA181CE7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95A-63E7-462C-8DE3-70E6217D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5F4A-AFCD-4380-9F1E-D82F3063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34E2-4EEF-4341-83FB-56377181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0F85-6FED-42FB-9098-4BF3FB31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B2F0-6478-4492-814A-393A0DB1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00ED-92AC-4809-9AB4-BAF9E6CA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4A73-81AD-4172-953C-C3B2B7CE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A14-7458-4FC5-802A-BE7414FB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01C-BDFB-4153-A939-CE58B2C2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255-CE5A-4DA9-9A9D-7C5B6153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C60-2704-48B7-9BAD-6FBBCAA8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CB0-1E93-433D-88F3-36CE95E2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D76-D926-463D-A442-A0904140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CEB2-F1B7-47BA-B6C9-1E18763D3FF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E264-BCCA-4D30-AF82-EB825C1D397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0/0b/Pen&#237;nsula_ib&#233;rica_814.sv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2/23/Reinos_de_Taifas_en_1037.svg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upload.wikimedia.org/wikipedia/commons/9/9a/M-T-Cicero.jpg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upload.wikimedia.org/wikipedia/commons/3/3b/Pompeii-graffiti.jpg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aramond"/>
              </a:rPr>
              <a:t>El español y sus oríge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70927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Archivo:Península ibérica 814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785880"/>
            <a:ext cx="76197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Archivo:Reinos de Taifas en 1037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66840" y="857160"/>
            <a:ext cx="66103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50920" y="620640"/>
            <a:ext cx="53118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71640" y="260280"/>
            <a:ext cx="43182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87280" y="620640"/>
            <a:ext cx="6672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127480" cy="6835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528880" y="5950080"/>
            <a:ext cx="33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oema del Mio Cid (siglo X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83311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195640" y="836640"/>
            <a:ext cx="49845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204840" y="195120"/>
            <a:ext cx="955368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3238560" cy="4400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3000240" cy="2847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Archivo:M-T-Cicero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4720" y="404640"/>
            <a:ext cx="4248000" cy="5705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Archivo:Pompeii-graffiti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35280" y="5661000"/>
            <a:ext cx="28576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32000" y="620640"/>
            <a:ext cx="65134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836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35280" y="907920"/>
            <a:ext cx="5186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95600" y="1147680"/>
            <a:ext cx="57528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17:00:57Z</dcterms:created>
  <dc:creator>Yo</dc:creator>
  <dc:description/>
  <dc:language>en-US</dc:language>
  <cp:lastModifiedBy>Senen Chavez</cp:lastModifiedBy>
  <dcterms:modified xsi:type="dcterms:W3CDTF">2010-08-16T14:27:25Z</dcterms:modified>
  <cp:revision>3</cp:revision>
  <dc:subject/>
  <dc:title>Diapositiva 1</dc:title>
</cp:coreProperties>
</file>