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632-9C67-4A05-A518-BE4D8560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92C-473C-40E8-92FC-E9609B00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566-7E3B-48BB-A161-72651193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28E-45B0-4153-B3DA-74FCDDEC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0796-5644-4C3B-9140-7A7BFA8A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F2EB-B48F-45C8-92E6-95877C4A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7633-907D-41B6-BFB1-9BB10903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ADC2-E26C-4F4B-B572-2E5A7901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1B6F-9B66-4F7F-8856-FF467537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A7E6-5775-4CB9-93AB-2AC6EEC8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D997-F6FF-43E7-BC2A-F018622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366-D5EB-48A8-8740-C0E088DD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683A-622B-47CF-AB62-1E9E7A0B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970A-342B-42EA-A858-6EFA349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3E68-085C-45D4-A4FF-3E9760AA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5A0F-0BE4-4D01-BC2F-CF1781C4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7540-9EC7-4E46-8D4D-FD3DADE8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733-7605-47DA-8629-699C0DEB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FC0-52CF-4702-B036-DE52891C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5BD-ABCA-47DB-B300-E7A80161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F38-7103-4F9A-B54B-A1C145AB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500-4B30-456B-BBBF-A5D4E32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172-A8C4-4962-9CEE-0A8D5D25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9B8-0BB8-4CD0-A8B5-02ACEBE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763F-551F-4400-BF2F-54BEE6BC6C0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C0F6-B9F7-4280-8D5F-42F3FC9C36B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b/Pen&#237;nsula_ib&#233;rica_814.sv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3/Reinos_de_Taifas_en_1037.sv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upload.wikimedia.org/wikipedia/commons/9/9a/M-T-Cicero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upload.wikimedia.org/wikipedia/commons/3/3b/Pompeii-graffiti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Garamond"/>
              </a:rPr>
              <a:t>El español y sus oríge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92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Archivo:Península ibérica 814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785880"/>
            <a:ext cx="7619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Archivo:Reinos de Taifas en 1037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66840" y="857160"/>
            <a:ext cx="6610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3118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43182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672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5127480" cy="683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528880" y="5950080"/>
            <a:ext cx="33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ema del Mio Cid (siglo X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331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95640" y="836640"/>
            <a:ext cx="49845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204840" y="195120"/>
            <a:ext cx="955368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3238560" cy="4400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3000240" cy="284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Archivo:M-T-Cicer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04640"/>
            <a:ext cx="4248000" cy="570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Archivo:Pompeii-graffiti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35280" y="5661000"/>
            <a:ext cx="28576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32000" y="620640"/>
            <a:ext cx="6513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836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186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95600" y="1147680"/>
            <a:ext cx="57528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7:00:57Z</dcterms:created>
  <dc:creator>Yo</dc:creator>
  <dc:description/>
  <dc:language>en-US</dc:language>
  <cp:lastModifiedBy>Senen Chavez</cp:lastModifiedBy>
  <dcterms:modified xsi:type="dcterms:W3CDTF">2010-08-16T14:27:25Z</dcterms:modified>
  <cp:revision>3</cp:revision>
  <dc:subject/>
  <dc:title>Diapositiva 1</dc:title>
</cp:coreProperties>
</file>