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FABE-AFED-4A9D-9DE5-6B9CB436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B53-3150-4849-ADCD-F2AD7179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E1E2-1C0C-4A89-8473-D5F289E6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B78B-794A-4792-80E3-F5847A6C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301-022B-4B7F-86BA-4A0568D0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D5D-6665-4F37-B800-B0432B86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2AB4-4200-47AB-B76C-F8CE64E9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61C-0FA0-4CE9-A748-0EAB1026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4B79-35E4-4C78-9397-8A8ACA36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17C-4319-4C5A-ADEB-42A2E033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DFB-0697-4CEA-8003-0D80CF1D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666-50AF-446E-A2BD-5F60556C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6239-3684-46E3-B569-4B9AD1629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967" t="2770" r="3580" b="0"/>
          <a:stretch/>
        </p:blipFill>
        <p:spPr>
          <a:xfrm>
            <a:off x="333360" y="0"/>
            <a:ext cx="6222960" cy="90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3:14:48Z</dcterms:created>
  <dc:creator>gduff</dc:creator>
  <dc:description/>
  <dc:language>en-US</dc:language>
  <cp:lastModifiedBy>gduff</cp:lastModifiedBy>
  <dcterms:modified xsi:type="dcterms:W3CDTF">2010-08-04T13:17:54Z</dcterms:modified>
  <cp:revision>1</cp:revision>
  <dc:subject/>
  <dc:title>Slide 1</dc:title>
</cp:coreProperties>
</file>