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05B-4735-4B52-8828-95F5CF7D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8F7-FDDD-425A-8FB5-96764343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021-D4A7-4200-9823-E92EFF2A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B5C-2F49-486B-9CD6-9D3FAE88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ED5-EDBB-4B69-BB12-4FD1AFCA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9C4-3DF0-4D45-ACC9-4162F97C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708-995B-4A42-AA1B-81443CF2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891-A18C-4699-A4C0-466ED7A2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BF6-2A8E-46E5-B3F0-040E3DB0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210-1AF2-4732-809E-E313BE2F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6D2-2EC0-4941-85DE-B3D3003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34D-9EC7-4FE3-80F0-7F4C4D93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8621-9C91-4B23-AA57-F2EC1578B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967" t="2770" r="3580" b="0"/>
          <a:stretch/>
        </p:blipFill>
        <p:spPr>
          <a:xfrm>
            <a:off x="333360" y="0"/>
            <a:ext cx="622296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3:14:48Z</dcterms:created>
  <dc:creator>gduff</dc:creator>
  <dc:description/>
  <dc:language>en-US</dc:language>
  <cp:lastModifiedBy>gduff</cp:lastModifiedBy>
  <dcterms:modified xsi:type="dcterms:W3CDTF">2010-08-04T13:17:54Z</dcterms:modified>
  <cp:revision>1</cp:revision>
  <dc:subject/>
  <dc:title>Slide 1</dc:title>
</cp:coreProperties>
</file>