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1D5-2930-4AA4-9056-167A09BB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084C-5986-43FD-ABD5-A90A6B8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ADC-A267-42EE-A82C-08785C51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0A5B-E7B7-4A8F-84D8-EBA40B03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174C-00F4-4122-86B6-817B85A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D7D-6842-43F2-B13E-A614032F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8853-D009-4996-88CF-4C367FA8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656B-0445-4659-ABD8-DEB353D5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5E57-F9C7-49F9-938A-397CAF0B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7687-B095-4245-B6F7-6316901F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B50-C362-45ED-978B-F4995E1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E38-F6A3-4BF5-9CCF-0C73AF3C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0EB8-5F65-4936-9EA0-B371B39AF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967" t="2770" r="3580" b="0"/>
          <a:stretch/>
        </p:blipFill>
        <p:spPr>
          <a:xfrm>
            <a:off x="333360" y="0"/>
            <a:ext cx="6222960" cy="90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3:14:48Z</dcterms:created>
  <dc:creator>gduff</dc:creator>
  <dc:description/>
  <dc:language>en-US</dc:language>
  <cp:lastModifiedBy>gduff</cp:lastModifiedBy>
  <dcterms:modified xsi:type="dcterms:W3CDTF">2010-08-04T13:17:54Z</dcterms:modified>
  <cp:revision>1</cp:revision>
  <dc:subject/>
  <dc:title>Slide 1</dc:title>
</cp:coreProperties>
</file>