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carbrake.wav" ContentType="audio/x-wav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77BF-BAF7-4851-A8B3-8D00B5B6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00BB-9CFB-416B-9F06-499FD257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CD27-4BCA-4169-8A38-97A75A8C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FB81-3FAA-4911-83BB-838C906E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CD4B-6A75-4899-A662-373AAA4C9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5AD2-53A0-438C-BFF5-214426AA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CBE3-EC65-4E70-8ECD-EA5FE5F6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5946-18D3-46AA-B95B-E9B66744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BE4A-CD98-482B-A2D6-C7FF3147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02B6-9FF0-4E18-9FFF-B0077A95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025A-94A5-46D8-BB50-C5DB69C6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082B-24F4-4D5F-96DC-90B892B9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15C3-F53B-4B4D-B403-CB480A41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4210-4F3D-4C16-B073-91BA7970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FF3D-8B27-4BC0-86E7-A462D5AD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2C7A-7025-43A6-A364-96018771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E7C7-CD71-4108-A32D-70A9A7A42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C53F-1E75-4569-B2F7-9EA60357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3E3B-4425-4A76-9D73-A806E03E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FC09-D59C-4688-92C8-569E6E20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31A4-8D32-4AE0-AF80-0E0AFF59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20D3-FB0E-49BD-91AE-D549C438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42AA-A670-4A68-843C-0878C278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62A1-4DF8-4342-9BDC-82F064FA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8CF3-0856-4FC0-8E80-827C963DF685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2E7E-661F-4C55-8E4C-2B71817C7DD3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CONCEPTOS DE EDUCACIÓ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NÁLISIS CONCEPT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Whitehead, Alfred Nort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2666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ducarse no es recibir sino hacer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Bloom, Benjami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457360"/>
            <a:ext cx="76089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ducar consiste en el desarrollo de aquellas características que permiten al hombre vivir eficazmente en una sociedad compleja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Faure, Edgar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7605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 educación “es un proceso cultural  que busca la eclosión y el desarrollo de todas las virtualidades del ser y su sociedad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Belth, Marc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2514600"/>
            <a:ext cx="7161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ducar consiste en transmitir los modelos por los cuales el mundo es explicabl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Kerschenstainer, Geor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5336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 educación consiste en distribuir la cultura para que el hombre organice sus valores en su conciencia y a su manera, de acuerdo a su individualidad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Nassif, Ricard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30508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 educación es una necesidad vital que permite, al satisfacerse, la supervivencia de la especi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Nassif, Ricard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La educación es la </a:t>
            </a:r>
            <a:r>
              <a:rPr b="0" i="1" lang="es-ES" sz="3000" spc="-1" strike="noStrike">
                <a:solidFill>
                  <a:srgbClr val="000000"/>
                </a:solidFill>
                <a:latin typeface="Times New Roman"/>
              </a:rPr>
              <a:t>formación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 del hombre por medio de una </a:t>
            </a:r>
            <a:r>
              <a:rPr b="0" i="1" lang="es-ES" sz="3000" spc="-1" strike="noStrike">
                <a:solidFill>
                  <a:srgbClr val="000000"/>
                </a:solidFill>
                <a:latin typeface="Times New Roman"/>
              </a:rPr>
              <a:t>influencia exterior consciente o inconsciente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s-ES" sz="3000" spc="-1" strike="noStrike">
                <a:solidFill>
                  <a:srgbClr val="000000"/>
                </a:solidFill>
                <a:latin typeface="Times New Roman"/>
              </a:rPr>
              <a:t>heteroeducación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), o por un </a:t>
            </a:r>
            <a:r>
              <a:rPr b="0" i="1" lang="es-ES" sz="3000" spc="-1" strike="noStrike">
                <a:solidFill>
                  <a:srgbClr val="000000"/>
                </a:solidFill>
                <a:latin typeface="Times New Roman"/>
              </a:rPr>
              <a:t>estímulo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 que si bien proviene de algo que no es el individuo mismo, suscita en él una </a:t>
            </a:r>
            <a:r>
              <a:rPr b="0" i="1" lang="es-ES" sz="3000" spc="-1" strike="noStrike">
                <a:solidFill>
                  <a:srgbClr val="000000"/>
                </a:solidFill>
                <a:latin typeface="Times New Roman"/>
              </a:rPr>
              <a:t>voluntad de desarrollo autónomo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 conforme a su propia ley (</a:t>
            </a:r>
            <a:r>
              <a:rPr b="0" i="1" lang="es-ES" sz="3000" spc="-1" strike="noStrike">
                <a:solidFill>
                  <a:srgbClr val="000000"/>
                </a:solidFill>
                <a:latin typeface="Times New Roman"/>
              </a:rPr>
              <a:t>autoeducación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)”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5:45:39Z</dcterms:created>
  <dc:creator>Mlnh</dc:creator>
  <dc:description/>
  <dc:language>en-US</dc:language>
  <cp:lastModifiedBy>Escritorio</cp:lastModifiedBy>
  <dcterms:modified xsi:type="dcterms:W3CDTF">2010-03-31T19:03:22Z</dcterms:modified>
  <cp:revision>19</cp:revision>
  <dc:subject/>
  <dc:title>CONCEPTOS DE EDUCACIÓN</dc:title>
</cp:coreProperties>
</file>